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52B-878D-4F5A-8401-D13249FE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9B0-4CD5-4703-A470-5674ADC9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02F-F10A-4A66-9832-9655EE87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9E6-4073-46AE-B5EC-1F757C77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3FD-32E4-4FC5-A88F-FF24E59B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D56-23C3-4085-8A7C-69150E8D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6D1-5026-410E-B332-B93C5A97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30E-0609-4301-8792-E7876DB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6DBA-3501-434A-9C9A-E3E0AC2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326-31B9-4458-AA60-1A3E11E4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9394-EBB1-4E16-A5B6-191E708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B00-D7FF-4E82-A1E0-70FB95A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F7B-7893-48EB-A9D3-CF7E506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933E-BC09-42E0-B8C2-62C0DB1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571-5EF2-40B5-B4F6-BEC4AFD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8AC-33CF-4165-8D74-88B5E68A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5523-59A4-4852-AEB0-5FF87AB6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732-1B5C-4051-9841-87FA8FD7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050-A155-44BE-8F3A-8EBC16E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5AE-30C1-4569-9C0F-18247367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07B-4BAF-4F91-BF75-66F6146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21A-591A-4E5B-B6BF-5D55049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BC0-12AC-45F1-87F0-06307DC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F41-A721-4595-8CE3-AFD596DD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3C7-B1AC-4235-9C85-657AB91994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E22C-EFE4-4D63-9454-DFFC9CE956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ases Generales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(Parte I apunte Prof. Pascual: “El arte de Mantener”)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raí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le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os de det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das de prev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idad de los ef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pilación de la información (planos, especificaciones, historial de fall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r lista de componentes (funciones, condiciones de operación, diagrama funcional de blo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nivel de criticidad, usu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640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álisis de Modo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definir el nivel de critic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424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FM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Árbol de Fa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nálisis de Pare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er los equipos en o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ucir numero de fa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nimizar co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ximizar disponi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ventivo (sistemát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edictivo (centrado en la condi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proactivo para evitar aparición o recur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ntenimiento correctivo (luego de una f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362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antenimiento dentro de la empre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global = Costo intervención + Costo de falla + Costo almacenamiento + Costo sobre-interven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Intervención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l fun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Falla (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resos no percib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astos extras de pro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teria prima no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tructura de Cos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almacenamient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por unidad de tiempo =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terés financiero por capital de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o de obra dedicada a gestión e inven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s de explotación de edificio (energía, manten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reciación comer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sto de sobre-interven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sto de equipos con mayores costos iniciales, pero menor costo de ciclo de vida (menores costos de mantenimiento, almacenamiento, vida útil mayor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yecto Semestral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Informe Nº1 </a:t>
            </a:r>
            <a:br>
              <a:rPr sz="2400"/>
            </a:br>
            <a:r>
              <a:rPr b="0" lang="es-ES_tradnl" sz="2400" spc="-1" strike="noStrike">
                <a:solidFill>
                  <a:srgbClr val="006633"/>
                </a:solidFill>
                <a:latin typeface="Garamond"/>
              </a:rPr>
              <a:t>(presentación: miércoles y viernes de la semana 3)</a:t>
            </a: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 de la empresa (breve no más de una p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pción del equipo (funcionamiento, propósito dentro de la empres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grama funcional de blo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iciones actuales de operación y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Modo de falla (FME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bol de f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costos (intervención, falla, almacenamiento, costo de cada fa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Pa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 prelimi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 relación entre los subsistemas funcionale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las entradas y salidas del equi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645000"/>
            <a:ext cx="3384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149720"/>
            <a:ext cx="86364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013360"/>
            <a:ext cx="863640" cy="57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9440" y="4437000"/>
            <a:ext cx="1295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36572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3" idx="3"/>
            <a:endCxn id="105" idx="1"/>
          </p:cNvCxnSpPr>
          <p:nvPr/>
        </p:nvCxnSpPr>
        <p:spPr>
          <a:xfrm>
            <a:off x="4067280" y="4401720"/>
            <a:ext cx="722520" cy="46764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104" idx="3"/>
            <a:endCxn id="105" idx="1"/>
          </p:cNvCxnSpPr>
          <p:nvPr/>
        </p:nvCxnSpPr>
        <p:spPr>
          <a:xfrm flipV="1">
            <a:off x="4067280" y="4868280"/>
            <a:ext cx="722520" cy="432360"/>
          </a:xfrm>
          <a:prstGeom prst="bentConnector3">
            <a:avLst>
              <a:gd name="adj1" fmla="val 499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9" name=""/>
          <p:cNvSpPr/>
          <p:nvPr/>
        </p:nvSpPr>
        <p:spPr>
          <a:xfrm>
            <a:off x="6084720" y="4869000"/>
            <a:ext cx="6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300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8720" y="321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9640" y="3716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8000" y="3881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6520" y="4292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agrama Funcional de Bloq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544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38:28Z</dcterms:created>
  <dc:creator>Ingenieria Mecanica</dc:creator>
  <dc:description/>
  <dc:language>en-US</dc:language>
  <cp:lastModifiedBy>vmeruane</cp:lastModifiedBy>
  <dcterms:modified xsi:type="dcterms:W3CDTF">2006-07-26T14:48:35Z</dcterms:modified>
  <cp:revision>11</cp:revision>
  <dc:subject/>
  <dc:title>Analisis de Falla</dc:title>
</cp:coreProperties>
</file>