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143C-11B9-4FA3-8043-950C31B4D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0CB1-160B-4E7A-BD2C-FE9904AF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7F93-6E93-457E-A933-EFC2CB3E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7976-089E-4E9D-A080-2AC4AB0B3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8DB7-0657-4ACD-A703-DC2EB794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5B29-A3F9-4C8A-82F0-3E1D976A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ED2E-E1D4-434E-B664-D14AEB5C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54A1-162F-4348-9CFE-A12A1551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8C87-B2C2-48C4-BC37-99C4F7BB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160F-762F-460D-A345-961BB592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6576-F9A5-42BB-A3F3-F8D054E4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4801-A8CC-4B3B-8322-EA289128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DD63-15DD-4F65-A9ED-07AE283C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A939-EDB7-47D5-BB29-DC8FB787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5029-45E2-49B0-9762-DDD31162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676E-4884-4FF5-985F-774A5F7CE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59BD-3263-4CBB-AA3F-B889F81A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7AF0-93E6-45EE-840E-77E53261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F3AC-4C1F-4689-8E41-28D10B22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7630-60C0-4955-906E-7723A3E0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218A-DECC-4EA8-A1BE-7D6AEE06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8F6C-7037-497F-BD07-09388A2F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F888-BDB9-44FD-ACA0-DD1AC3FA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2B3D-38B9-49D8-BBD9-E822B203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1168-4807-4FCD-B5BB-5F4A2263231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83E0-DA34-4FF6-B444-A0EDD1830A0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Bases Generales </a:t>
            </a:r>
            <a:br>
              <a:rPr sz="4600"/>
            </a:b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(Parte I apunte Prof. Pascual: “El arte de Mantener”)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álisis de Modo de Fa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usa raí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bles efe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os de detec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das de preven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ecuen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iticidad de los efe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álisis de Modo de Fa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91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tap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opilación de la información (planos, especificaciones, historial de falla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parar lista de componentes (funciones, condiciones de operación, diagrama funcional de bloq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ir nivel de criticidad, usu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4508640"/>
            <a:ext cx="864072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álisis de Modo de Fa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 definir el nivel de critic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842472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1360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rucción del FME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5690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Árbol de Fa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Árbol de Fa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Árbol de Fa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691380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nálisis de Pare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95640" y="1197000"/>
            <a:ext cx="49687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nálisis de Pare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20800" y="1600200"/>
            <a:ext cx="5700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nálisis de Pare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20908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Mantenimiento dentro de la empres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antener los equipos en oper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ducir numero de fal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inimizar cos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aximizar disponibil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Mantenimiento dentro de la empres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3212640"/>
            <a:ext cx="822960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ipo de mantenimi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antenimiento preventivo (sistemátic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antenimiento predictivo (centrado en la condició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antenimiento proactivo para evitar aparición o recurrenc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antenimiento correctivo (luego de una fall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3626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Mantenimiento dentro de la empres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590544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Estructura de Cost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sto global = Costo intervención + Costo de falla + Costo almacenamiento + Costo sobre-intervenció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sto Intervención (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) (por unidad de tiempo = 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ano de ob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aterial fung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pues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sto de Falla (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) (por unidad de tiempo = 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gresos no percibi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Gastos extras de produ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ateria prima no utiliz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Estructura de Cost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63120" indent="-321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sto de almacenamiento 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(por unidad de tiempo = 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terés financiero por capital de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ano de obra dedicada a gestión e invent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stos de explotación de edificio (energía, mantenció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preciación comer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sto de sobre-interven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sto de equipos con mayores costos iniciales, pero menor costo de ciclo de vida (menores costos de mantenimiento, almacenamiento, vida útil mayor, etc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royecto Semestral</a:t>
            </a: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3800"/>
            </a:br>
            <a:r>
              <a:rPr b="0" lang="es-ES_tradnl" sz="2400" spc="-1" strike="noStrike">
                <a:solidFill>
                  <a:srgbClr val="006633"/>
                </a:solidFill>
                <a:latin typeface="Garamond"/>
              </a:rPr>
              <a:t>Informe Nº1 </a:t>
            </a:r>
            <a:br>
              <a:rPr sz="2400"/>
            </a:br>
            <a:r>
              <a:rPr b="0" lang="es-ES_tradnl" sz="2400" spc="-1" strike="noStrike">
                <a:solidFill>
                  <a:srgbClr val="006633"/>
                </a:solidFill>
                <a:latin typeface="Garamond"/>
              </a:rPr>
              <a:t>(presentación: miércoles y viernes de la semana 3)</a:t>
            </a: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tecedentes de la empresa (breve no más de una pla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cripción del equipo (funcionamiento, propósito dentro de la empresa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agrama funcional de blo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diciones actuales de operación y mant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álisis de Modo de falla (FME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Árbol de fal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álisis de costos (intervención, falla, almacenamiento, costo de cada fal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álisis de Par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clusiones prelimin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 Funcional de Bloqu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la relación entre los subsistemas funcionales del equip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las entradas y salidas del equip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43280" y="3645000"/>
            <a:ext cx="3384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3640" y="4149720"/>
            <a:ext cx="863640" cy="503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013360"/>
            <a:ext cx="863640" cy="5745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89440" y="4437000"/>
            <a:ext cx="1295280" cy="863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95640" y="436572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103" idx="3"/>
            <a:endCxn id="105" idx="1"/>
          </p:cNvCxnSpPr>
          <p:nvPr/>
        </p:nvCxnSpPr>
        <p:spPr>
          <a:xfrm>
            <a:off x="4067280" y="4401720"/>
            <a:ext cx="722520" cy="467640"/>
          </a:xfrm>
          <a:prstGeom prst="bentConnector3">
            <a:avLst>
              <a:gd name="adj1" fmla="val 4990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8" name=""/>
          <p:cNvCxnSpPr>
            <a:stCxn id="104" idx="3"/>
            <a:endCxn id="105" idx="1"/>
          </p:cNvCxnSpPr>
          <p:nvPr/>
        </p:nvCxnSpPr>
        <p:spPr>
          <a:xfrm flipV="1">
            <a:off x="4067280" y="4868280"/>
            <a:ext cx="722520" cy="432360"/>
          </a:xfrm>
          <a:prstGeom prst="bentConnector3">
            <a:avLst>
              <a:gd name="adj1" fmla="val 4990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09" name=""/>
          <p:cNvSpPr/>
          <p:nvPr/>
        </p:nvSpPr>
        <p:spPr>
          <a:xfrm>
            <a:off x="6084720" y="4869000"/>
            <a:ext cx="64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95640" y="530064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68720" y="321300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79640" y="3716280"/>
            <a:ext cx="16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ist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58000" y="38815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46520" y="42926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 Funcional de Bloqu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45440" cy="48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9:38:28Z</dcterms:created>
  <dc:creator>Ingenieria Mecanica</dc:creator>
  <dc:description/>
  <dc:language>en-US</dc:language>
  <cp:lastModifiedBy>vmeruane</cp:lastModifiedBy>
  <dcterms:modified xsi:type="dcterms:W3CDTF">2006-07-26T14:48:35Z</dcterms:modified>
  <cp:revision>11</cp:revision>
  <dc:subject/>
  <dc:title>Analisis de Falla</dc:title>
</cp:coreProperties>
</file>