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5D0-9E88-4D1D-AA92-CA361C6B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493-26F0-45C5-9B92-97A642A7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CA4-AE70-432A-9FAA-0B549E50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291-644A-4FB4-A113-DDFAAE94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9CC7-975F-439A-9598-F59F5699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E84A-6C87-462C-B99D-D946E7A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19D1-5B59-45FC-B44F-9291B499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9FDC-405D-42C6-A4AF-21D6C098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D51-FF98-45FC-B988-91F818FA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70FD-4CD6-4EC8-87FC-9FF5811A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ACF1-BFDB-4A27-9180-49395A3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900-F74D-40C1-98C5-26E44FA1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E497-D166-475B-9F1A-E539E9E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2D81-32F5-4C9F-BBF6-95DD684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5470-E4AD-4796-B121-8594112D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1AFB-2C62-4B55-8D5C-C3983321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08D7-26F5-40F2-B89E-56621FFD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CCD-BB8B-4250-9A4F-CA916891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C58-E975-4BC2-A58C-76E1F6F0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BAC-430F-4F2A-A1CF-3F367953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D40-0F6D-4CFB-8C6F-BBBB7011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12A-8C3B-4856-9D2A-6766761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32A-59D8-40B1-B8C3-5BD1F8C1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1A9-B61B-4080-91F2-236EC8A8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F6B2-7FC0-4DF6-B456-76C5C07D7D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662B-729B-4940-ABE9-8CEB9EFDA9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ases Generales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(Parte I apunte Prof. Pascual: “El arte de Mantener”)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 raí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le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os de dete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das de preve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idad de lo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pilación de la información (planos, especificaciones, historial de fall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r lista de componentes (funciones, condiciones de operación, diagrama funcional de bloq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nivel de criticidad, usu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8640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finir el nivel de critic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4247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FME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91380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20800" y="1600200"/>
            <a:ext cx="570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er los equipos en ope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ucir numero de fa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nimizar co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ximizar disponi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ventivo (sistemát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dictivo (centrado en la condi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oactivo para evitar aparición o recurr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correctivo (luego de una fal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362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05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global = Costo intervención + Costo de falla + Costo almacenamiento + Costo sobre-interven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Intervención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l fu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pue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Falla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gresos no percib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astos extras de pro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 prima no uti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almacenamient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rés financiero por capital de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 dedicada a gestión e inv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s de explotación de edificio (energía, manten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reciación come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sobre-interven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 de equipos con mayores costos iniciales, pero menor costo de ciclo de vida (menores costos de mantenimiento, almacenamiento, vida útil mayor, et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yecto Semestral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Informe Nº1 </a:t>
            </a:r>
            <a:br>
              <a:rPr sz="24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(presentación: miércoles y viernes de la semana 3)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 de la empresa (breve no más de una pl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pción del equipo (funcionamiento, propósito dentro de la empres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agrama funcional de blo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diciones actuales de operación y man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Modo de falla (FM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rbol de fa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costos (intervención, falla, almacenamiento, costo de cada fa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Pa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ones prelimi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 relación entre los subsistemas funcionale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s entradas y salida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3645000"/>
            <a:ext cx="3384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4149720"/>
            <a:ext cx="86364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013360"/>
            <a:ext cx="863640" cy="57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9440" y="4437000"/>
            <a:ext cx="129528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36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3" idx="3"/>
            <a:endCxn id="105" idx="1"/>
          </p:cNvCxnSpPr>
          <p:nvPr/>
        </p:nvCxnSpPr>
        <p:spPr>
          <a:xfrm>
            <a:off x="4067280" y="4401720"/>
            <a:ext cx="722520" cy="46764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104" idx="3"/>
            <a:endCxn id="105" idx="1"/>
          </p:cNvCxnSpPr>
          <p:nvPr/>
        </p:nvCxnSpPr>
        <p:spPr>
          <a:xfrm flipV="1">
            <a:off x="4067280" y="4868280"/>
            <a:ext cx="722520" cy="43236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09" name=""/>
          <p:cNvSpPr/>
          <p:nvPr/>
        </p:nvSpPr>
        <p:spPr>
          <a:xfrm>
            <a:off x="6084720" y="4869000"/>
            <a:ext cx="6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300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8720" y="32130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79640" y="3716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58000" y="3881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6520" y="4292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544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38:28Z</dcterms:created>
  <dc:creator>Ingenieria Mecanica</dc:creator>
  <dc:description/>
  <dc:language>en-US</dc:language>
  <cp:lastModifiedBy>vmeruane</cp:lastModifiedBy>
  <dcterms:modified xsi:type="dcterms:W3CDTF">2006-07-26T14:48:35Z</dcterms:modified>
  <cp:revision>11</cp:revision>
  <dc:subject/>
  <dc:title>Analisis de Falla</dc:title>
</cp:coreProperties>
</file>