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328-9530-441D-A0CB-D6B56019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F0C-8452-4787-910A-1C1267B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B38-E162-4879-B327-8F2AB934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0E7-4735-446E-8D9F-CDD703CE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9D81-DC1A-4191-9D27-9F506DB8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3F45-AF29-494F-B426-20D23F30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41A0-00CE-4209-AD89-D91AE2A3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C152-1C45-4270-81C8-2F2AD11B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52E9-D1F6-4A61-885C-C1B3D73E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0750-4B2F-433D-8D4A-640648E9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CF32-FB13-4545-A044-63AF0AB5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6BA-E637-4F05-994E-DDC19486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45D0-0866-4EFA-BD8C-E1BB8C4D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37AE-ACEC-4EE9-AE29-C253A32C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CB10-E74C-4161-8C23-B3B1C60B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56F2-1BFD-4ABF-BC10-231BFB18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588C-917F-4257-A8D4-FEE8393E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680-14FB-47FF-A24E-8B8AF43A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15A-2C36-471F-9597-EA71E7A4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2D9-2E3A-4810-BB6D-B52EE103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318-19C0-4258-8AC4-849BE22A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A0A-11E0-499C-BB78-069E7CFB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D26-29EB-40E7-921C-E463DE63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824-64AF-4C7E-8C07-375314BF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623E-4DA0-4FFD-9814-6B018F8BC5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5836-D139-42EF-9C21-4A13DDE5C45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Bases Generales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(Parte I apunte Prof. Pascual: “El arte de Mantener”)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a raí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le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os de dete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das de preven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idad de lo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pilación de la información (planos, especificaciones, historial de falla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r lista de componentes (funciones, condiciones de operación, diagrama funcional de bloq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r nivel de criticidad, usu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8640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definir el nivel de critic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4247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1360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FME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91380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20800" y="1600200"/>
            <a:ext cx="570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er los equipos en ope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ucir numero de fa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nimizar co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ximizar disponib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ventivo (sistemát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dictivo (centrado en la condi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oactivo para evitar aparición o recurr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correctivo (luego de una fal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362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05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global = Costo intervención + Costo de falla + Costo almacenamiento + Costo sobre-interven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Intervención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l fun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pue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Falla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gresos no percib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astos extras de pro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 prima no uti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almacenamient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rés financiero por capital de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 dedicada a gestión e inven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s de explotación de edificio (energía, manten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reciación comer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sobre-interven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 de equipos con mayores costos iniciales, pero menor costo de ciclo de vida (menores costos de mantenimiento, almacenamiento, vida útil mayor, et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oyecto Semestral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Informe Nº1 </a:t>
            </a:r>
            <a:br>
              <a:rPr sz="24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(presentación: miércoles y viernes de la semana 3)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 de la empresa (breve no más de una pl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pción del equipo (funcionamiento, propósito dentro de la empres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agrama funcional de blo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diciones actuales de operación y man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Modo de falla (FME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rbol de fa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costos (intervención, falla, almacenamiento, costo de cada fa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Pa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ones prelimi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 relación entre los subsistemas funcionale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s entradas y salida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3645000"/>
            <a:ext cx="3384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4149720"/>
            <a:ext cx="863640" cy="503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013360"/>
            <a:ext cx="863640" cy="57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9440" y="4437000"/>
            <a:ext cx="1295280" cy="863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36572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3" idx="3"/>
            <a:endCxn id="105" idx="1"/>
          </p:cNvCxnSpPr>
          <p:nvPr/>
        </p:nvCxnSpPr>
        <p:spPr>
          <a:xfrm>
            <a:off x="4067280" y="4401720"/>
            <a:ext cx="722520" cy="46764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104" idx="3"/>
            <a:endCxn id="105" idx="1"/>
          </p:cNvCxnSpPr>
          <p:nvPr/>
        </p:nvCxnSpPr>
        <p:spPr>
          <a:xfrm flipV="1">
            <a:off x="4067280" y="4868280"/>
            <a:ext cx="722520" cy="43236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09" name=""/>
          <p:cNvSpPr/>
          <p:nvPr/>
        </p:nvSpPr>
        <p:spPr>
          <a:xfrm>
            <a:off x="6084720" y="4869000"/>
            <a:ext cx="6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300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8720" y="32130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79640" y="3716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58000" y="3881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6520" y="4292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544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38:28Z</dcterms:created>
  <dc:creator>Ingenieria Mecanica</dc:creator>
  <dc:description/>
  <dc:language>en-US</dc:language>
  <cp:lastModifiedBy>vmeruane</cp:lastModifiedBy>
  <dcterms:modified xsi:type="dcterms:W3CDTF">2006-07-26T14:48:35Z</dcterms:modified>
  <cp:revision>11</cp:revision>
  <dc:subject/>
  <dc:title>Analisis de Falla</dc:title>
</cp:coreProperties>
</file>