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7C9-A1E8-4FAB-98C9-1D588735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6DD-EEC6-4A12-91AD-0388F65E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833-FD18-41C1-BD84-658D4ECE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101-DE30-4527-923E-FAC1C9D4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EA02-3356-44CB-A5B8-D8DF0826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64E1-FB2B-4E9E-9735-71C3CE1D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7D19-96E0-431C-876A-7C32E5F4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04F0-5FED-425D-BDC5-960C651B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05A6-2159-486B-863A-8B78E7FA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AC7F-4B64-45DC-879F-CFB71E21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24A6-6B0C-4668-A11B-673FDDA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852-6E30-4E45-A707-1A18178A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5197-C556-4797-A889-283BD1A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0F0D-5AC3-426D-9E9A-466D5ED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3A17-05AE-42CE-B082-F9916298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01DD-8092-4B2C-80FF-B1BCD478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F80E-10DC-406D-8633-B52107A2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02B-656C-4ED8-84E4-23EBC5E6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43F-C8B2-4F42-AE7E-15DF3CC9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A30-D3B8-4BF3-85AF-C0D2A61A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771-0555-49A5-93DC-D3CE6E6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1BA-09B6-43F0-856A-0898B72F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59D-9FD3-461B-B516-3DC0C0E3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50F-3268-4634-81D4-EEC2824E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DBE-2450-45F1-82D7-E8E34E6D79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58E9-D556-4E47-A0D9-04CCD97B5A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Tornillo Sinfin y C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6-08T05:33:43Z</dcterms:modified>
  <cp:revision>27</cp:revision>
  <dc:subject/>
  <dc:title>ME56A - Diseño de Elementos de Máquinas</dc:title>
</cp:coreProperties>
</file>