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9CD-C14E-4BBF-A17E-8363C672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429-868A-49C5-BAB9-233EDF5F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BA2-331F-45C9-85FE-8EAB973A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983-ED72-461E-99CC-B40752D9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CF87-64C2-418B-B681-494D137D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0FB3-E89A-44C7-A978-B22C6D62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2AD5-C21A-49EB-B62B-49589EE9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E78A-928B-45D9-AD58-0C9B1F8D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B524-0E7B-4D0C-AC71-213C1BFF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A5A3-B4CD-4272-8825-272FFC6F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0FCE-ED4C-47FE-91FE-9F2900C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D3F-8F29-4AE4-ACFD-53ABD677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FBA7-1881-4BF4-B9CF-662168F3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0C44-6BB5-4E72-9A6E-7C6CBEA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CDC0-0828-4799-8E12-686A2433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8C86-169A-4AD4-9FA7-6CCDE906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6019-7C69-402E-966B-E3CA0DB6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135-D5F7-47AE-996B-0B721D81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FA2-1FA2-4520-B24D-6D385950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37F-6997-49EA-8BD0-DC2A53EE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9A0-1493-4387-89ED-F8EC6383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82D-8EE5-48F0-B4A0-1CE2F110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5CD-9ACC-43D1-A3A7-1BF0250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C86-1463-42B7-AEEA-6636C3A3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2B46-B1DB-47CB-AFED-63AB113462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1DE1-7B3B-431D-8C4C-52790F6274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Tornillo Sinfin y C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6-08T05:33:43Z</dcterms:modified>
  <cp:revision>27</cp:revision>
  <dc:subject/>
  <dc:title>ME56A - Diseño de Elementos de Máquinas</dc:title>
</cp:coreProperties>
</file>