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BE4-99AB-4E87-BFE4-9B8EFA90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515-823B-4F31-AE75-21538985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362-E77D-4C06-8B8D-FD835E1D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F2C-56E7-4E62-8863-AD6CF4EB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3245-E6A7-4785-9CE2-03C339EE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CF0E-D34A-4883-A47E-82DBF9EA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953E-889E-451E-86C6-81709E24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C397-55E3-47A9-9F5B-01F2335C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798-9CDC-4343-BA84-08A98E9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3808-05A5-425D-870D-E4C85B12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E71C-45D8-41C6-9C45-E0D1188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7FF-6633-4AAD-ADB5-3D8C555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911C-9789-49CC-905D-0B20A6D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A423-E296-4AB9-A4ED-C5CF224B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D422-46D7-4CD1-9236-C7E9D33D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A368-7A77-4916-A248-69892C8B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67EB-57D7-4442-850A-DD0A057B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5B5-D127-481A-9007-C30D6717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0EE-925A-41BF-9091-8B47EDA6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7DE-5C7D-4F76-B052-35D4D1E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BE9-AA66-4F1F-8E74-48E64E83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05F-58F5-47CF-81E4-73AA696D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E9A-F26C-4C00-826C-D183C83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EF8-C68E-48AC-BE54-A7BE7FAD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3E39-BC7A-4444-954D-B361BF2503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2829-7C83-4077-A385-BEEA70A329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Tornillo Sinfin y C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6-08T05:33:43Z</dcterms:modified>
  <cp:revision>27</cp:revision>
  <dc:subject/>
  <dc:title>ME56A - Diseño de Elementos de Máquinas</dc:title>
</cp:coreProperties>
</file>