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DAD-A396-4228-8177-DE246B95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E2C-88D1-44C3-B21D-9391AD9B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F2A-344E-439E-B497-E6A8EAA0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15C-0C05-44EE-8127-C5D2CBB6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A12D-3911-430A-BE9C-E5563891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5949-CA65-4739-934D-8DBF06EA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6A7C-DCA6-4AF3-B764-BF3F9A63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6317-DDAB-469F-8840-93A32583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C0E5-1965-40EA-B96D-6C084422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0CC6-10B4-416B-BCAB-C85E609D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A923-38A2-47CA-A8B3-C6F433B2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3EF-0DC2-4FEB-A91A-8775D6D1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AED7-08F7-43B4-BC1B-E89CE97E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302E-D302-4DB4-A64C-168F9A79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1934-359D-4B41-A6BC-DE4AC6E4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21E6-34DE-4DC6-B412-35DD4784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5C6A-807A-42BE-A7DE-C82C1419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020-0827-4265-8090-F75573D2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3D7-ADB3-4EED-8F56-D57EA96A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16D-0464-44AB-87C8-A4391219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675-61FB-4892-907F-489C649F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775-63DA-4241-9B02-4B1B8D9A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665-2EF3-4955-BEB1-645898CF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661-4920-428A-B744-712010C5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1F15-7EC9-44ED-8243-2EE8DEA19F59}" type="slidenum"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4D1B-40CA-4C35-A85A-D9EB33496C60}" type="slidenum"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56A – Diseño de Elementos de Máqu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388620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Arial"/>
              </a:rPr>
              <a:t>Engranajes Rectos y Helicoidales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5105520"/>
            <a:ext cx="62481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fesor: Roberto Corvalá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yudante: Felipe Figueroa G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ffiguero@ing.uchile.c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encia AG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flexión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picad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851200" y="2562120"/>
                <a:ext cx="30924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24240" y="4435560"/>
                <a:ext cx="3608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7242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828800"/>
            <a:ext cx="1676520" cy="304920"/>
          </a:xfrm>
          <a:prstGeom prst="borderCallout1">
            <a:avLst>
              <a:gd name="adj1" fmla="val 18750"/>
              <a:gd name="adj2" fmla="val -8333"/>
              <a:gd name="adj3" fmla="val 312500"/>
              <a:gd name="adj4" fmla="val -71495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31240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31481"/>
              <a:gd name="adj4" fmla="val -111356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fiabil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715000"/>
            <a:ext cx="1524240" cy="343080"/>
          </a:xfrm>
          <a:prstGeom prst="borderCallout1">
            <a:avLst>
              <a:gd name="adj1" fmla="val 18750"/>
              <a:gd name="adj2" fmla="val -8333"/>
              <a:gd name="adj3" fmla="val -142592"/>
              <a:gd name="adj4" fmla="val 14958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4114800"/>
            <a:ext cx="990360" cy="343080"/>
          </a:xfrm>
          <a:prstGeom prst="borderCallout1">
            <a:avLst>
              <a:gd name="adj1" fmla="val 18750"/>
              <a:gd name="adj2" fmla="val -8333"/>
              <a:gd name="adj3" fmla="val 166666"/>
              <a:gd name="adj4" fmla="val -8445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urez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114800"/>
            <a:ext cx="1676160" cy="304920"/>
          </a:xfrm>
          <a:prstGeom prst="borderCallout1">
            <a:avLst>
              <a:gd name="adj1" fmla="val 18750"/>
              <a:gd name="adj2" fmla="val -8333"/>
              <a:gd name="adj3" fmla="val 197916"/>
              <a:gd name="adj4" fmla="val 1158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283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5240" y="1981080"/>
            <a:ext cx="636084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168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81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de Segur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factores de seguridad para cada caso quedan entonces como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90920" y="3124080"/>
                <a:ext cx="2847960" cy="312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35280" y="2709720"/>
                <a:ext cx="3897360" cy="32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e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Paso Diametra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Módulo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π</m:t>
                        </m:r>
                        <m:r>
                          <m:rPr>
                            <m:lit/>
                            <m:nor/>
                          </m:rPr>
                          <m:t xml:space="preserve">     Paso Circul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Relación de Velocidad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ás dientes es llamado corona o rueda. Subíndice 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enos dientes es llamado piñón. Subíndice P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24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1840" y="1752480"/>
                <a:ext cx="3878280" cy="441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Úti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 en unidades inglesa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bf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81480" y="1828800"/>
                <a:ext cx="3164040" cy="32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Genera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T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105520" y="1828800"/>
            <a:ext cx="3276360" cy="3352680"/>
          </a:xfrm>
          <a:prstGeom prst="rect">
            <a:avLst/>
          </a:prstGeom>
          <a:noFill/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35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Ejemplo: Engranaje conectado a un motor de 2.5[kW] a 1750[rpm], diámetro de paso d=50[mm]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47920" y="3657600"/>
                <a:ext cx="67053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5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 Helicoid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254480" cy="449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121360" y="2209680"/>
                <a:ext cx="3778200" cy="30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presión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hél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uaciones de esfuerzo A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Dos ecuaciones fundamenta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el esfuerzo flexionante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la resistencia a la picadura (contacto)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28800" y="3124080"/>
                <a:ext cx="46483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5120" y="5105520"/>
                <a:ext cx="51037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jo con las Dim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0880" y="1905120"/>
                <a:ext cx="66294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767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505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lbf][1/in]/[in]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" y="3981600"/>
                <a:ext cx="64771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den>
                            </m:f>
                          </m:e>
                        </m:ra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0988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56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psi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([lbf/in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)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523880"/>
            <a:ext cx="1447560" cy="419400"/>
          </a:xfrm>
          <a:prstGeom prst="borderCallout1">
            <a:avLst>
              <a:gd name="adj1" fmla="val 18750"/>
              <a:gd name="adj2" fmla="val -8333"/>
              <a:gd name="adj3" fmla="val 227652"/>
              <a:gd name="adj4" fmla="val 12237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Sobre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1486080"/>
            <a:ext cx="1295280" cy="342720"/>
          </a:xfrm>
          <a:prstGeom prst="borderCallout1">
            <a:avLst>
              <a:gd name="adj1" fmla="val 18750"/>
              <a:gd name="adj2" fmla="val -8333"/>
              <a:gd name="adj3" fmla="val 300000"/>
              <a:gd name="adj4" fmla="val -1176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467160"/>
            <a:ext cx="914400" cy="342720"/>
          </a:xfrm>
          <a:prstGeom prst="borderCallout1">
            <a:avLst>
              <a:gd name="adj1" fmla="val 18750"/>
              <a:gd name="adj2" fmla="val -8333"/>
              <a:gd name="adj3" fmla="val -144444"/>
              <a:gd name="adj4" fmla="val -5833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1562040"/>
            <a:ext cx="1447920" cy="609840"/>
          </a:xfrm>
          <a:prstGeom prst="borderCallout1">
            <a:avLst>
              <a:gd name="adj1" fmla="val 18750"/>
              <a:gd name="adj2" fmla="val -8333"/>
              <a:gd name="adj3" fmla="val 81250"/>
              <a:gd name="adj4" fmla="val -263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spesor de A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3505320"/>
            <a:ext cx="1523880" cy="342720"/>
          </a:xfrm>
          <a:prstGeom prst="borderCallout1">
            <a:avLst>
              <a:gd name="adj1" fmla="val 18750"/>
              <a:gd name="adj2" fmla="val -8333"/>
              <a:gd name="adj3" fmla="val -111111"/>
              <a:gd name="adj4" fmla="val -30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56386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-136111"/>
              <a:gd name="adj4" fmla="val -2156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6095880"/>
            <a:ext cx="1524240" cy="609840"/>
          </a:xfrm>
          <a:prstGeom prst="borderCallout1">
            <a:avLst>
              <a:gd name="adj1" fmla="val 18750"/>
              <a:gd name="adj2" fmla="val -8333"/>
              <a:gd name="adj3" fmla="val -199740"/>
              <a:gd name="adj4" fmla="val -14481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4038480"/>
            <a:ext cx="1371600" cy="609840"/>
          </a:xfrm>
          <a:prstGeom prst="borderCallout1">
            <a:avLst>
              <a:gd name="adj1" fmla="val 18750"/>
              <a:gd name="adj2" fmla="val -8333"/>
              <a:gd name="adj3" fmla="val 52083"/>
              <a:gd name="adj4" fmla="val -46759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dición Superfic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22:41:44Z</dcterms:created>
  <dc:creator>Felipe Figueroa G.</dc:creator>
  <dc:description/>
  <dc:language>en-US</dc:language>
  <cp:lastModifiedBy>Ing Mecanica</cp:lastModifiedBy>
  <dcterms:modified xsi:type="dcterms:W3CDTF">2006-10-04T20:11:51Z</dcterms:modified>
  <cp:revision>20</cp:revision>
  <dc:subject/>
  <dc:title>ME56A – Diseño de Elementos de Máquinas</dc:title>
</cp:coreProperties>
</file>