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225D-E7FB-4B1A-A32A-493DD683C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001F-B895-4A5E-8CEF-15095D04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AC7F-6DE8-4681-8B44-668E1395D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5DEB-78F5-45B9-ACD5-F66C409D8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7893-0F1D-47F4-879D-4B571CFE1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5309-D417-45AA-9ADF-6720372D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CFE5-CB14-4B25-92D8-21C8E9DF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0E11-B1D2-4ADB-A5DE-1EE2DE42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3422-2F18-4679-BBEF-A83A8807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9263-0016-41A2-B3B5-7E6A4E8C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9FC7-4CE3-406C-A4CC-DE26F89F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4AC5-B9E3-4465-BADC-93626B11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A270-8031-49D6-A64B-11E0DF7B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5980-96BB-47D9-B496-64F368CC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77B9-0BC9-4803-BBA3-EAB966FA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F362-B228-465C-B8EF-F6E52BEF1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1DC9-2C08-4AF4-8815-7910C3A7A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07B2-CD22-42BA-8886-CFF8E1A7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540A-2C84-42F2-8C51-F9DDBF63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AD02-D980-4902-B06E-1E1E32C5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15F1-B655-4EDA-BE57-98FE1F3D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2C27-3EAD-4E5D-863D-63C10697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A3D6-4D63-4225-A76C-31C8FEC4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44FE-0E03-492B-B8A2-5DFDBC53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D9EC-EAA7-4229-843C-1013EFB9231E}" type="slidenum">
              <a:rPr b="0" lang="es-E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A50F-587A-4051-84F2-BD7305379470}" type="slidenum">
              <a:rPr b="0" lang="es-E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756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56A – Diseño de Elementos de Máquin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18960" y="388620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600" spc="-1" strike="noStrike">
                <a:solidFill>
                  <a:srgbClr val="292929"/>
                </a:solidFill>
                <a:latin typeface="Arial"/>
              </a:rPr>
              <a:t>Engranajes Rectos y Helicoidales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5105520"/>
            <a:ext cx="624816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rofesor: Roberto Corvalá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yudante: Felipe Figueroa G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ffiguero@ing.uchile.cl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istencia AG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ara la flexión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ara la picadura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851200" y="2562120"/>
                <a:ext cx="30924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r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si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424240" y="4435560"/>
                <a:ext cx="36082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per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si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Z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4724280" y="5486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Adimension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3581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Adimension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29400" y="1828800"/>
            <a:ext cx="1676520" cy="304920"/>
          </a:xfrm>
          <a:prstGeom prst="borderCallout1">
            <a:avLst>
              <a:gd name="adj1" fmla="val 18750"/>
              <a:gd name="adj2" fmla="val -8333"/>
              <a:gd name="adj3" fmla="val 312500"/>
              <a:gd name="adj4" fmla="val -71495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Ciclos de Vid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15200" y="3124080"/>
            <a:ext cx="1523880" cy="343080"/>
          </a:xfrm>
          <a:prstGeom prst="borderCallout1">
            <a:avLst>
              <a:gd name="adj1" fmla="val 18750"/>
              <a:gd name="adj2" fmla="val -8333"/>
              <a:gd name="adj3" fmla="val 31481"/>
              <a:gd name="adj4" fmla="val -111356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Confiabilida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5715000"/>
            <a:ext cx="1524240" cy="343080"/>
          </a:xfrm>
          <a:prstGeom prst="borderCallout1">
            <a:avLst>
              <a:gd name="adj1" fmla="val 18750"/>
              <a:gd name="adj2" fmla="val -8333"/>
              <a:gd name="adj3" fmla="val -142592"/>
              <a:gd name="adj4" fmla="val 149583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Temperatur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77120" y="4114800"/>
            <a:ext cx="990360" cy="343080"/>
          </a:xfrm>
          <a:prstGeom prst="borderCallout1">
            <a:avLst>
              <a:gd name="adj1" fmla="val 18750"/>
              <a:gd name="adj2" fmla="val -8333"/>
              <a:gd name="adj3" fmla="val 166666"/>
              <a:gd name="adj4" fmla="val -84453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Durez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4114800"/>
            <a:ext cx="1676160" cy="304920"/>
          </a:xfrm>
          <a:prstGeom prst="borderCallout1">
            <a:avLst>
              <a:gd name="adj1" fmla="val 18750"/>
              <a:gd name="adj2" fmla="val -8333"/>
              <a:gd name="adj3" fmla="val 197916"/>
              <a:gd name="adj4" fmla="val 115814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Ciclos de Vid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Valores de S</a:t>
            </a:r>
            <a:r>
              <a:rPr b="0" lang="es-E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62834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lores de 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4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acero Nitrur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35240" y="1981080"/>
            <a:ext cx="6360840" cy="43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lores de 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4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acero Nitru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71688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lores de 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18156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es de Segur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os factores de seguridad para cada caso quedan entonces como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590920" y="3124080"/>
                <a:ext cx="2847960" cy="312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er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per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ranaj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omenclatura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835280" y="2709720"/>
                <a:ext cx="3897360" cy="32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te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Paso Diametral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Módulo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d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mπ</m:t>
                        </m:r>
                        <m:r>
                          <m:rPr>
                            <m:lit/>
                            <m:nor/>
                          </m:rPr>
                          <m:t xml:space="preserve">     Paso Circula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Relación de Velocidad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ranaj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ngranaje con más dientes es llamado corona o rueda. Subíndice G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ngranaje con menos dientes es llamado piñón. Subíndice P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ga Transmit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56246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ga Transmit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861840" y="1752480"/>
                <a:ext cx="3878280" cy="441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laciones Útiles: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000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rpm</m:t>
                        </m:r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 en unidades inglesas: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3000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bf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/min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/min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rpm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181480" y="1828800"/>
                <a:ext cx="3164040" cy="327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laciones Generales: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T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5105520" y="1828800"/>
            <a:ext cx="3276360" cy="3352680"/>
          </a:xfrm>
          <a:prstGeom prst="rect">
            <a:avLst/>
          </a:prstGeom>
          <a:noFill/>
          <a:ln w="1908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ga Transmit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35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Ejemplo: Engranaje conectado a un motor de 2.5[kW] a 1750[rpm], diámetro de paso d=50[mm]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447920" y="3657600"/>
                <a:ext cx="67053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00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00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750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6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ranajes Helicoid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4254480" cy="4495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121360" y="2209680"/>
                <a:ext cx="3778200" cy="309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ψ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ψ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ángulo de presión</m:t>
                        </m:r>
                      </m:e>
                      <m:e>
                        <m:r>
                          <m:t xml:space="preserve">ψ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ángulo de héli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cuaciones de esfuerzo AG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96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Dos ecuaciones fundamentale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Para el esfuerzo flexionante, </a:t>
            </a:r>
            <a:r>
              <a:rPr b="0" lang="es-ES" sz="2800" spc="-1" strike="noStrike">
                <a:solidFill>
                  <a:srgbClr val="292929"/>
                </a:solidFill>
                <a:latin typeface="Symbol"/>
                <a:ea typeface="Symbol"/>
              </a:rPr>
              <a:t></a:t>
            </a: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Para la resistencia a la picadura (contacto), </a:t>
            </a:r>
            <a:r>
              <a:rPr b="0" lang="es-ES" sz="2800" spc="-1" strike="noStrike">
                <a:solidFill>
                  <a:srgbClr val="292929"/>
                </a:solidFill>
                <a:latin typeface="Symbol"/>
                <a:ea typeface="Symbol"/>
              </a:rPr>
              <a:t></a:t>
            </a:r>
            <a:r>
              <a:rPr b="0" lang="es-ES" sz="2800" spc="-1" strike="noStrike" baseline="-25000">
                <a:solidFill>
                  <a:srgbClr val="292929"/>
                </a:solidFill>
                <a:latin typeface="Arial"/>
              </a:rPr>
              <a:t>c</a:t>
            </a: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828800" y="3124080"/>
                <a:ext cx="464832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F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905120" y="5105520"/>
                <a:ext cx="510372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Ojo con las Dimen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80880" y="1905120"/>
                <a:ext cx="6629400" cy="16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276720" y="3352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Adimension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35053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[lbf][1/in]/[in]=[psi]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57200" y="3981600"/>
                <a:ext cx="647712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den>
                            </m:f>
                          </m:e>
                        </m:rad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809880" y="5181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Adimension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55627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[psi</a:t>
            </a:r>
            <a:r>
              <a:rPr b="0" lang="es-ES" sz="1800" spc="-1" strike="noStrike" baseline="30000">
                <a:solidFill>
                  <a:srgbClr val="292929"/>
                </a:solidFill>
                <a:latin typeface="Arial"/>
              </a:rPr>
              <a:t>1/2</a:t>
            </a: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]([lbf/in</a:t>
            </a:r>
            <a:r>
              <a:rPr b="0" lang="es-ES" sz="18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])</a:t>
            </a:r>
            <a:r>
              <a:rPr b="0" lang="es-ES" sz="1800" spc="-1" strike="noStrike" baseline="30000">
                <a:solidFill>
                  <a:srgbClr val="292929"/>
                </a:solidFill>
                <a:latin typeface="Arial"/>
              </a:rPr>
              <a:t>1/2</a:t>
            </a: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=[psi]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1523880"/>
            <a:ext cx="1447560" cy="419400"/>
          </a:xfrm>
          <a:prstGeom prst="borderCallout1">
            <a:avLst>
              <a:gd name="adj1" fmla="val 18750"/>
              <a:gd name="adj2" fmla="val -8333"/>
              <a:gd name="adj3" fmla="val 227652"/>
              <a:gd name="adj4" fmla="val 122370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Sobrecarg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1486080"/>
            <a:ext cx="1295280" cy="342720"/>
          </a:xfrm>
          <a:prstGeom prst="borderCallout1">
            <a:avLst>
              <a:gd name="adj1" fmla="val 18750"/>
              <a:gd name="adj2" fmla="val -8333"/>
              <a:gd name="adj3" fmla="val 300000"/>
              <a:gd name="adj4" fmla="val -11763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Velocida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3467160"/>
            <a:ext cx="914400" cy="342720"/>
          </a:xfrm>
          <a:prstGeom prst="borderCallout1">
            <a:avLst>
              <a:gd name="adj1" fmla="val 18750"/>
              <a:gd name="adj2" fmla="val -8333"/>
              <a:gd name="adj3" fmla="val -144444"/>
              <a:gd name="adj4" fmla="val -58333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Form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29400" y="1562040"/>
            <a:ext cx="1447920" cy="609840"/>
          </a:xfrm>
          <a:prstGeom prst="borderCallout1">
            <a:avLst>
              <a:gd name="adj1" fmla="val 18750"/>
              <a:gd name="adj2" fmla="val -8333"/>
              <a:gd name="adj3" fmla="val 81250"/>
              <a:gd name="adj4" fmla="val -26314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Espesor de Ar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0" y="3505320"/>
            <a:ext cx="1523880" cy="342720"/>
          </a:xfrm>
          <a:prstGeom prst="borderCallout1">
            <a:avLst>
              <a:gd name="adj1" fmla="val 18750"/>
              <a:gd name="adj2" fmla="val -8333"/>
              <a:gd name="adj3" fmla="val -111111"/>
              <a:gd name="adj4" fmla="val -30000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Geométric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5638680"/>
            <a:ext cx="1523880" cy="343080"/>
          </a:xfrm>
          <a:prstGeom prst="borderCallout1">
            <a:avLst>
              <a:gd name="adj1" fmla="val 18750"/>
              <a:gd name="adj2" fmla="val -8333"/>
              <a:gd name="adj3" fmla="val -136111"/>
              <a:gd name="adj4" fmla="val -21564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Geométric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6095880"/>
            <a:ext cx="1524240" cy="609840"/>
          </a:xfrm>
          <a:prstGeom prst="borderCallout1">
            <a:avLst>
              <a:gd name="adj1" fmla="val 18750"/>
              <a:gd name="adj2" fmla="val -8333"/>
              <a:gd name="adj3" fmla="val -199740"/>
              <a:gd name="adj4" fmla="val -14481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Distribución de Carg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10280" y="4038480"/>
            <a:ext cx="1371600" cy="609840"/>
          </a:xfrm>
          <a:prstGeom prst="borderCallout1">
            <a:avLst>
              <a:gd name="adj1" fmla="val 18750"/>
              <a:gd name="adj2" fmla="val -8333"/>
              <a:gd name="adj3" fmla="val 52083"/>
              <a:gd name="adj4" fmla="val -46759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Condición Superfici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5T22:41:44Z</dcterms:created>
  <dc:creator>Felipe Figueroa G.</dc:creator>
  <dc:description/>
  <dc:language>en-US</dc:language>
  <cp:lastModifiedBy>Ing Mecanica</cp:lastModifiedBy>
  <dcterms:modified xsi:type="dcterms:W3CDTF">2006-10-04T20:11:51Z</dcterms:modified>
  <cp:revision>20</cp:revision>
  <dc:subject/>
  <dc:title>ME56A – Diseño de Elementos de Máquinas</dc:title>
</cp:coreProperties>
</file>