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098-6167-48A9-9E22-527BDF55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877-EB7F-479A-94A6-686A2B54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F46-D1F2-472E-B988-A0C64600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B88-B5D8-4B3C-99E5-5133A518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F797-443F-4DEB-8518-FFE207DE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B445-093A-467F-A0BB-C46E618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30E9-E0D0-4FDA-AAD8-5CF06151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5E7-DD18-4224-913E-F6AFD35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F9E4-7087-49DB-9239-1B629588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1F82-D220-4F17-8C96-CDA1675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9D42-AEDE-4471-9587-BB54AB6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331-72F8-4425-9D46-147602CF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9ED7-D25F-49C7-9D8A-7FED7F6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7B6-54E4-4E48-A2A0-79BB806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9290-9AE1-42DE-8DBC-155FDEBB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9026-F056-4A58-9766-8FF05B6C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399D-81AA-49F2-B1B6-F1001B26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0BE-F299-4557-9CE7-D99FE1D8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6B2-F197-4483-821E-0B03D9E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5B8-1EF2-4621-B34F-50986C1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FB4-2538-4DF5-9A53-53FF2186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048-1607-40F6-84DE-140E09EB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996-CD73-46E9-B60A-BB8925B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51E-58DD-4B49-87DB-BAA31F3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13B-83F0-47EF-B5D3-496F249084EA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4683-4D94-4332-A2C4-B38E254809B7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Ing Mecanica</cp:lastModifiedBy>
  <dcterms:modified xsi:type="dcterms:W3CDTF">2006-10-04T20:11:51Z</dcterms:modified>
  <cp:revision>20</cp:revision>
  <dc:subject/>
  <dc:title>ME56A – Diseño de Elementos de Máquinas</dc:title>
</cp:coreProperties>
</file>