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808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932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808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20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2040" y="96480"/>
            <a:ext cx="7153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808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0" y="198072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932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808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200" y="4127400"/>
            <a:ext cx="24652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2040" y="96480"/>
            <a:ext cx="7153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2600" y="412740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2600" y="1980720"/>
            <a:ext cx="3736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9320" y="4127400"/>
            <a:ext cx="76564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oundRect">
            <a:avLst>
              <a:gd name="adj" fmla="val 1560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oundRect">
            <a:avLst>
              <a:gd name="adj" fmla="val 1560"/>
            </a:avLst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561960"/>
            <a:ext cx="154080" cy="1066680"/>
          </a:xfrm>
          <a:custGeom>
            <a:avLst/>
            <a:gdLst/>
            <a:ahLst/>
            <a:rect l="l" t="t" r="r" b="b"/>
            <a:pathLst>
              <a:path w="428" h="2964">
                <a:moveTo>
                  <a:pt x="427" y="2963"/>
                </a:moveTo>
                <a:lnTo>
                  <a:pt x="0" y="2963"/>
                </a:lnTo>
                <a:lnTo>
                  <a:pt x="0" y="0"/>
                </a:lnTo>
                <a:lnTo>
                  <a:pt x="4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424" h="2982">
                <a:moveTo>
                  <a:pt x="0" y="0"/>
                </a:moveTo>
                <a:lnTo>
                  <a:pt x="423" y="0"/>
                </a:lnTo>
                <a:lnTo>
                  <a:pt x="423" y="2981"/>
                </a:lnTo>
                <a:lnTo>
                  <a:pt x="0" y="2981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8120" indent="-4381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5160" indent="-43344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7620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59600" indent="-37872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4440" indent="-383400"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444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444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914400"/>
            <a:ext cx="8681760" cy="2509920"/>
            <a:chOff x="0" y="914400"/>
            <a:chExt cx="8681760" cy="2509920"/>
          </a:xfrm>
        </p:grpSpPr>
        <p:sp>
          <p:nvSpPr>
            <p:cNvPr id="43" name=""/>
            <p:cNvSpPr/>
            <p:nvPr/>
          </p:nvSpPr>
          <p:spPr>
            <a:xfrm>
              <a:off x="228240" y="914400"/>
              <a:ext cx="2513880" cy="250992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675800"/>
              <a:ext cx="4721760" cy="1142280"/>
            </a:xfrm>
            <a:prstGeom prst="roundRect">
              <a:avLst>
                <a:gd name="adj" fmla="val 139"/>
              </a:avLst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60000" y="1675800"/>
              <a:ext cx="4721760" cy="1142280"/>
            </a:xfrm>
            <a:prstGeom prst="roundRect">
              <a:avLst>
                <a:gd name="adj" fmla="val 1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120" y="1523520"/>
              <a:ext cx="228240" cy="1446840"/>
            </a:xfrm>
            <a:custGeom>
              <a:avLst/>
              <a:gdLst/>
              <a:ahLst/>
              <a:rect l="l" t="t" r="r" b="b"/>
              <a:pathLst>
                <a:path w="636" h="4022">
                  <a:moveTo>
                    <a:pt x="635" y="4021"/>
                  </a:moveTo>
                  <a:lnTo>
                    <a:pt x="0" y="4021"/>
                  </a:lnTo>
                  <a:lnTo>
                    <a:pt x="0" y="0"/>
                  </a:lnTo>
                  <a:lnTo>
                    <a:pt x="635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2240" y="1209240"/>
              <a:ext cx="261720" cy="1369080"/>
            </a:xfrm>
            <a:custGeom>
              <a:avLst/>
              <a:gdLst/>
              <a:ahLst/>
              <a:rect l="l" t="t" r="r" b="b"/>
              <a:pathLst>
                <a:path w="728" h="3807">
                  <a:moveTo>
                    <a:pt x="0" y="0"/>
                  </a:moveTo>
                  <a:lnTo>
                    <a:pt x="727" y="0"/>
                  </a:lnTo>
                  <a:lnTo>
                    <a:pt x="727" y="3806"/>
                  </a:lnTo>
                  <a:lnTo>
                    <a:pt x="0" y="3806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442880"/>
            <a:ext cx="7081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-43812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9160" indent="-401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6520" indent="-38268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5320" indent="-387360"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532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532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56A –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800" spc="-1" strike="noStrike">
                <a:solidFill>
                  <a:srgbClr val="292929"/>
                </a:solidFill>
                <a:latin typeface="Arial"/>
              </a:rPr>
              <a:t>Unione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Profesor: Roberto Corva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Ayudante: Felipe Figueroa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Times New Roman"/>
              </a:rPr>
              <a:t>(ffiguero@ing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ctor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8120" indent="-4381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fracción de la carga P soportada por 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00440" y="3124080"/>
                <a:ext cx="29336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54000" y="5334120"/>
            <a:ext cx="765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1480" indent="-411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F</a:t>
            </a:r>
            <a:r>
              <a:rPr b="1" i="1" lang="es-ES_tradnl" sz="3200" spc="-1" strike="noStrike" baseline="-25000">
                <a:solidFill>
                  <a:srgbClr val="292929"/>
                </a:solidFill>
                <a:latin typeface="Arial"/>
                <a:ea typeface="Arial Unicode MS"/>
              </a:rPr>
              <a:t>b</a:t>
            </a:r>
            <a:r>
              <a:rPr b="1" i="1" lang="es-ES_tradnl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 es la fuerza de tracción resultante en el p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743200"/>
                <a:ext cx="3429000" cy="34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Con Hilo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Sin Hilo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rigidez d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ay una distribución de la carga en los elementos unidos, denominada cono de presión de Rotsc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3851280"/>
            <a:ext cx="7875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l ángulo del cono se toma igual a 30º (empírico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a rigidez de un elemento 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 esta dada po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29280" y="325440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43000" y="3809880"/>
                <a:ext cx="699912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38080" y="2050920"/>
                <a:ext cx="769644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es el diámetro inicial del co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 general es igual a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es el ángulo del cono, se toma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o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9480" indent="-42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i se consideran solo dos elementos a unir, de igual material y espesor, espalda con espalda y asumimos que d</a:t>
            </a:r>
            <a:r>
              <a:rPr b="0" lang="es-ES_tradnl" sz="3200" spc="-1" strike="noStrike" baseline="-25000">
                <a:solidFill>
                  <a:srgbClr val="292929"/>
                </a:solidFill>
                <a:latin typeface="Arial"/>
              </a:rPr>
              <a:t>w</a:t>
            </a: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=1.5d obtenemos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14400" y="4114800"/>
                <a:ext cx="73152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También para </a:t>
            </a:r>
            <a:r>
              <a:rPr b="0" i="1" lang="es-ES_tradnl" sz="3200" spc="-1" strike="noStrike" u="sng">
                <a:solidFill>
                  <a:srgbClr val="292929"/>
                </a:solidFill>
                <a:uFillTx/>
                <a:latin typeface="Arial"/>
              </a:rPr>
              <a:t>este caso</a:t>
            </a: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 se puede utilizar la regresió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14600" y="3124080"/>
                <a:ext cx="38098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67057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5146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ara un tornillo apretado con un torque T, su precarga está dada p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4920" y="3657600"/>
                <a:ext cx="5257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40360" cy="4145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45212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l término es paréntesis cuadrado se denomina </a:t>
            </a:r>
            <a:r>
              <a:rPr b="0" i="1" lang="es-ES_tradnl" sz="3200" spc="-1" strike="noStrike">
                <a:solidFill>
                  <a:srgbClr val="292929"/>
                </a:solidFill>
                <a:latin typeface="Arial"/>
              </a:rPr>
              <a:t>coeficiente de par de torsión, K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8006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0" i="1" lang="es-ES_tradnl" sz="2800" spc="-1" strike="noStrike">
                <a:solidFill>
                  <a:srgbClr val="292929"/>
                </a:solidFill>
                <a:latin typeface="Arial"/>
              </a:rPr>
              <a:t>esfuerzo de prueba S</a:t>
            </a:r>
            <a:r>
              <a:rPr b="0" i="1" lang="es-ES_tradnl" sz="2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0" lang="es-ES_tradnl" sz="2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se define como el esfuerzo aplicado sobre el perno que garantiza que no habrá fluencia con un 99% de certez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racción de la carga de prueba utilizada por la precarga se denomina com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0760" y="4800600"/>
                <a:ext cx="39895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47712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fracción del esfuerzo de prueba que siente el perno está dado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295280" y="3657600"/>
                <a:ext cx="65026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a ecuación de diseño para cargas estáticas queda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57520" y="3306600"/>
                <a:ext cx="502128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Se sabe que la resistencia a la fatiga de una probeta sometida a un ensayo de tensión con viga rotativa esta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4262400"/>
                <a:ext cx="8153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6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,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8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{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74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TS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una geometría y tipo de carga determinada, la resistencia a la fatiga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82720" y="4084560"/>
                <a:ext cx="54244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pernos, la resistencia a la fatiga corregida, S</a:t>
            </a:r>
            <a:r>
              <a:rPr b="0" lang="es-ES_tradnl" sz="3200" spc="-1" strike="noStrike" baseline="-25000">
                <a:solidFill>
                  <a:srgbClr val="292929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, está tabulad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8001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Para una carga oscilante podemos definir las cantidad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8080" y="3233880"/>
                <a:ext cx="74678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P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ipos de Cargas Oscil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810240" cy="1781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790800" cy="178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fatigue combined alternating at mean stress"/>
          <p:cNvPicPr/>
          <p:nvPr/>
        </p:nvPicPr>
        <p:blipFill>
          <a:blip r:embed="rId3"/>
          <a:stretch/>
        </p:blipFill>
        <p:spPr>
          <a:xfrm>
            <a:off x="2666880" y="4191120"/>
            <a:ext cx="4133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Los criterios de falla utilizados para estos casos son varios y se representan en este diagram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iterios de Fa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5075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1752120" y="4724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267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Zona seg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14800" y="2437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828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Zona de f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512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oderberg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oodma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rbe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3846600" cy="3129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71600" y="4267080"/>
                <a:ext cx="1905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387440" y="2575080"/>
                <a:ext cx="18734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90920" y="5587920"/>
                <a:ext cx="241272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sca métrica M y M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igura 8-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670040"/>
            <a:ext cx="7391520" cy="625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400800" y="21337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8195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paso y el diámetro nominal están relacionados directamente de acuerdo a la serie que se util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l factor de seguridad se puede despejar de cualquier criterio sabiendo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0" y="3657600"/>
                <a:ext cx="2057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vance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: cuanto se mueve axialmente el perno después de un giro de 360º. Cuando hay solo un hilo l=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aso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: Distancia entre dos cuerdas adyacent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Área de Esfuerzo de Tensión, 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en-GB" sz="32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: área equivalente para un ensayo de tracción del pern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argo zona con hilo, L</a:t>
            </a:r>
            <a:r>
              <a:rPr b="0" lang="en-GB" sz="28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92120" y="2849400"/>
                <a:ext cx="6553440" cy="23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t xml:space="preserve">∧</m:t>
                              </m:r>
                              <m:r>
                                <m:t xml:space="preserve">D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125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12680" y="5403960"/>
            <a:ext cx="6996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4160" indent="-438120">
              <a:lnSpc>
                <a:spcPct val="93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1002816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Todas las medidas están en mm. (Serie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401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10028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n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as roscas (o hilos) para la serie métrica se denominan escribiendo el diámetro y el paso en milímetros, en ese ord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j: M8x1.25 =&gt; d=8[mm], p=1.25[mm]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i no se indica el paso, se asume que es la serie bas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El perno proporciona una fuerza para mantener la unión debido a su elongación. Dicha elongación es causada por el apriete de és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La fuerza causada por esta elongación se conoce como </a:t>
            </a:r>
            <a:r>
              <a:rPr b="0" i="1" lang="en-GB" sz="2400" spc="-1" strike="noStrike" u="sng">
                <a:solidFill>
                  <a:srgbClr val="292929"/>
                </a:solidFill>
                <a:uFillTx/>
                <a:latin typeface="Arial"/>
              </a:rPr>
              <a:t>precarga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, o F</a:t>
            </a:r>
            <a:r>
              <a:rPr b="0" lang="en-GB" sz="2400" spc="-1" strike="noStrike" baseline="-33000">
                <a:solidFill>
                  <a:srgbClr val="29292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La precarga está presente después del apriete, sin importar que no hayan fuerzas externas aplicadas a la unió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416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47920" y="2076480"/>
                <a:ext cx="266544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94240" cy="270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771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uerzas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392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uerza resultante en el perno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2800" indent="-4428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a fuerza resultante en la unión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57760" y="4616280"/>
                <a:ext cx="35035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44800" y="1643040"/>
            <a:ext cx="269388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713120" y="5607000"/>
                <a:ext cx="3616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pe Figueroa</cp:lastModifiedBy>
  <dcterms:modified xsi:type="dcterms:W3CDTF">2006-04-12T18:25:23Z</dcterms:modified>
  <cp:revision>24</cp:revision>
  <dc:subject/>
  <dc:title>ME56A – Diseño de Elementos de Máquinas</dc:title>
</cp:coreProperties>
</file>