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B29-1D5A-488C-85BF-D6A923EA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B37-700C-451F-AA13-F21268C6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B5C-11B1-4FCE-9509-0F7B81FE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75B-9A19-4938-98FF-1CB7F4CE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ED3-196D-4A46-9E2F-9B73087D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E2B-D658-43F6-B0F6-91989337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79C-BA3D-4B81-A70A-F37253CC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0FA-C575-40C5-8E04-0B826269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80B-9C7A-4452-B102-6C02AF77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404-76FA-4B0B-AB89-29467BB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F03-2F8B-4F1D-862A-6E6C5EE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DA8-B323-44E7-94CF-901C37E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40F6-A40A-4788-9936-2BDC66E61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, 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74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Estát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90512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Estática Neces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267080"/>
            <a:ext cx="350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36200" y="5181480"/>
            <a:ext cx="4041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actor de seguridad est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ímite de velo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2120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rod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00" y="176040"/>
            <a:ext cx="81993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32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600200"/>
            <a:ext cx="31240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981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2096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4382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8954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124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276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124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8954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6668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4382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981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096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352680"/>
            <a:ext cx="37339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666880"/>
            <a:ext cx="3124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2819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25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600" y="23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3760" y="1143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3080" y="1087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7680" y="1371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7000" y="10875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7680" y="1371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46960" y="18018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a s) =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47600" y="2522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reyn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2408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880" y="27925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6.89 · 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789280"/>
            <a:ext cx="9907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8120" y="338148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25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080" y="3408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32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40320" y="3706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703680"/>
            <a:ext cx="381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32568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8120" y="4108320"/>
            <a:ext cx="2227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/s)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(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0480" y="471816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71816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0400" y="48006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4718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50990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09580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471816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7720" y="48290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56325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5638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5320" y="5721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638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560" y="601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601668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563868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62280" y="5749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3927600"/>
            <a:ext cx="401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/dy : gradiente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       : Viscosidad absoluta en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Viscosidad absoluta en (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cinemática (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ensidad (kg/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        : Segundos Say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Ley de Pet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3040" y="1265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1320" y="12952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216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7800" y="16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596960"/>
            <a:ext cx="246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143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r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400" y="1600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15969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8680" y="140184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0" y="223524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082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800" y="2540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536920"/>
            <a:ext cx="1295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158920"/>
            <a:ext cx="152640" cy="762120"/>
          </a:xfrm>
          <a:custGeom>
            <a:avLst/>
            <a:gdLst>
              <a:gd name="textAreaLeft" fmla="*/ 44640 w 152640"/>
              <a:gd name="textAreaRight" fmla="*/ 153000 w 15264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2082960"/>
            <a:ext cx="152280" cy="838080"/>
          </a:xfrm>
          <a:custGeom>
            <a:avLst/>
            <a:gdLst>
              <a:gd name="textAreaLeft" fmla="*/ 0 w 152280"/>
              <a:gd name="textAreaRight" fmla="*/ 106920 w 15228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2286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l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488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5113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7400" y="3151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f 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00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r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f l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20200" y="3174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342900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425760"/>
            <a:ext cx="8380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3920" y="3809880"/>
            <a:ext cx="470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U       : velocidad perif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        : espesor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bricación Hidr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8480" y="160020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673280"/>
            <a:ext cx="152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3760" y="16765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749600"/>
            <a:ext cx="152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132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26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88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7226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14479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447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371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371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0080" y="30481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121200"/>
            <a:ext cx="15264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76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63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48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0942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195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8195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809880"/>
            <a:ext cx="57909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 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Número característico o de de Sommer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686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ición del 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8120" y="281952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7920" y="582480"/>
            <a:ext cx="716256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lujo de lu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2895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c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68560"/>
            <a:ext cx="6858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ión máxima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eriales para cojinetes de desl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029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4240" y="10008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B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3160" y="1000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Rod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05756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85040" y="289548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cilín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esfér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cón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: de agu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: cónic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: cónicos de contacto 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1400" y="10008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2952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3960" y="16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219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2193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440" y="990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51460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3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4382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4382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152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9400" y="2819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819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8160" y="2362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42760" y="3484440"/>
            <a:ext cx="64350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: duración nominal en millones de revol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: duración nominal en horas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pacidad de carga dinámica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exponente empírico (p=3 rodamientos de bola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=10/3 rodamientos de rodil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velocidad constante de rotación,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120" y="100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ciones típ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2514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8320" y="3429000"/>
            <a:ext cx="44539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rad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ax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Cons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Fluctu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1600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2160" y="166356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4479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...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051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572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920" y="154944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9080" y="244152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209680"/>
            <a:ext cx="17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2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4880" y="259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590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560" y="241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4572000"/>
            <a:ext cx="160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(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10T12:26:09Z</dcterms:modified>
  <cp:revision>151</cp:revision>
  <dc:subject/>
  <dc:title>Sin título de diapositiva</dc:title>
</cp:coreProperties>
</file>