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DE4-847A-45C3-A61D-1EECDE59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CF4-8F3E-4F82-A1B6-C2758D89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6BF-77A0-4C00-896B-DC153DE6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F81-931F-40C5-8735-01154D83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073-F62C-4E93-8B70-039610D0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C33-BF62-489B-8A4C-C79D5931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3D9-4BD4-4C36-9427-EE5978E4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06E-FF37-4195-AB67-5182F047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8C2-85F8-42F2-8E25-533B5FE8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711-FEC8-4443-A17C-CC370CB9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4E8-9BB0-4600-9D7C-15AA2C2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E48-3D8E-4070-89A2-6E784C9D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C499-6D9B-4BA9-AC79-6DB89DBE0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748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8600" y="990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11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48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76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7048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1295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1289160"/>
            <a:ext cx="9144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43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80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208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704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289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- 0.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1800" y="2133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184788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2438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2432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30080" y="22096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1924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0.8 ·13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250812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2.7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12408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31240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.764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0.21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8.6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39816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4565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4267080"/>
            <a:ext cx="1067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?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413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471816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4.9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18720" y="1000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rtes Helic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26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14800" cy="257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2360" y="4002120"/>
            <a:ext cx="1293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6040" y="38098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128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1120" y="4114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360" y="380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2360" y="44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6960" y="438948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4923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5200" y="47242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3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7320" y="469440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23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9960" y="4389480"/>
            <a:ext cx="7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5760" y="492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84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600" y="46483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55627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6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672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9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776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4680" y="574524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92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7880" y="5943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594360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50400" y="5562720"/>
            <a:ext cx="98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= K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20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414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94360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71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68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960" y="571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6600" y="6400800"/>
            <a:ext cx="62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7200" y="3200400"/>
            <a:ext cx="58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corte por torsión;  b) corte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) resultante corte directo y to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) resultante corte directo torsión y curv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9400" y="45720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440" y="304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5880" y="914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8380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9760" y="18082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8880" y="1600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2920" y="221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4320" y="1905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6960" y="1600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13372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89548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7680" y="2660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27120" y="327672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193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0481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1400" y="4343400"/>
            <a:ext cx="62953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 : Factor de corrección de W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Efecto de curva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9040" y="228600"/>
            <a:ext cx="47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ormación de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447920"/>
            <a:ext cx="914400" cy="1447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0968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447920"/>
            <a:ext cx="1447920" cy="14475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14300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21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765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8600" y="1447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8600" y="2895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4479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7600" y="220968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19520" y="2209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195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2096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9920" y="2209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0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1800" y="762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1337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5720" y="2133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148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9960" y="11192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4360" y="1841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175896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0840" y="1530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2440" y="12254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6280" y="183528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175896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971800"/>
            <a:ext cx="703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5400" y="3505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422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260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3956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38040" y="4572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4895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6858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i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25120" y="2438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viación Angul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9400" y="3505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73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060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648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7440" y="4419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648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096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75520" y="464832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2960" y="53341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tante del res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6172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8360" y="5715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6172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2880" y="228600"/>
            <a:ext cx="52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de Fatiga en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53640" y="838080"/>
            <a:ext cx="139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217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5000" y="114300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13716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50160" y="21337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216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2666880"/>
            <a:ext cx="6141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5720" y="213372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7484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6668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2200" y="35053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2670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26708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42560" y="304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520" y="609480"/>
            <a:ext cx="415224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A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Resorte helicoidal de compre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iámetro exterior: 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0" i="1" lang="es-ES_tradnl" sz="2200" spc="-1" strike="noStrike" baseline="-25000">
                <a:solidFill>
                  <a:srgbClr val="ff9900"/>
                </a:solidFill>
                <a:latin typeface="Times New Roman"/>
              </a:rPr>
              <a:t>e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= 9/16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iámetro alambre: 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d = 0.091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Longitud libre: L = 3 1/8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Número de espiras activas: 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Precarga: Fi = 1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arga máxima: Fmax = 5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Extremos esmeri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Vida finita : 50 · 10</a:t>
            </a:r>
            <a:r>
              <a:rPr b="0" i="1" lang="es-CL" sz="22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cic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onfiabilidad : 99%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1600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8288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5146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743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12952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1828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4680" y="22860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5146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27432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971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1219320"/>
            <a:ext cx="1440" cy="24382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762120"/>
            <a:ext cx="0" cy="396216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89548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29718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88620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8288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198108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1880" y="129528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381880" y="19807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36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2960" y="38098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752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18288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19810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0574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22096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22860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24382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5146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26668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743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895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1600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1600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238880" y="16002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05720" y="31240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05720" y="3048120"/>
            <a:ext cx="8380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044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0960" y="4648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2200" y="4419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2200" y="4876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0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7280" y="46483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762120"/>
            <a:ext cx="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1000" y="838080"/>
            <a:ext cx="0" cy="762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1430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60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2920" y="46483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5.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12680" y="582120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6040" y="57913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920" y="5486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588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01992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9400" y="5745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992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380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7480" y="5943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9600" y="5715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8520" y="838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 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01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8000" y="1143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9560" y="2133720"/>
            <a:ext cx="146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72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920" y="243828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21337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012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8000" y="24382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1520" y="11430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2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560" y="243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8098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88400" y="365760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0040" y="42670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19112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2720" y="39625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38960" y="373392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2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17440" y="434340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4267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2920" y="396252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4.9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2578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88400" y="51055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040" y="57150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6386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2720" y="5410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8960" y="518148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3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17440" y="579132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5715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2920" y="541008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52.4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14600" y="213372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4480" y="189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83920" y="251460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40640" y="21844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7480" y="189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116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1480" y="6094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2880" y="374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69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907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8320" y="679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20960" y="3747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5880" y="98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907920"/>
            <a:ext cx="471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3080" y="633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3600" y="3747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907920"/>
            <a:ext cx="1295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520" y="685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4160" y="380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6440" y="990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9144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600" y="9907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2600" y="6858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9600" y="22096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34290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·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· S´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5181480"/>
            <a:ext cx="5181840" cy="57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814 ·0.843 · 45 = 30.9 k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/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33760" y="45720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álculo a fatiga con vida fini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1066680"/>
            <a:ext cx="31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log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b logN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8320" y="205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2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584440"/>
            <a:ext cx="30456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48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00016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58444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066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200016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58444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3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81640" y="38354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67240" y="355932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00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3886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276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3962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34290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495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0007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.091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2160" y="472428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0292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6760" y="472428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278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5638680"/>
            <a:ext cx="560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6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278 = 167 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0666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0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N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1295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2-09-11T15:43:51Z</dcterms:modified>
  <cp:revision>100</cp:revision>
  <dc:subject/>
  <dc:title>Sin título de diapositiva</dc:title>
</cp:coreProperties>
</file>