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9F8-4E13-4154-B016-FC063CFE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567-E5DC-468D-B160-2FDC6907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38A-D9A8-4AE6-9FD4-6798D361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1EA-9EBB-4153-9A8B-FBBBA990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E39-5C02-4BC7-918C-AEA3AF9E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743-DF63-4784-94D0-D5285F7D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A22-A582-4B30-8A03-9AA16065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195-E95B-4D05-AFEB-461C6EEE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CF3-C861-47AB-A03F-BE8B738A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42F-BF9C-48C5-AF16-8DBE3810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A12-D098-4809-B0DF-A8597F17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F2E-3EEB-474F-A483-9BA0D202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4BBA-527D-488F-9A33-EDEF2FDB1C6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5280" y="2819520"/>
            <a:ext cx="50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FRENOS Y EMBRAG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57480" y="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CINTA O BA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RENOS%20CINTA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867280" cy="344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9528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 + dP) cos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 - P cos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– f d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648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P – f d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54100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P/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3040" y="5334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3040" y="5562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8680" y="5334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8680" y="5562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05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5715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51814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57150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1800" y="51465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55627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5638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10080" y="52578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3341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63640" y="507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912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843200" y="0"/>
            <a:ext cx="53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Y EMBTAGUES 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FRENOS%20DISCO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038480" cy="3138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257800" y="9144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r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598800" y="65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6304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465960" y="1143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1981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1880" y="1905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1880" y="2133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2286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r dr= (D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84160" y="1676520"/>
            <a:ext cx="85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3070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8141760" y="2133720"/>
            <a:ext cx="621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19720" y="31240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6960" y="3048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6960" y="3276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2895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3124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f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r= 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007120" y="2971800"/>
            <a:ext cx="9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2306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066160" y="3429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4038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183640" y="3816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3352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246640" y="4267080"/>
            <a:ext cx="620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29920" y="39276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+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4648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esión unifor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47242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512520" y="44956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735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569760" y="4952880"/>
            <a:ext cx="621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8280" y="468936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583440" y="5187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7350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646440" y="5638680"/>
            <a:ext cx="620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4960" y="514656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10800" y="563868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5638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854720" y="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Y EMBRAGUES CO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RENOS%20CONICOS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343400" cy="3102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257800" y="9144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r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598800" y="65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6304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465960" y="1143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18288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1360" y="1752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1360" y="1981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dA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7840" y="2895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87840" y="3124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2743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2895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402600" y="3124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26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3200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784920" y="27432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 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859080" y="31240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3200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10280" y="29304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3886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564880" y="3657600"/>
            <a:ext cx="106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86836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91320" y="37749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105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20760" y="5029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20760" y="52578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f p d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68680" y="5029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8680" y="52578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54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8240" y="51404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96360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432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5410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346280" y="49528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 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420440" y="53341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54100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5181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4200" y="4952880"/>
            <a:ext cx="12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68360" y="533412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54100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3240" y="507060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088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esión unifor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12952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2514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050280" y="2286000"/>
            <a:ext cx="106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2014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743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24640" y="251460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41911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124080" y="3962520"/>
            <a:ext cx="12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972880" y="43434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419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90040" y="407988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87800" y="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TERIALES PARA FR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FRENOS%20MAT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62012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936800" y="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TERIALES PARA EMBRA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EMBRAGUES%20MAT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78168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74840" y="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LASIF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RENOS%20CLSIF" descr=""/>
          <p:cNvPicPr/>
          <p:nvPr/>
        </p:nvPicPr>
        <p:blipFill>
          <a:blip r:embed="rId1"/>
          <a:stretch/>
        </p:blipFill>
        <p:spPr>
          <a:xfrm>
            <a:off x="1123920" y="1033560"/>
            <a:ext cx="725796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RENOS%20CLASI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1814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ENOS%20CLAS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4977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53720" y="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ALISIS EST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ENOS%20ANALISIS%20EST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276720" cy="3222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30680" y="72720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ribución de pre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8880" y="1447920"/>
            <a:ext cx="9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68760" y="20574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quilibrio está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2920" y="2666880"/>
            <a:ext cx="139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6120" y="3346560"/>
            <a:ext cx="377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·b – N ·b+f ·N ·a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7280" y="3809880"/>
            <a:ext cx="181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 (b – f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26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43434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5105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5791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52578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58672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51814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5791320"/>
            <a:ext cx="190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760" y="4952880"/>
            <a:ext cx="38854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resión en cualquier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resión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: coeficiente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: superfici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42760" y="0"/>
            <a:ext cx="76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IN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RENOS%20ZAP%20INT" descr=""/>
          <p:cNvPicPr/>
          <p:nvPr/>
        </p:nvPicPr>
        <p:blipFill>
          <a:blip r:embed="rId1"/>
          <a:stretch/>
        </p:blipFill>
        <p:spPr>
          <a:xfrm>
            <a:off x="0" y="609480"/>
            <a:ext cx="4267080" cy="3922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914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4160" y="609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113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42240" y="61596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1149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2057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17524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2292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= p b r d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2895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 sen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781680" y="3429000"/>
            <a:ext cx="18288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5943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5638680"/>
            <a:ext cx="32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6172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617220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25780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15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191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1880" y="4038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1880" y="4267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1148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(r – a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105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1880" y="49528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1880" y="5181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a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6240" y="57913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60199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5867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r 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9600" y="59436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1143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1676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447920" y="1676160"/>
            <a:ext cx="8380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13716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– 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1371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066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1600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12952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B + f A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1600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514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anti-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2004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895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447920" y="342900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124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+ 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3124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3352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B - f A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0292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440" y="4876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4440" y="51055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502920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25780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7242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0958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4440" y="59436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4440" y="6172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609588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63244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7913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50292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(½ 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8769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25780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60199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(</a:t>
            </a: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4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58672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62485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33960" y="0"/>
            <a:ext cx="77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FRENOS%20ZAP%20EXT" descr=""/>
          <p:cNvPicPr/>
          <p:nvPr/>
        </p:nvPicPr>
        <p:blipFill>
          <a:blip r:embed="rId1"/>
          <a:stretch/>
        </p:blipFill>
        <p:spPr>
          <a:xfrm>
            <a:off x="0" y="685800"/>
            <a:ext cx="4359240" cy="4084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34120" y="1066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8380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1295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anti-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4419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48769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0574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1752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228600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1981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+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3124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3352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fA - B) +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193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55627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-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55627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-fA - B) +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8672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33960" y="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IME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FRENOS%20ZAP%20EXT%20SIMETR" descr=""/>
          <p:cNvPicPr/>
          <p:nvPr/>
        </p:nvPicPr>
        <p:blipFill>
          <a:blip r:embed="rId1"/>
          <a:stretch/>
        </p:blipFill>
        <p:spPr>
          <a:xfrm>
            <a:off x="0" y="914400"/>
            <a:ext cx="5410080" cy="367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1066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= p b r d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514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6280" y="23623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6280" y="2590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2438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(a 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r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193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5562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sen 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5334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3341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5562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sen 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a 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-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472428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- 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AN</cp:lastModifiedBy>
  <dcterms:modified xsi:type="dcterms:W3CDTF">2002-06-13T12:41:10Z</dcterms:modified>
  <cp:revision>192</cp:revision>
  <dc:subject/>
  <dc:title>Sin título de diapositiva</dc:title>
</cp:coreProperties>
</file>