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451-0B9D-4D0E-8B43-549EC46D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4E6-3B52-4518-A5A1-1FE8A343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EE8-54FD-406C-8B38-6A14154D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65AF-4815-4E30-9C2C-4F2B725A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19B-EF9D-42A0-9195-B7E459FD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33C-5B26-458A-B40F-61FF2D65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C35-B93F-402B-A931-ECB5E29D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B27-69CF-498B-A410-73055B5B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8BC-75F0-4B81-9F34-D2590F42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BD0-AC18-4B95-9368-1CA2FC18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DEF-9B21-47C5-B6AC-9EDF1727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15E-D995-4348-B3D1-4D142D27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4432-C212-4EA6-AC38-20534E352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1000" y="2060640"/>
            <a:ext cx="780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 CUAL ES SU OPINION SOBRE EL ACT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MARCO REGULATORIO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TRANSPORTE PUBL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QUE CAMBIOS INTRODUCIR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63880" y="2060640"/>
            <a:ext cx="674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 CUALES SON LOS ASPECTOS 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IMPORTANTES A CONSIDERAR EN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AMBIO TECNOLOG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53080" y="2060640"/>
            <a:ext cx="676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 CUALES SON LOS ASPECTOS 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IMPORTANTES A CONSIDERAR EN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FINICION DE LOS RECORRI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19200" y="2060640"/>
            <a:ext cx="60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 CUALES SON LAS VENTAJAS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SVENTAJAS D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MPRESARIZAC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13:50:08Z</dcterms:created>
  <dc:creator>Roberto Corvalán Paiva</dc:creator>
  <dc:description/>
  <dc:language>en-US</dc:language>
  <cp:lastModifiedBy>Roberto Corvalán Paiva</cp:lastModifiedBy>
  <dcterms:modified xsi:type="dcterms:W3CDTF">2002-11-09T13:50:53Z</dcterms:modified>
  <cp:revision>1</cp:revision>
  <dc:subject/>
  <dc:title>Diapositiva 1</dc:title>
</cp:coreProperties>
</file>