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5.jpeg" ContentType="image/jpeg"/>
  <Override PartName="/ppt/media/image8.jpeg" ContentType="image/jpeg"/>
  <Override PartName="/ppt/media/image10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8CE6-C037-400C-ADF3-E7999F95A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D7B0-EB00-450F-9C8C-256FF076C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F3D7-406C-4C18-B9C7-30C80E2C5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086E-17F4-41D8-BDBE-98E32BF08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F9B5-C457-4709-AE8C-39BCF1397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268D-9237-463B-807C-7DB2399B8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B1B0-74A3-4D39-86C9-F2ED50784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ACE7-756C-4F0E-BE36-3C037E874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B2A4-65AA-475C-8C74-4BBF46799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754E-43BF-4B44-ABDC-55643446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80B6-8219-4AF0-9F1E-FBA1AEA5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2864-3085-4850-BFD2-872052DE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2610A-EDC3-4518-B937-CB91F8C408C2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36040" y="2819520"/>
            <a:ext cx="481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ENGRANAJES RE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562840" y="100080"/>
            <a:ext cx="38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Esfuerzos sobre el d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EsfDiente" descr=""/>
          <p:cNvPicPr/>
          <p:nvPr/>
        </p:nvPicPr>
        <p:blipFill>
          <a:blip r:embed="rId1"/>
          <a:stretch/>
        </p:blipFill>
        <p:spPr>
          <a:xfrm>
            <a:off x="1981080" y="838080"/>
            <a:ext cx="4800600" cy="29005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59000" y="4191120"/>
            <a:ext cx="6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58840" y="3997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58840" y="4454640"/>
            <a:ext cx="66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I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58840" y="445464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25680" y="4267080"/>
            <a:ext cx="46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81080" y="403848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6 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57400" y="4495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t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81080" y="449568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38680" y="3962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15000" y="4419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44197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7680" y="4191120"/>
            <a:ext cx="46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629400" y="3962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53080" y="44197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4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29400" y="44197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259600" y="5257800"/>
            <a:ext cx="6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43600" y="502920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1992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943600" y="5486400"/>
            <a:ext cx="7621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6280" y="617868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Y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19920" y="5943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 x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72200" y="6400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19920" y="6400800"/>
            <a:ext cx="7617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24440" y="6172200"/>
            <a:ext cx="228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actor de for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06600" y="609480"/>
            <a:ext cx="54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nsiderando concentración de esfuerz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40080" y="1517760"/>
            <a:ext cx="6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24080" y="128916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00400" y="17463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124080" y="1746360"/>
            <a:ext cx="7621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26080" y="1523880"/>
            <a:ext cx="5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J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10080" y="128916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10080" y="174636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10080" y="174636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438280" y="266688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H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14800" y="25146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14800" y="2971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2520" y="2590920"/>
            <a:ext cx="75960" cy="685800"/>
          </a:xfrm>
          <a:custGeom>
            <a:avLst/>
            <a:gdLst>
              <a:gd name="textAreaLeft" fmla="*/ 22320 w 75960"/>
              <a:gd name="textAreaRight" fmla="*/ 76320 w 7596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95680" y="2590920"/>
            <a:ext cx="76320" cy="685800"/>
          </a:xfrm>
          <a:custGeom>
            <a:avLst/>
            <a:gdLst>
              <a:gd name="textAreaLeft" fmla="*/ 0 w 76320"/>
              <a:gd name="textAreaRight" fmla="*/ 5364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3800" y="243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4120" y="25146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34120" y="2971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4120" y="297180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181480" y="259092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715000" y="2590920"/>
            <a:ext cx="76320" cy="685800"/>
          </a:xfrm>
          <a:custGeom>
            <a:avLst/>
            <a:gdLst>
              <a:gd name="textAreaLeft" fmla="*/ 0 w 76320"/>
              <a:gd name="textAreaRight" fmla="*/ 5364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92760" y="2438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6080" y="2743200"/>
            <a:ext cx="3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362320" y="373392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H = 0.34 – 0.4583662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362320" y="42670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 = 0.316 – 0.4583662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362320" y="487692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 = 0.29 – 0.4583662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78680" y="5943600"/>
            <a:ext cx="5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362320" y="570852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(b – 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362320" y="616572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d/2) + b - 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362320" y="6165720"/>
            <a:ext cx="175248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650480" y="5943600"/>
            <a:ext cx="195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radio fi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08040" y="609480"/>
            <a:ext cx="40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nsiderando factor dinámi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125880" y="1517760"/>
            <a:ext cx="6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09880" y="128916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175248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9880" y="1746360"/>
            <a:ext cx="7621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82040" y="3546360"/>
            <a:ext cx="711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38480" y="25146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733920" y="29718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50 +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733920" y="2971800"/>
            <a:ext cx="1371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24280" y="3048120"/>
            <a:ext cx="3049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62520" y="3581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4038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78 +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657600" y="4038480"/>
            <a:ext cx="13716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648320" y="4114800"/>
            <a:ext cx="3045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4648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1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9880" y="51055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1200 + 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9880" y="5105520"/>
            <a:ext cx="1371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76720" y="2666880"/>
            <a:ext cx="304560" cy="2743200"/>
          </a:xfrm>
          <a:custGeom>
            <a:avLst/>
            <a:gdLst>
              <a:gd name="textAreaLeft" fmla="*/ 194760 w 304560"/>
              <a:gd name="textAreaRight" fmla="*/ 304920 w 30456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FacFormaLewis" descr=""/>
          <p:cNvPicPr/>
          <p:nvPr/>
        </p:nvPicPr>
        <p:blipFill>
          <a:blip r:embed="rId1"/>
          <a:stretch/>
        </p:blipFill>
        <p:spPr>
          <a:xfrm>
            <a:off x="1981080" y="838080"/>
            <a:ext cx="4668840" cy="60199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3124800" y="228600"/>
            <a:ext cx="252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actor de forma 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970360" y="228600"/>
            <a:ext cx="277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actor geométrico 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FactGeometrico%20J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6324840" cy="54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084120" y="100080"/>
            <a:ext cx="28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Cálculo a la Fati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895480" y="990720"/>
            <a:ext cx="281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 =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81080" y="2590920"/>
            <a:ext cx="518184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superfic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tam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conf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d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temper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concentración de esfuerz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efectos v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750040" y="609480"/>
            <a:ext cx="3239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actor de Superficie;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FactorSuperficie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477120" cy="43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753280" y="609480"/>
            <a:ext cx="299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actor de Tamaño;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Factortamaño" descr=""/>
          <p:cNvPicPr/>
          <p:nvPr/>
        </p:nvPicPr>
        <p:blipFill>
          <a:blip r:embed="rId1"/>
          <a:stretch/>
        </p:blipFill>
        <p:spPr>
          <a:xfrm>
            <a:off x="1523880" y="2362320"/>
            <a:ext cx="6248520" cy="25351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447280" y="1752480"/>
            <a:ext cx="380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para P &gt; 12 dientes/pul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1674720" y="2324160"/>
          <a:ext cx="5641920" cy="2900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4720" y="2324160"/>
                    <a:ext cx="5641920" cy="290016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2748960" y="609480"/>
            <a:ext cx="3619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actor de confiabilidad;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752200" y="609480"/>
            <a:ext cx="359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actor de Temperatura;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d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8720" y="3200400"/>
            <a:ext cx="65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d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057400" y="2286000"/>
            <a:ext cx="5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1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17360" y="3048120"/>
            <a:ext cx="29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1 – 5.8 · 10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(T – 45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917360" y="4038480"/>
            <a:ext cx="29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1 – 3.2 · 10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(T – 84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327360" y="2133720"/>
            <a:ext cx="153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 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&lt;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450 º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867280" y="30481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450 ºC &lt; T 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&lt;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550 º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867280" y="3962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840 ºF &lt; T 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&lt;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1020 º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95280" y="2362320"/>
            <a:ext cx="228600" cy="2057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387240" y="10008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Clas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6360" y="3581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j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51760" y="1371600"/>
            <a:ext cx="359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aralelos en el mismo pl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866200" y="1066680"/>
            <a:ext cx="228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ilíndricos r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51400" y="2819520"/>
            <a:ext cx="362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e cortan en el mismo pl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74360" y="4572000"/>
            <a:ext cx="388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e cruzan perpendicular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99120" y="5715000"/>
            <a:ext cx="385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e cruzan en cualquier áng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866200" y="1600200"/>
            <a:ext cx="29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ilíndricos helicoid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866920" y="2209680"/>
            <a:ext cx="197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ónicos r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866920" y="2819520"/>
            <a:ext cx="266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ónicos helicoid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66920" y="3352680"/>
            <a:ext cx="231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ónicos espir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2520" y="4114800"/>
            <a:ext cx="187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tornillo sin-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43600" y="4724280"/>
            <a:ext cx="163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helicoid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43960" y="5181480"/>
            <a:ext cx="225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ónicos hipo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19920" y="5715000"/>
            <a:ext cx="163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helicoid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66680" y="1447920"/>
            <a:ext cx="457200" cy="4647960"/>
          </a:xfrm>
          <a:custGeom>
            <a:avLst/>
            <a:gdLst>
              <a:gd name="textAreaLeft" fmla="*/ 292320 w 457200"/>
              <a:gd name="textAreaRight" fmla="*/ 457560 w 457200"/>
              <a:gd name="textAreaTop" fmla="*/ 120960 h 4647960"/>
              <a:gd name="textAreaBottom" fmla="*/ 4527000 h 4647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62720" y="1143000"/>
            <a:ext cx="304560" cy="838080"/>
          </a:xfrm>
          <a:custGeom>
            <a:avLst/>
            <a:gdLst>
              <a:gd name="textAreaLeft" fmla="*/ 194760 w 304560"/>
              <a:gd name="textAreaRight" fmla="*/ 304920 w 3045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562720" y="2362320"/>
            <a:ext cx="304560" cy="1295280"/>
          </a:xfrm>
          <a:custGeom>
            <a:avLst/>
            <a:gdLst>
              <a:gd name="textAreaLeft" fmla="*/ 194760 w 304560"/>
              <a:gd name="textAreaRight" fmla="*/ 304920 w 30456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4191120"/>
            <a:ext cx="304560" cy="1218960"/>
          </a:xfrm>
          <a:custGeom>
            <a:avLst/>
            <a:gdLst>
              <a:gd name="textAreaLeft" fmla="*/ 194760 w 304560"/>
              <a:gd name="textAreaRight" fmla="*/ 304920 w 30456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562720" y="5715000"/>
            <a:ext cx="304560" cy="380880"/>
          </a:xfrm>
          <a:custGeom>
            <a:avLst/>
            <a:gdLst>
              <a:gd name="textAreaLeft" fmla="*/ 194760 w 304560"/>
              <a:gd name="textAreaRight" fmla="*/ 304920 w 30456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835280" y="609480"/>
            <a:ext cx="5329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actor de Concentración de Esfuerzos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434600" y="2030400"/>
            <a:ext cx="586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La  Concentración de Esfuerzos está considerada en  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factor geométrico 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3886200"/>
            <a:ext cx="89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752480" y="3886200"/>
            <a:ext cx="1067040" cy="533520"/>
          </a:xfrm>
          <a:prstGeom prst="rightArrow">
            <a:avLst>
              <a:gd name="adj1" fmla="val 50000"/>
              <a:gd name="adj2" fmla="val 50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156120" y="100080"/>
            <a:ext cx="272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Fatiga Super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906640" y="1523880"/>
            <a:ext cx="74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09880" y="128916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9880" y="175248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33920" y="1752480"/>
            <a:ext cx="91440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11040" y="1447920"/>
            <a:ext cx="45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14200" y="2590920"/>
            <a:ext cx="299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0.4 · H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– 10 Kp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449720" y="3581280"/>
            <a:ext cx="5218920" cy="29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Límite fatiga superficial del engr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Límite fatiga superficial del mate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Factor de d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Factor de relación de dur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Factor de temper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Factor de conf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CL%20y%20CR%20E%20Rectos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620120" cy="19555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000080" y="0"/>
            <a:ext cx="68374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Factor de duración C</a:t>
            </a:r>
            <a:r>
              <a:rPr b="0" i="1" lang="es-ES_tradnl" sz="2400" spc="-1" strike="noStrike" baseline="-25000">
                <a:solidFill>
                  <a:srgbClr val="ffff00"/>
                </a:solidFill>
                <a:latin typeface="Times New Roman"/>
              </a:rPr>
              <a:t>L</a:t>
            </a: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  y  Factor de confiabilidad C</a:t>
            </a:r>
            <a:r>
              <a:rPr b="0" i="1" lang="es-ES_tradnl" sz="2400" spc="-1" strike="noStrike" baseline="-25000">
                <a:solidFill>
                  <a:srgbClr val="ffff00"/>
                </a:solidFill>
                <a:latin typeface="Times New Roman"/>
              </a:rPr>
              <a:t>R</a:t>
            </a: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45280" y="3276720"/>
            <a:ext cx="440208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Factor de relación de dureza, C</a:t>
            </a:r>
            <a:r>
              <a:rPr b="0" i="1" lang="es-ES_tradnl" sz="2400" spc="-1" strike="noStrike" baseline="-25000">
                <a:solidFill>
                  <a:srgbClr val="ffff00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Engranajes rectos : 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1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6840" y="4876920"/>
            <a:ext cx="35928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Factor de temperatura C</a:t>
            </a:r>
            <a:r>
              <a:rPr b="0" i="1" lang="es-ES_tradnl" sz="2400" spc="-1" strike="noStrike" baseline="-25000">
                <a:solidFill>
                  <a:srgbClr val="ffff00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 :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 &lt; 250 ºF   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1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743200" y="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Factor de 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1447920"/>
            <a:ext cx="281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= K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19320" y="3200400"/>
            <a:ext cx="71625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Factor de seguridad para el cálculo de engran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 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Factor de sobre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Factor de distribución de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    : Factor de seguridad conve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E%20Rectos%20Fact%20Sobrecarga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815328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E%20Rectos%20Fact%20DistCarga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7315200" cy="25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051640" y="100080"/>
            <a:ext cx="477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Selección del tipo de Engran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Selección%20Engranajes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7848720" cy="56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448080" y="100080"/>
            <a:ext cx="19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Defini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DefEngranajes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5639040" cy="45244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295280" y="29718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95280" y="38098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19320" y="47242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9718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00200" y="380988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6880" y="320040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Aden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0920" y="403848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eden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DefEngrane" descr=""/>
          <p:cNvPicPr/>
          <p:nvPr/>
        </p:nvPicPr>
        <p:blipFill>
          <a:blip r:embed="rId1"/>
          <a:stretch/>
        </p:blipFill>
        <p:spPr>
          <a:xfrm>
            <a:off x="609480" y="930240"/>
            <a:ext cx="784872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AccionDientes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6705720" cy="54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345840" y="100080"/>
            <a:ext cx="22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Nomencl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NomenclaturaEngr" descr=""/>
          <p:cNvPicPr/>
          <p:nvPr/>
        </p:nvPicPr>
        <p:blipFill>
          <a:blip r:embed="rId1"/>
          <a:stretch/>
        </p:blipFill>
        <p:spPr>
          <a:xfrm>
            <a:off x="1981080" y="609480"/>
            <a:ext cx="47260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415600" y="100080"/>
            <a:ext cx="41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Relaciones Fundamen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920" y="838080"/>
            <a:ext cx="6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673440" y="644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73440" y="1101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73440" y="1101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073280" y="879480"/>
            <a:ext cx="68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9608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96080" y="685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96080" y="1143000"/>
            <a:ext cx="3812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4080" y="1724040"/>
            <a:ext cx="6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657600" y="15303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19875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33920" y="198756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83808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aso diametr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578920" y="8730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ódu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1758960"/>
            <a:ext cx="19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aso circul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69240" y="1752480"/>
            <a:ext cx="10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249600" y="1752480"/>
            <a:ext cx="10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p=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40120" y="3352680"/>
            <a:ext cx="35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adio circunferencia b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327672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r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3120" y="4038480"/>
            <a:ext cx="31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istancia entre cent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25720" y="404496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 = b -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34800" y="2666880"/>
            <a:ext cx="15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aso b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0" y="266688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p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61960" y="464832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Arco de ac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24280" y="464832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+ 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09600" y="5410080"/>
            <a:ext cx="75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807160" y="5673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807160" y="521640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07160" y="5673600"/>
            <a:ext cx="38088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42120" y="5369040"/>
            <a:ext cx="28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elación de contac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09360" y="6019920"/>
            <a:ext cx="525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ongitud de la línea de acción de ac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6019920"/>
            <a:ext cx="221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b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p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970000" y="100080"/>
            <a:ext cx="30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Análisis de Fuer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Fzas%20EngRectos%201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1716120" cy="3276720"/>
          </a:xfrm>
          <a:prstGeom prst="rect">
            <a:avLst/>
          </a:prstGeom>
          <a:ln w="0">
            <a:noFill/>
          </a:ln>
        </p:spPr>
      </p:pic>
      <p:pic>
        <p:nvPicPr>
          <p:cNvPr id="112" name="Fzas%20EngRectos%202" descr=""/>
          <p:cNvPicPr/>
          <p:nvPr/>
        </p:nvPicPr>
        <p:blipFill>
          <a:blip r:embed="rId2"/>
          <a:stretch/>
        </p:blipFill>
        <p:spPr>
          <a:xfrm>
            <a:off x="2895480" y="914400"/>
            <a:ext cx="2148120" cy="3276720"/>
          </a:xfrm>
          <a:prstGeom prst="rect">
            <a:avLst/>
          </a:prstGeom>
          <a:ln w="0">
            <a:noFill/>
          </a:ln>
        </p:spPr>
      </p:pic>
      <p:pic>
        <p:nvPicPr>
          <p:cNvPr id="113" name="Fzas%20EngRectos%203" descr=""/>
          <p:cNvPicPr/>
          <p:nvPr/>
        </p:nvPicPr>
        <p:blipFill>
          <a:blip r:embed="rId3"/>
          <a:stretch/>
        </p:blipFill>
        <p:spPr>
          <a:xfrm>
            <a:off x="5715000" y="914400"/>
            <a:ext cx="2897280" cy="32004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85800" y="4419720"/>
            <a:ext cx="254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arga transmiti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38480" y="441972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F 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3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3200" y="49528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5029200"/>
            <a:ext cx="685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 = 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3828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4800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38280" y="5257800"/>
            <a:ext cx="3812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95480" y="502920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1400" y="579132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otenc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38280" y="5867280"/>
            <a:ext cx="685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= 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6095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33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563868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·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609588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00600" y="5867280"/>
            <a:ext cx="685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 = 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6095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8640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· d ·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86400" y="609588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4:27:20Z</dcterms:created>
  <dc:creator>ROBERTO CORVALAN PAIVA</dc:creator>
  <dc:description/>
  <dc:language>en-US</dc:language>
  <cp:lastModifiedBy>Roberto Corvalán Paiva</cp:lastModifiedBy>
  <dcterms:modified xsi:type="dcterms:W3CDTF">2001-10-08T19:29:33Z</dcterms:modified>
  <cp:revision>152</cp:revision>
  <dc:subject/>
  <dc:title>Sin título de diapositiva</dc:title>
</cp:coreProperties>
</file>