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7E8A-0E92-4D44-BE5B-A1F8F1D31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1C10-C1D3-42BB-90CA-3968A3B37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9912-EA82-4975-85C5-7E0DE90BD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4AE1-9107-4926-AD14-AE0F18CD8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708C-0CA9-41A1-ACAD-6F97293BB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C941-C7F4-4B5B-9EC5-5F0247DB0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BDEC-FA85-4500-BB89-C9328A038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0D9A-4976-4A71-BCB2-7DB39A876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1E41-4701-4D38-ADA9-AAAECB0A7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6282-817E-4F9C-8063-31639B14B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3FFC-8474-4282-9846-70D20774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6D7D-F0B7-44E6-B518-D52943BE1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9EA76-ECD3-42A8-A4AD-514C3D88732F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6520" y="2819520"/>
            <a:ext cx="615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ENGRANAJES HELICOID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PARALE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E%20Rectos%20Fact%20DistCarga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534520" cy="29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676520" y="2819520"/>
            <a:ext cx="615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ENGRANAJES HELICOID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CRUZ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E%20HelicCrzados%20Sesgo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315200" cy="39304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33520" y="4495680"/>
            <a:ext cx="2454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±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2680" y="5562720"/>
            <a:ext cx="6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3880" y="5334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143000" y="579744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19320" y="579132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649760" y="4495680"/>
            <a:ext cx="382140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Symbol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ángulo entre e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ángulo hélice engranaje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 : diámetro de pa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 : número de 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paso diametral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448080" y="100080"/>
            <a:ext cx="19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Defini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E%20HelicParal%20Ralaciones" descr=""/>
          <p:cNvPicPr/>
          <p:nvPr/>
        </p:nvPicPr>
        <p:blipFill>
          <a:blip r:embed="rId1"/>
          <a:stretch/>
        </p:blipFill>
        <p:spPr>
          <a:xfrm>
            <a:off x="1066680" y="457200"/>
            <a:ext cx="6782040" cy="3409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760" y="4267080"/>
            <a:ext cx="3691800" cy="25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paso circular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paso circular transve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paso circular ax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ángulo de la hél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paso diametral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66520" y="4267080"/>
            <a:ext cx="4671720" cy="21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paso diametral transve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ángulo presión plano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ángulo presión plano transve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número de 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`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número virtual de 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279240" y="0"/>
            <a:ext cx="17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Rel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368880" y="1143000"/>
            <a:ext cx="1716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60960" y="2209680"/>
            <a:ext cx="692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49520" y="190512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116240" y="2438280"/>
            <a:ext cx="8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a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91120" y="24382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37640" y="3505320"/>
            <a:ext cx="73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25480" y="3200400"/>
            <a:ext cx="41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192920" y="3733920"/>
            <a:ext cx="8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37339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9520" y="4648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98680" y="4343400"/>
            <a:ext cx="970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a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99760" y="4876920"/>
            <a:ext cx="898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a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48769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78520" y="5791320"/>
            <a:ext cx="76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`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267080" y="5486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46760" y="6019920"/>
            <a:ext cx="96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s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14800" y="60199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970000" y="100080"/>
            <a:ext cx="30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Análisis de Fuerz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257800" y="91440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W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E%20HelicParal%20Fuerzas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4038480" cy="37749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334120" y="1600200"/>
            <a:ext cx="2819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W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410080" y="2666880"/>
            <a:ext cx="281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W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10080" y="3429000"/>
            <a:ext cx="198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ta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10080" y="4191120"/>
            <a:ext cx="281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ta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78520" y="5486400"/>
            <a:ext cx="7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7760" y="5257800"/>
            <a:ext cx="48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46760" y="5715000"/>
            <a:ext cx="1679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114800" y="571500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562840" y="100080"/>
            <a:ext cx="387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Esfuerzos sobre el d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3920" y="762120"/>
            <a:ext cx="64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47920" y="53352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95280" y="106668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F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47920" y="99072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198108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- 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14600" y="17524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09680" y="2286000"/>
            <a:ext cx="144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F d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362320" y="2209680"/>
            <a:ext cx="99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760400" y="1752480"/>
            <a:ext cx="58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0" y="182880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3124080"/>
            <a:ext cx="144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07760" y="2819520"/>
            <a:ext cx="58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362320" y="2819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57400" y="33526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78+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09680" y="327672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133720" y="2895480"/>
            <a:ext cx="1218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971800" y="34290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41148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I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24480" y="3886200"/>
            <a:ext cx="1637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19320" y="43434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 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3434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95480" y="3886200"/>
            <a:ext cx="838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02440" y="4343400"/>
            <a:ext cx="103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43434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3920" y="5070600"/>
            <a:ext cx="875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05720" y="4800600"/>
            <a:ext cx="45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5334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0.95 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533412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0760" y="609588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Z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6019920"/>
            <a:ext cx="24382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i="1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a)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– r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609588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6019920"/>
            <a:ext cx="24382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i="1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a)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– r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86200" y="609588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55000" y="6054840"/>
            <a:ext cx="2059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26240" y="601992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868720" y="601992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E%20HelicParal%20Nomenc" descr=""/>
          <p:cNvPicPr/>
          <p:nvPr/>
        </p:nvPicPr>
        <p:blipFill>
          <a:blip r:embed="rId1"/>
          <a:stretch/>
        </p:blipFill>
        <p:spPr>
          <a:xfrm>
            <a:off x="3886200" y="1143000"/>
            <a:ext cx="525780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E%20HelicParal%20FactorJ" descr=""/>
          <p:cNvPicPr/>
          <p:nvPr/>
        </p:nvPicPr>
        <p:blipFill>
          <a:blip r:embed="rId1"/>
          <a:stretch/>
        </p:blipFill>
        <p:spPr>
          <a:xfrm>
            <a:off x="152280" y="1295280"/>
            <a:ext cx="89917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084120" y="100080"/>
            <a:ext cx="28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Cálculo a la Fati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685800"/>
            <a:ext cx="2819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 =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5720" y="1752480"/>
            <a:ext cx="74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19320" y="151776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L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·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198108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·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43000" y="1981080"/>
            <a:ext cx="91440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20120" y="1676520"/>
            <a:ext cx="45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90720" y="990720"/>
            <a:ext cx="2991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0.4 · H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– 10 Kp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E%20HelicParal%20NomencResist" descr=""/>
          <p:cNvPicPr/>
          <p:nvPr/>
        </p:nvPicPr>
        <p:blipFill>
          <a:blip r:embed="rId1"/>
          <a:stretch/>
        </p:blipFill>
        <p:spPr>
          <a:xfrm>
            <a:off x="1143000" y="2590920"/>
            <a:ext cx="6553080" cy="41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E%20HelicParal%20CH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010280" cy="521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743200" y="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Factor de Segu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95480" y="1447920"/>
            <a:ext cx="281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 = K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0 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19320" y="3200400"/>
            <a:ext cx="716256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Factor de seguridad para el cálculo de engran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 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Factor de sobre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Factor de distribución de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    : Factor de seguridad conven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14:27:20Z</dcterms:created>
  <dc:creator>ROBERTO CORVALAN PAIVA</dc:creator>
  <dc:description/>
  <dc:language>en-US</dc:language>
  <cp:lastModifiedBy>Roberto Corvalán Paiva</cp:lastModifiedBy>
  <dcterms:modified xsi:type="dcterms:W3CDTF">2001-10-10T13:49:35Z</dcterms:modified>
  <cp:revision>159</cp:revision>
  <dc:subject/>
  <dc:title>Sin título de diapositiva</dc:title>
</cp:coreProperties>
</file>