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3762-F62A-4F43-8F03-5C96B286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C389-1B97-446C-B92A-4E3B49CD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28D5-539B-4F94-A038-44DC2DA0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D593-D923-43F6-8F5D-27DB070A3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696B-BF17-479B-BA1F-B7EFB79D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E6B1-666B-49DC-8214-CF42AD98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4B59-C8EA-47E5-8040-58CC0D00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3C88-34DC-4231-A295-7FF3817D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C203-E37F-4014-8B12-050E0400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D38A-4A96-4BDA-B0D6-2DCBE009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BCED-50D7-4660-A138-2B7A6B82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9E70-AF56-4246-8337-2C588E92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7387-D940-484C-A02F-306670692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99440" y="2819520"/>
            <a:ext cx="542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ORNILLOS DE PO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11880" y="533520"/>
            <a:ext cx="36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r requerido para pre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461360" y="3200400"/>
            <a:ext cx="167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= 0.2 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07320" y="27432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29600" y="990720"/>
            <a:ext cx="60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21320" y="1523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9520" y="1523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7280" y="990720"/>
            <a:ext cx="21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9880" y="152388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ta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86200" y="15238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657600" y="114300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2200" y="114300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86440" y="3124080"/>
            <a:ext cx="31888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 = 0.2 ;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0.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553080" y="327672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66880" y="9907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848720" y="990720"/>
            <a:ext cx="152280" cy="99036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336360" y="1289160"/>
            <a:ext cx="1598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 0.625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05000" y="1295280"/>
            <a:ext cx="113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=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rot="16200000">
            <a:off x="4991040" y="-190440"/>
            <a:ext cx="685800" cy="5181480"/>
          </a:xfrm>
          <a:custGeom>
            <a:avLst/>
            <a:gdLst>
              <a:gd name="textAreaLeft" fmla="*/ 438120 w 685800"/>
              <a:gd name="textAreaRight" fmla="*/ 686160 w 6858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2120" y="320040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686600" y="3124080"/>
            <a:ext cx="141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= K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45880" y="403848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uerza de pre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26640" y="48006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44640" y="4495680"/>
            <a:ext cx="36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97760" y="5105520"/>
            <a:ext cx="88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86600" y="5029200"/>
            <a:ext cx="914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9640" y="4876920"/>
            <a:ext cx="192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nP(1 -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0760" y="533520"/>
            <a:ext cx="548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s de fatiga en pernos precargad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1695600"/>
            <a:ext cx="801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86840" y="1981080"/>
            <a:ext cx="56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52480" y="19810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764720" y="1398600"/>
            <a:ext cx="94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-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21320" y="174636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76720" y="151776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352680" y="197496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58440" y="1981080"/>
            <a:ext cx="56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066680" y="297180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28800" y="297180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48960" y="327672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3276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48960" y="266688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54840" y="304164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09880" y="28130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86200" y="327024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91960" y="3276720"/>
            <a:ext cx="56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648320" y="29718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187600" y="327672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81480" y="3276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7600" y="274320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31560" y="20574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549560" y="1752480"/>
            <a:ext cx="36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402320" y="2362320"/>
            <a:ext cx="88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391520" y="2286000"/>
            <a:ext cx="914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139760" y="4191120"/>
            <a:ext cx="50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iterio de Falla (Goodman modificad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48006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276720" y="5403960"/>
            <a:ext cx="45720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84640" y="541008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33920" y="51055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76440" y="5410080"/>
            <a:ext cx="42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67080" y="5410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205880" y="4800600"/>
            <a:ext cx="543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78720" y="518148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551240" y="53352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iones con empaquetadu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380880" y="1219320"/>
            <a:ext cx="5257800" cy="3047760"/>
            <a:chOff x="380880" y="1219320"/>
            <a:chExt cx="5257800" cy="3047760"/>
          </a:xfrm>
        </p:grpSpPr>
        <p:pic>
          <p:nvPicPr>
            <p:cNvPr id="384" name="" descr=""/>
            <p:cNvPicPr/>
            <p:nvPr/>
          </p:nvPicPr>
          <p:blipFill>
            <a:blip r:embed="rId1"/>
            <a:stretch/>
          </p:blipFill>
          <p:spPr>
            <a:xfrm>
              <a:off x="609480" y="1447920"/>
              <a:ext cx="3886200" cy="25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3809880" y="1295280"/>
              <a:ext cx="1828800" cy="2971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0880" y="1219320"/>
              <a:ext cx="3581640" cy="609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7200" y="3276720"/>
              <a:ext cx="358128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5410080" y="1320840"/>
            <a:ext cx="19814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410080" y="2286000"/>
            <a:ext cx="19814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m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43000" y="3581280"/>
            <a:ext cx="72388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:  Area de la empaquetad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0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Presión mínima de sellado en la empaquetad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Factor de empaquetadura ( 2 a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 : Presión bajo la cual se tiende a la separación de 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itades de unió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5487480" y="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41767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5029200" y="609480"/>
            <a:ext cx="3581280" cy="29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A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Rosca cuad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6 hilos por pul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oble entrada (rosca do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iámtero mayor = 1 pul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s-CL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= 0.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es-CL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= 1.25 pulg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F = 1500 lb por torni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2133720" y="4572000"/>
            <a:ext cx="1904760" cy="16527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0" y="4724280"/>
            <a:ext cx="21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sca cuad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95680" y="42670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d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150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64160" y="44956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15000" y="44956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19720" y="5105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257800" y="4876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106960" y="53341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257800" y="533412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19720" y="6400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n 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95880" y="4267080"/>
            <a:ext cx="228600" cy="2590920"/>
          </a:xfrm>
          <a:custGeom>
            <a:avLst/>
            <a:gdLst>
              <a:gd name="textAreaLeft" fmla="*/ 0 w 228600"/>
              <a:gd name="textAreaRight" fmla="*/ 82440 w 22860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95680" y="579132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d -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553080" y="44956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0.9167 pul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553080" y="525780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0.8333 pul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53080" y="5943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l = 0.333 pul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907280" y="162072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601000" y="132228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21320" y="18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66880" y="1849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42920" y="1316160"/>
            <a:ext cx="1543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665880" y="1849320"/>
            <a:ext cx="131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733920" y="1849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05320" y="146844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1468440"/>
            <a:ext cx="75960" cy="762120"/>
          </a:xfrm>
          <a:custGeom>
            <a:avLst/>
            <a:gdLst>
              <a:gd name="textAreaLeft" fmla="*/ 0 w 75960"/>
              <a:gd name="textAreaRight" fmla="*/ 5328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183640" y="16272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577120" y="126540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793120" y="18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38680" y="18558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2760" y="762120"/>
            <a:ext cx="26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  contra la carg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11640" y="3581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144440" y="3352680"/>
            <a:ext cx="19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00 · 0.9167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30600" y="395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19320" y="3879720"/>
            <a:ext cx="167616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74920" y="3303720"/>
            <a:ext cx="29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0.33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0.08 ·0.9167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01120" y="383688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9167 - 0.08 ·0.3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048120" y="3505320"/>
            <a:ext cx="75960" cy="76176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095880" y="3505320"/>
            <a:ext cx="76320" cy="76176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174000" y="35812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554520" y="32004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00 ·0.08 ·1.2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46928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668680" y="487692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T = 136 + 75 = 211 lb · pul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52680" y="38098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629400" y="3782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78000" y="1295280"/>
            <a:ext cx="31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  a favor de la carg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50080" y="2438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43800" y="213984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64120" y="26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0968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286440" y="2133720"/>
            <a:ext cx="150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09400" y="2666880"/>
            <a:ext cx="134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48120" y="228600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2289240"/>
            <a:ext cx="76320" cy="76176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031000" y="23922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24480" y="203040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640480" y="262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86400" y="262080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3040" y="403236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897280" y="3657600"/>
            <a:ext cx="30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08 ·0.9167 - 0.33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96560" y="4267080"/>
            <a:ext cx="32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9167 + 0.08 · 0.33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971800" y="42670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819520" y="380988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5880" y="380988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174000" y="396252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352680" y="2639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915840" y="3733920"/>
            <a:ext cx="19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00 · 0.9167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602000" y="433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990720" y="42609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554520" y="36576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00 ·0.08 ·1.2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46928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629400" y="42400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97240" y="5181480"/>
            <a:ext cx="45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= -24.4 + 75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50 lb · pul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380520" y="1295280"/>
            <a:ext cx="159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iciencia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887280" y="1882800"/>
            <a:ext cx="8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3080" y="158436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495680" y="2209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0" y="220968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972880" y="3330720"/>
            <a:ext cx="8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54360" y="303228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500 · 0.3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114800" y="3657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·2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657600" y="3657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08800" y="4724280"/>
            <a:ext cx="209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 = 37.7 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5487480" y="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238640" cy="286704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5724360" y="404640"/>
            <a:ext cx="2135520" cy="30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A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0 – 36 k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= 5/8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’ = 18.4 k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30 M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12 M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l = 1.5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179280" y="3716280"/>
                <a:ext cx="439272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π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d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5508720" y="4149720"/>
                <a:ext cx="27352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2627280" y="0"/>
                <a:ext cx="3543480" cy="558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t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1979640" y="5445000"/>
                <a:ext cx="47577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15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3" name=""/>
          <p:cNvSpPr/>
          <p:nvPr/>
        </p:nvSpPr>
        <p:spPr>
          <a:xfrm>
            <a:off x="4859280" y="2637000"/>
            <a:ext cx="288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523880" y="1397160"/>
            <a:ext cx="3984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2916360" y="549360"/>
                <a:ext cx="25192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1959120" y="193824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843280" y="19162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27640" y="1916280"/>
            <a:ext cx="5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64000" y="1916280"/>
            <a:ext cx="5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076720" y="19162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40360" y="19162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908000" y="2492280"/>
            <a:ext cx="6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62728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2.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419640" y="2492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8.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140360" y="2492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0.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93236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1.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9600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4.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835280" y="2349360"/>
            <a:ext cx="47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484360" y="1916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3348000" y="3284640"/>
                <a:ext cx="26640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2340000" y="4005360"/>
                <a:ext cx="1584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5148360" y="4005360"/>
                <a:ext cx="18349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rPr>
                        <m:lit/>
                        <m:nor/>
                      </m:rPr>
                      <m:t xml:space="preserve">kps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4284720" y="4797360"/>
                <a:ext cx="39592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ín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á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611280" y="5013360"/>
                <a:ext cx="2881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ki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90920" y="609480"/>
            <a:ext cx="3733560" cy="2398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080" y="3429000"/>
            <a:ext cx="2514600" cy="1827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429000" y="3429000"/>
            <a:ext cx="2133720" cy="1851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3429000"/>
            <a:ext cx="2362320" cy="1833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78360" y="10008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pos de Ros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46880" y="540720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American N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Un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7760" y="548316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uad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41600" y="5562720"/>
            <a:ext cx="14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Trapezoid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Ac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3463200" y="2819520"/>
            <a:ext cx="250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M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5105520" cy="50292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5562720" y="2133720"/>
            <a:ext cx="3581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) Carga de c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b) Flexión del rem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) Corte del rem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) Falla por tracción en l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le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) Aplastamiento del rem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obre los ele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) Desgarre por c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g) Desgarre por c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298800" y="304920"/>
            <a:ext cx="58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en el remache por flexión (b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973240" y="91440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59040" y="685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657960" y="122544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733920" y="1219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116600" y="101448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572360" y="67932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t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725000" y="121932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48320" y="1212840"/>
            <a:ext cx="6094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51440" y="1676520"/>
            <a:ext cx="46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corte en el remache (c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278160" y="239544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192560" y="21272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192560" y="2743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14800" y="266076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25960" y="3200400"/>
            <a:ext cx="83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de tracción en uno de los elementos de unión (d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78160" y="388620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116240" y="3651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116240" y="4267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038480" y="418464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71520" y="4800600"/>
            <a:ext cx="825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de aplastamiento en el remache o elementos (e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896920" y="555480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735360" y="5319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735360" y="5935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657600" y="585324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45400" y="5486400"/>
            <a:ext cx="125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t ·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1136880" y="609480"/>
            <a:ext cx="52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llas por desgarre de elementos (f y g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09680" y="1981080"/>
            <a:ext cx="0" cy="19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09680" y="32767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3429000" y="1752480"/>
            <a:ext cx="0" cy="19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209680" y="1752480"/>
            <a:ext cx="1219320" cy="254160"/>
          </a:xfrm>
          <a:custGeom>
            <a:avLst/>
            <a:gdLst/>
            <a:ahLst/>
            <a:rect l="l" t="t" r="r" b="b"/>
            <a:pathLst>
              <a:path w="768" h="160">
                <a:moveTo>
                  <a:pt x="0" y="144"/>
                </a:moveTo>
                <a:cubicBezTo>
                  <a:pt x="28" y="144"/>
                  <a:pt x="56" y="144"/>
                  <a:pt x="96" y="144"/>
                </a:cubicBezTo>
                <a:cubicBezTo>
                  <a:pt x="136" y="144"/>
                  <a:pt x="200" y="160"/>
                  <a:pt x="240" y="144"/>
                </a:cubicBezTo>
                <a:cubicBezTo>
                  <a:pt x="280" y="128"/>
                  <a:pt x="296" y="64"/>
                  <a:pt x="336" y="48"/>
                </a:cubicBezTo>
                <a:cubicBezTo>
                  <a:pt x="376" y="32"/>
                  <a:pt x="432" y="48"/>
                  <a:pt x="480" y="48"/>
                </a:cubicBezTo>
                <a:cubicBezTo>
                  <a:pt x="528" y="48"/>
                  <a:pt x="576" y="56"/>
                  <a:pt x="624" y="48"/>
                </a:cubicBezTo>
                <a:cubicBezTo>
                  <a:pt x="672" y="40"/>
                  <a:pt x="744" y="8"/>
                  <a:pt x="76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209680" y="3733920"/>
            <a:ext cx="1219320" cy="253800"/>
          </a:xfrm>
          <a:custGeom>
            <a:avLst/>
            <a:gdLst/>
            <a:ahLst/>
            <a:rect l="l" t="t" r="r" b="b"/>
            <a:pathLst>
              <a:path w="768" h="160">
                <a:moveTo>
                  <a:pt x="0" y="144"/>
                </a:moveTo>
                <a:cubicBezTo>
                  <a:pt x="28" y="144"/>
                  <a:pt x="56" y="144"/>
                  <a:pt x="96" y="144"/>
                </a:cubicBezTo>
                <a:cubicBezTo>
                  <a:pt x="136" y="144"/>
                  <a:pt x="200" y="160"/>
                  <a:pt x="240" y="144"/>
                </a:cubicBezTo>
                <a:cubicBezTo>
                  <a:pt x="280" y="128"/>
                  <a:pt x="296" y="64"/>
                  <a:pt x="336" y="48"/>
                </a:cubicBezTo>
                <a:cubicBezTo>
                  <a:pt x="376" y="32"/>
                  <a:pt x="432" y="48"/>
                  <a:pt x="480" y="48"/>
                </a:cubicBezTo>
                <a:cubicBezTo>
                  <a:pt x="528" y="48"/>
                  <a:pt x="576" y="56"/>
                  <a:pt x="624" y="48"/>
                </a:cubicBezTo>
                <a:cubicBezTo>
                  <a:pt x="672" y="40"/>
                  <a:pt x="744" y="8"/>
                  <a:pt x="76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819520" y="2209680"/>
            <a:ext cx="0" cy="23623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828800" y="281952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505320" y="3276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209680" y="40384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209680" y="43434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809880" y="28195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363400" y="3962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87280" y="2819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257800" y="27432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 &gt;1.5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666880" y="2666880"/>
            <a:ext cx="304920" cy="30492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141920" y="0"/>
            <a:ext cx="686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ENTROIDE DE GRUPOS DE PERNOS O REMACHE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352680" y="1143000"/>
            <a:ext cx="228600" cy="22860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800600" y="1828800"/>
            <a:ext cx="228600" cy="22860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486400" y="1219320"/>
            <a:ext cx="228600" cy="22860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1280" y="2666880"/>
            <a:ext cx="228600" cy="22860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181480" y="3124080"/>
            <a:ext cx="228600" cy="22860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209680" y="685800"/>
            <a:ext cx="0" cy="3124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09680" y="3809880"/>
            <a:ext cx="4800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84640" y="228600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284640" y="7621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799240" y="8380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808880" y="19810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418360" y="297180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419720" y="2057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2209680" y="2133720"/>
            <a:ext cx="2286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495680" y="2133720"/>
            <a:ext cx="0" cy="16761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06200" y="685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752480" y="1905120"/>
            <a:ext cx="3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344480" y="3809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706800" y="3733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28800" y="2057400"/>
            <a:ext cx="152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419720" y="3962520"/>
            <a:ext cx="152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145600" y="4876920"/>
            <a:ext cx="105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450080" y="5130720"/>
            <a:ext cx="6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523880" y="525780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217240" y="5334120"/>
            <a:ext cx="84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09680" y="54100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726880" y="4876920"/>
            <a:ext cx="105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y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031360" y="5130720"/>
            <a:ext cx="6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y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105520" y="5257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798520" y="5334120"/>
            <a:ext cx="84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791320" y="54100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752480" y="365760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69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3277080" y="0"/>
            <a:ext cx="16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JEMPLO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447920" y="106668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124080" y="1066680"/>
            <a:ext cx="18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523880" y="1066680"/>
            <a:ext cx="18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048120" y="1066680"/>
            <a:ext cx="14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523880" y="1523880"/>
            <a:ext cx="15242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447920" y="1066680"/>
            <a:ext cx="7596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048120" y="1066680"/>
            <a:ext cx="7596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447920" y="1600200"/>
            <a:ext cx="457200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676520" y="13716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19520" y="13716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447920" y="2514600"/>
            <a:ext cx="14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124080" y="2514600"/>
            <a:ext cx="18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447920" y="2819520"/>
            <a:ext cx="4572000" cy="1447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447920" y="4267080"/>
            <a:ext cx="14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4267080"/>
            <a:ext cx="18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447920" y="2502000"/>
            <a:ext cx="1676160" cy="101520"/>
          </a:xfrm>
          <a:custGeom>
            <a:avLst/>
            <a:gdLst/>
            <a:ahLst/>
            <a:rect l="l" t="t" r="r" b="b"/>
            <a:pathLst>
              <a:path w="1056" h="64">
                <a:moveTo>
                  <a:pt x="0" y="8"/>
                </a:moveTo>
                <a:cubicBezTo>
                  <a:pt x="32" y="4"/>
                  <a:pt x="64" y="0"/>
                  <a:pt x="96" y="8"/>
                </a:cubicBezTo>
                <a:cubicBezTo>
                  <a:pt x="128" y="16"/>
                  <a:pt x="160" y="48"/>
                  <a:pt x="192" y="56"/>
                </a:cubicBezTo>
                <a:cubicBezTo>
                  <a:pt x="224" y="64"/>
                  <a:pt x="256" y="56"/>
                  <a:pt x="288" y="56"/>
                </a:cubicBezTo>
                <a:cubicBezTo>
                  <a:pt x="320" y="56"/>
                  <a:pt x="352" y="64"/>
                  <a:pt x="384" y="56"/>
                </a:cubicBezTo>
                <a:cubicBezTo>
                  <a:pt x="416" y="48"/>
                  <a:pt x="440" y="16"/>
                  <a:pt x="480" y="8"/>
                </a:cubicBezTo>
                <a:cubicBezTo>
                  <a:pt x="520" y="0"/>
                  <a:pt x="584" y="0"/>
                  <a:pt x="624" y="8"/>
                </a:cubicBezTo>
                <a:cubicBezTo>
                  <a:pt x="664" y="16"/>
                  <a:pt x="680" y="48"/>
                  <a:pt x="720" y="56"/>
                </a:cubicBezTo>
                <a:cubicBezTo>
                  <a:pt x="760" y="64"/>
                  <a:pt x="824" y="64"/>
                  <a:pt x="864" y="56"/>
                </a:cubicBezTo>
                <a:cubicBezTo>
                  <a:pt x="904" y="48"/>
                  <a:pt x="928" y="16"/>
                  <a:pt x="960" y="8"/>
                </a:cubicBezTo>
                <a:cubicBezTo>
                  <a:pt x="992" y="0"/>
                  <a:pt x="1024" y="4"/>
                  <a:pt x="1056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447920" y="4495680"/>
            <a:ext cx="1676160" cy="101880"/>
          </a:xfrm>
          <a:custGeom>
            <a:avLst/>
            <a:gdLst/>
            <a:ahLst/>
            <a:rect l="l" t="t" r="r" b="b"/>
            <a:pathLst>
              <a:path w="1056" h="64">
                <a:moveTo>
                  <a:pt x="0" y="8"/>
                </a:moveTo>
                <a:cubicBezTo>
                  <a:pt x="32" y="4"/>
                  <a:pt x="64" y="0"/>
                  <a:pt x="96" y="8"/>
                </a:cubicBezTo>
                <a:cubicBezTo>
                  <a:pt x="128" y="16"/>
                  <a:pt x="160" y="48"/>
                  <a:pt x="192" y="56"/>
                </a:cubicBezTo>
                <a:cubicBezTo>
                  <a:pt x="224" y="64"/>
                  <a:pt x="256" y="56"/>
                  <a:pt x="288" y="56"/>
                </a:cubicBezTo>
                <a:cubicBezTo>
                  <a:pt x="320" y="56"/>
                  <a:pt x="352" y="64"/>
                  <a:pt x="384" y="56"/>
                </a:cubicBezTo>
                <a:cubicBezTo>
                  <a:pt x="416" y="48"/>
                  <a:pt x="440" y="16"/>
                  <a:pt x="480" y="8"/>
                </a:cubicBezTo>
                <a:cubicBezTo>
                  <a:pt x="520" y="0"/>
                  <a:pt x="584" y="0"/>
                  <a:pt x="624" y="8"/>
                </a:cubicBezTo>
                <a:cubicBezTo>
                  <a:pt x="664" y="16"/>
                  <a:pt x="680" y="48"/>
                  <a:pt x="720" y="56"/>
                </a:cubicBezTo>
                <a:cubicBezTo>
                  <a:pt x="760" y="64"/>
                  <a:pt x="824" y="64"/>
                  <a:pt x="864" y="56"/>
                </a:cubicBezTo>
                <a:cubicBezTo>
                  <a:pt x="904" y="48"/>
                  <a:pt x="928" y="16"/>
                  <a:pt x="960" y="8"/>
                </a:cubicBezTo>
                <a:cubicBezTo>
                  <a:pt x="992" y="0"/>
                  <a:pt x="1024" y="4"/>
                  <a:pt x="1056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676520" y="27432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819520" y="27432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676520" y="38862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819520" y="38862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95280" y="3048120"/>
            <a:ext cx="762120" cy="144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295280" y="4038480"/>
            <a:ext cx="762120" cy="180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362320" y="3048120"/>
            <a:ext cx="761760" cy="144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62320" y="4038480"/>
            <a:ext cx="761760" cy="180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00200" y="297180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743200" y="39625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0200" y="39625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743200" y="297180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019920" y="1981080"/>
            <a:ext cx="1440" cy="838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1447920" y="609480"/>
            <a:ext cx="144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3124080" y="609480"/>
            <a:ext cx="180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762120"/>
            <a:ext cx="1676160" cy="144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09680" y="1981080"/>
            <a:ext cx="1800" cy="320040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143000" y="3581280"/>
            <a:ext cx="5715000" cy="180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095880" y="1600200"/>
            <a:ext cx="30492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095880" y="1752480"/>
            <a:ext cx="30492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514600" y="1219320"/>
            <a:ext cx="1440" cy="3045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2514600" y="1599840"/>
            <a:ext cx="144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324480" y="1295280"/>
            <a:ext cx="180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6324480" y="1752120"/>
            <a:ext cx="180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095880" y="2819520"/>
            <a:ext cx="114300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95880" y="4267080"/>
            <a:ext cx="106704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629400" y="2819520"/>
            <a:ext cx="1440" cy="144756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200400" y="3048120"/>
            <a:ext cx="60948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200400" y="4038480"/>
            <a:ext cx="60948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581280" y="3048120"/>
            <a:ext cx="1800" cy="53316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581280" y="3581280"/>
            <a:ext cx="1800" cy="4572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676520" y="4648320"/>
            <a:ext cx="144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2819520" y="4572000"/>
            <a:ext cx="144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676520" y="4952880"/>
            <a:ext cx="533160" cy="18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09680" y="4952880"/>
            <a:ext cx="609840" cy="18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6019920" y="609480"/>
            <a:ext cx="1440" cy="9144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762120"/>
            <a:ext cx="2895840" cy="144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058840" y="4572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8620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754280" y="464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363760" y="464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rot="16074000">
            <a:off x="3255840" y="360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rot="16074000">
            <a:off x="3255840" y="3145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rot="16074000">
            <a:off x="5999040" y="1164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rot="16074000">
            <a:off x="6246360" y="31273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rot="16074000">
            <a:off x="2188800" y="1164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020640" y="20574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Times New Roman"/>
              </a:rPr>
              <a:t>F=16 k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-2880" y="5257800"/>
            <a:ext cx="312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rga cortante prima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or perno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373400" y="6108840"/>
            <a:ext cx="75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058840" y="5791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059200" y="640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057400" y="63244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881880" y="5257800"/>
            <a:ext cx="39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rgas cortantes secundari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2209680" y="3047760"/>
            <a:ext cx="609840" cy="5331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216160" y="2971800"/>
            <a:ext cx="33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CL" sz="18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191120" y="566424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r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191120" y="619776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76360" y="6197760"/>
            <a:ext cx="138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+ r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+··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363120" y="5892840"/>
            <a:ext cx="97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``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929560" y="5867280"/>
            <a:ext cx="319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= F``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+ F``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·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678320" y="3733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373400" y="3048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820960" y="2971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820960" y="3657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09680" y="2209680"/>
            <a:ext cx="381024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735360" y="19051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4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3124080" y="4572000"/>
            <a:ext cx="180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3123720" y="4952880"/>
            <a:ext cx="3812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743200" y="464832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 flipV="1">
            <a:off x="457200" y="914040"/>
            <a:ext cx="4495680" cy="441972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85800" y="1371600"/>
            <a:ext cx="3886200" cy="388620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447920" y="21337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297080" y="1676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581280" y="1905120"/>
            <a:ext cx="1800" cy="53316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505320" y="21337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82720" y="2133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47920" y="41911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525680" y="3962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05320" y="41911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82720" y="3886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523880" y="220968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81280" y="220968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523880" y="426708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581280" y="434340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1523880" y="1523520"/>
            <a:ext cx="6858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581280" y="2209680"/>
            <a:ext cx="685800" cy="6098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2895120" y="4267080"/>
            <a:ext cx="685800" cy="6098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914040" y="3657240"/>
            <a:ext cx="60948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1523880" y="1676520"/>
            <a:ext cx="914400" cy="9144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2743200" y="4648320"/>
            <a:ext cx="914400" cy="9144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581280" y="2590920"/>
            <a:ext cx="609840" cy="6094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62120" y="3809880"/>
            <a:ext cx="761760" cy="83844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209680" y="1295280"/>
            <a:ext cx="0" cy="83844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895480" y="4800600"/>
            <a:ext cx="0" cy="838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191120" y="2590920"/>
            <a:ext cx="0" cy="838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914400" y="3429000"/>
            <a:ext cx="0" cy="838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1523880" y="1828800"/>
            <a:ext cx="68580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581280" y="2209680"/>
            <a:ext cx="609840" cy="99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2895120" y="4267080"/>
            <a:ext cx="68580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 flipV="1">
            <a:off x="914040" y="3962520"/>
            <a:ext cx="6094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590920" y="609480"/>
            <a:ext cx="0" cy="502920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2590920" y="3504960"/>
            <a:ext cx="0" cy="5331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rot="14103000">
            <a:off x="2215080" y="3002400"/>
            <a:ext cx="7610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753920" y="2971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211480" y="3657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523880" y="4267080"/>
            <a:ext cx="61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24480" y="2057400"/>
            <a:ext cx="5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980800" y="213372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590280" y="426708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72200" y="327672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686240" y="1143000"/>
            <a:ext cx="68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971520" y="2209680"/>
            <a:ext cx="67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752200" y="4267080"/>
            <a:ext cx="67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43960" y="3809880"/>
            <a:ext cx="49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144160" y="182880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24160" y="3048120"/>
            <a:ext cx="47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904840" y="5257800"/>
            <a:ext cx="47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687320" y="335268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CL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991520" y="2362320"/>
            <a:ext cx="41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CL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981160" y="2590920"/>
            <a:ext cx="40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CL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057480" y="3429000"/>
            <a:ext cx="40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CL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924800" y="1308240"/>
            <a:ext cx="75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610240" y="990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61024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608800" y="15238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838840" y="1219320"/>
            <a:ext cx="6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48320" y="990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0096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446880" y="1523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753240" y="1219320"/>
            <a:ext cx="120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4 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613760" y="380880"/>
            <a:ext cx="45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rga cortante primaria por perno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042520" y="2209680"/>
            <a:ext cx="39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rgas cortantes secundari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212440" y="2819520"/>
            <a:ext cx="995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`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113520" y="2819520"/>
            <a:ext cx="102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`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180200" y="2819520"/>
            <a:ext cx="1035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`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8094600" y="2819520"/>
            <a:ext cx="1049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`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724280" y="36576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= V ·R = 16 · 425 = 6800 N·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791320" y="42670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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6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+ 75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96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172200" y="4267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013360" y="430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187240" y="4267080"/>
            <a:ext cx="61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562720" y="5002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562720" y="5535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509800" y="5486400"/>
            <a:ext cx="6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 ·r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726080" y="5230800"/>
            <a:ext cx="87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`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477120" y="5078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68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629400" y="5535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570000" y="5486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 ·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173280" y="5330880"/>
            <a:ext cx="4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393320" y="528156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17.7 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541160" y="6095880"/>
            <a:ext cx="81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209680" y="609588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21 kN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800600" y="6095880"/>
            <a:ext cx="857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486400" y="6095880"/>
            <a:ext cx="1828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3.8 kN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447920" y="6019920"/>
            <a:ext cx="2514600" cy="838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1753920" y="14050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668680" y="1136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668680" y="1752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590920" y="167004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1120" y="457200"/>
            <a:ext cx="551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corte máximo en pernos A y B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125880" y="144792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900320" y="114300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1 · 1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884120" y="17524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800600" y="1676520"/>
            <a:ext cx="121932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79680" y="2590920"/>
            <a:ext cx="53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aplastamiento (en viga canal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601280" y="3386160"/>
            <a:ext cx="8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516040" y="3117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516040" y="3733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438280" y="36511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973600" y="342900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735360" y="1136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436200" y="17524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657600" y="167004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268880" y="144792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900320" y="312408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1 · 1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876920" y="37400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0 ·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800600" y="3657600"/>
            <a:ext cx="12193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735360" y="3117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597480" y="37339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·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657600" y="36511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268880" y="342900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94840" y="4495680"/>
            <a:ext cx="85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crítico por flexión en la barra (sección que pasa por A y B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440" y="525780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7240" y="5029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86160" y="556884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62120" y="5562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617840" y="5105520"/>
            <a:ext cx="38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= F ·(300+50) = 5600 N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85520" y="5715000"/>
            <a:ext cx="326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I = I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arra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- 2(I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gujero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 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8001000" y="5029200"/>
            <a:ext cx="15228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8001000" y="6248520"/>
            <a:ext cx="15228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001000" y="5562720"/>
            <a:ext cx="152280" cy="533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8001000" y="50292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153280" y="50292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229600" y="50292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8229600" y="6629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772400" y="58672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8152920" y="58672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991720" y="50292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rot="16074000">
            <a:off x="8608680" y="56419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543800" y="548640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7696080" y="617184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7238880" y="6400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315200" y="609588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662840" y="6302520"/>
            <a:ext cx="56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I = (15 ·200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)/12 - 2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(15 ·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)/12+ 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15 ·d)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3512160" y="2819520"/>
            <a:ext cx="24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AV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1219320" y="990720"/>
            <a:ext cx="1218960" cy="1143000"/>
          </a:xfrm>
          <a:prstGeom prst="donut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752480" y="12193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828800" y="152280"/>
            <a:ext cx="0" cy="289584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152388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876920" y="1143000"/>
            <a:ext cx="2361960" cy="2362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715000" y="762120"/>
            <a:ext cx="60948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324480" y="990720"/>
            <a:ext cx="129564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419720" y="1295280"/>
            <a:ext cx="12952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715000" y="228600"/>
            <a:ext cx="0" cy="533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24480" y="228600"/>
            <a:ext cx="0" cy="533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715000" y="380880"/>
            <a:ext cx="6094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495680" y="2286000"/>
            <a:ext cx="3124440" cy="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019920" y="609480"/>
            <a:ext cx="0" cy="342900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5105520" y="2286000"/>
            <a:ext cx="914400" cy="7621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800600" y="914400"/>
            <a:ext cx="4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934320" y="533520"/>
            <a:ext cx="41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867280" y="0"/>
            <a:ext cx="4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257800" y="236232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24640" y="3429000"/>
            <a:ext cx="49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cuación de diseño, esfuerzo de cort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219320" y="3962520"/>
            <a:ext cx="76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295280" y="4565520"/>
            <a:ext cx="4572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297080" y="457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752480" y="42670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682360" y="464832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·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819520" y="4572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745360" y="39686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99160" y="5257800"/>
            <a:ext cx="697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cuación de diseño, esfuerzo normal de aplastamient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371600" y="57150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447920" y="6318360"/>
            <a:ext cx="45720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44972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905120" y="6019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834280" y="640080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·l 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97180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97640" y="57214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61560" y="10008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ornillos de 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4059360" cy="4800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H="1">
            <a:off x="5866560" y="1911240"/>
            <a:ext cx="2590920" cy="762120"/>
          </a:xfrm>
          <a:prstGeom prst="rtTriangl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1454040"/>
            <a:ext cx="0" cy="83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7086600" y="1987560"/>
            <a:ext cx="99072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22924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7086240" y="2292120"/>
            <a:ext cx="15228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7280" y="267336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58200" y="267336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305424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88040" y="13017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21360" y="1835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40680" y="2597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67480" y="1606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36844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44400" y="304812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866560" y="4807080"/>
            <a:ext cx="2590920" cy="761760"/>
          </a:xfrm>
          <a:prstGeom prst="rtTriangl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86600" y="434988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086240" y="5181480"/>
            <a:ext cx="1066680" cy="6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172200" y="5181120"/>
            <a:ext cx="914400" cy="29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7086240" y="5187600"/>
            <a:ext cx="15228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556884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458200" y="556884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595008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88040" y="41972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78760" y="4952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240680" y="549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553080" y="5257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44400" y="594360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42200" y="80964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 subir la 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69200" y="3733920"/>
            <a:ext cx="22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 bajar la 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60040" y="6095880"/>
            <a:ext cx="1541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l  /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458200" y="19051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58200" y="2666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763120" y="19051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775360" y="20574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70720" y="4800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458200" y="5562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675640" y="48006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687880" y="49528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2760" y="609480"/>
            <a:ext cx="26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OSCA CUAD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2022480" y="2819520"/>
            <a:ext cx="54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IONES DE SOLDAD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609480" y="14479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09480" y="182880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33520" y="1447920"/>
            <a:ext cx="88920" cy="38088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52" y="16"/>
                  <a:pt x="56" y="32"/>
                  <a:pt x="48" y="48"/>
                </a:cubicBezTo>
                <a:cubicBezTo>
                  <a:pt x="40" y="64"/>
                  <a:pt x="0" y="88"/>
                  <a:pt x="0" y="96"/>
                </a:cubicBezTo>
                <a:cubicBezTo>
                  <a:pt x="0" y="104"/>
                  <a:pt x="40" y="88"/>
                  <a:pt x="48" y="96"/>
                </a:cubicBezTo>
                <a:cubicBezTo>
                  <a:pt x="56" y="104"/>
                  <a:pt x="48" y="128"/>
                  <a:pt x="48" y="144"/>
                </a:cubicBezTo>
                <a:cubicBezTo>
                  <a:pt x="48" y="160"/>
                  <a:pt x="48" y="176"/>
                  <a:pt x="48" y="192"/>
                </a:cubicBezTo>
                <a:cubicBezTo>
                  <a:pt x="48" y="208"/>
                  <a:pt x="48" y="232"/>
                  <a:pt x="48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657600" y="1447920"/>
            <a:ext cx="88920" cy="38088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52" y="16"/>
                  <a:pt x="56" y="32"/>
                  <a:pt x="48" y="48"/>
                </a:cubicBezTo>
                <a:cubicBezTo>
                  <a:pt x="40" y="64"/>
                  <a:pt x="0" y="88"/>
                  <a:pt x="0" y="96"/>
                </a:cubicBezTo>
                <a:cubicBezTo>
                  <a:pt x="0" y="104"/>
                  <a:pt x="40" y="88"/>
                  <a:pt x="48" y="96"/>
                </a:cubicBezTo>
                <a:cubicBezTo>
                  <a:pt x="56" y="104"/>
                  <a:pt x="48" y="128"/>
                  <a:pt x="48" y="144"/>
                </a:cubicBezTo>
                <a:cubicBezTo>
                  <a:pt x="48" y="160"/>
                  <a:pt x="48" y="176"/>
                  <a:pt x="48" y="192"/>
                </a:cubicBezTo>
                <a:cubicBezTo>
                  <a:pt x="48" y="208"/>
                  <a:pt x="48" y="232"/>
                  <a:pt x="48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600200" y="4572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981080" y="4572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rot="15934800">
            <a:off x="1746000" y="310680"/>
            <a:ext cx="88920" cy="38088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52" y="16"/>
                  <a:pt x="56" y="32"/>
                  <a:pt x="48" y="48"/>
                </a:cubicBezTo>
                <a:cubicBezTo>
                  <a:pt x="40" y="64"/>
                  <a:pt x="0" y="88"/>
                  <a:pt x="0" y="96"/>
                </a:cubicBezTo>
                <a:cubicBezTo>
                  <a:pt x="0" y="104"/>
                  <a:pt x="40" y="88"/>
                  <a:pt x="48" y="96"/>
                </a:cubicBezTo>
                <a:cubicBezTo>
                  <a:pt x="56" y="104"/>
                  <a:pt x="48" y="128"/>
                  <a:pt x="48" y="144"/>
                </a:cubicBezTo>
                <a:cubicBezTo>
                  <a:pt x="48" y="160"/>
                  <a:pt x="48" y="176"/>
                  <a:pt x="48" y="192"/>
                </a:cubicBezTo>
                <a:cubicBezTo>
                  <a:pt x="48" y="208"/>
                  <a:pt x="48" y="232"/>
                  <a:pt x="48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1370880" y="1219320"/>
            <a:ext cx="228600" cy="2286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981080" y="1219320"/>
            <a:ext cx="228600" cy="2286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1294920" y="205740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600200" y="205740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5313000">
            <a:off x="1980720" y="1981080"/>
            <a:ext cx="30456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248520" y="144792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248520" y="182880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8077320" y="1447920"/>
            <a:ext cx="88920" cy="38088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52" y="16"/>
                  <a:pt x="56" y="32"/>
                  <a:pt x="48" y="48"/>
                </a:cubicBezTo>
                <a:cubicBezTo>
                  <a:pt x="40" y="64"/>
                  <a:pt x="0" y="88"/>
                  <a:pt x="0" y="96"/>
                </a:cubicBezTo>
                <a:cubicBezTo>
                  <a:pt x="0" y="104"/>
                  <a:pt x="40" y="88"/>
                  <a:pt x="48" y="96"/>
                </a:cubicBezTo>
                <a:cubicBezTo>
                  <a:pt x="56" y="104"/>
                  <a:pt x="48" y="128"/>
                  <a:pt x="48" y="144"/>
                </a:cubicBezTo>
                <a:cubicBezTo>
                  <a:pt x="48" y="160"/>
                  <a:pt x="48" y="176"/>
                  <a:pt x="48" y="192"/>
                </a:cubicBezTo>
                <a:cubicBezTo>
                  <a:pt x="48" y="208"/>
                  <a:pt x="48" y="232"/>
                  <a:pt x="48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248520" y="1447920"/>
            <a:ext cx="0" cy="3808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267080" y="106668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267080" y="14479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191120" y="1066680"/>
            <a:ext cx="88920" cy="38124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52" y="16"/>
                  <a:pt x="56" y="32"/>
                  <a:pt x="48" y="48"/>
                </a:cubicBezTo>
                <a:cubicBezTo>
                  <a:pt x="40" y="64"/>
                  <a:pt x="0" y="88"/>
                  <a:pt x="0" y="96"/>
                </a:cubicBezTo>
                <a:cubicBezTo>
                  <a:pt x="0" y="104"/>
                  <a:pt x="40" y="88"/>
                  <a:pt x="48" y="96"/>
                </a:cubicBezTo>
                <a:cubicBezTo>
                  <a:pt x="56" y="104"/>
                  <a:pt x="48" y="128"/>
                  <a:pt x="48" y="144"/>
                </a:cubicBezTo>
                <a:cubicBezTo>
                  <a:pt x="48" y="160"/>
                  <a:pt x="48" y="176"/>
                  <a:pt x="48" y="192"/>
                </a:cubicBezTo>
                <a:cubicBezTo>
                  <a:pt x="48" y="208"/>
                  <a:pt x="48" y="232"/>
                  <a:pt x="48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629400" y="1066680"/>
            <a:ext cx="0" cy="3812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629400" y="1066680"/>
            <a:ext cx="457200" cy="3812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 flipV="1">
            <a:off x="5791320" y="1447920"/>
            <a:ext cx="457200" cy="38088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6095520" y="213372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400800" y="21337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477120" y="1905120"/>
            <a:ext cx="304560" cy="228600"/>
          </a:xfrm>
          <a:prstGeom prst="rtTriangl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6934320" y="2133000"/>
            <a:ext cx="304560" cy="228600"/>
          </a:xfrm>
          <a:prstGeom prst="rtTriangl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609480" y="2895480"/>
            <a:ext cx="5181840" cy="3257640"/>
          </a:xfrm>
          <a:prstGeom prst="rect">
            <a:avLst/>
          </a:prstGeom>
          <a:ln w="0">
            <a:noFill/>
          </a:ln>
        </p:spPr>
      </p:pic>
      <p:sp>
        <p:nvSpPr>
          <p:cNvPr id="868" name=""/>
          <p:cNvSpPr/>
          <p:nvPr/>
        </p:nvSpPr>
        <p:spPr>
          <a:xfrm>
            <a:off x="6249960" y="33526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164360" y="3084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102800" y="365760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 ·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086600" y="36180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5715000" cy="328464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1351080" y="4448160"/>
            <a:ext cx="1966680" cy="20289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693800" y="3773520"/>
            <a:ext cx="0" cy="30844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38080" y="5508720"/>
            <a:ext cx="3678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260600" y="541188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266840" y="3581280"/>
            <a:ext cx="3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1676520" y="4544640"/>
            <a:ext cx="1128600" cy="177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206800" y="4448160"/>
            <a:ext cx="0" cy="106056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805120" y="4545000"/>
            <a:ext cx="0" cy="106056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693800" y="4448160"/>
            <a:ext cx="513000" cy="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057400" y="3962520"/>
            <a:ext cx="83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208320" y="541008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46360" y="541008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805120" y="4545000"/>
            <a:ext cx="1539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206800" y="5508720"/>
            <a:ext cx="0" cy="577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805120" y="5605560"/>
            <a:ext cx="0" cy="577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693800" y="5991120"/>
            <a:ext cx="5130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206800" y="5991120"/>
            <a:ext cx="59832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293920" y="59911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207160" y="62802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292480" y="6375240"/>
            <a:ext cx="34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781280" y="5894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694160" y="618336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779480" y="6280200"/>
            <a:ext cx="34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832200" y="4545000"/>
            <a:ext cx="0" cy="96372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834000" y="4545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833280" y="4834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832200" y="4930920"/>
            <a:ext cx="34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203160" y="121932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 = h ·l ·cos 4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018120" y="533520"/>
            <a:ext cx="241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rea de gargan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237000" y="2514600"/>
            <a:ext cx="29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en x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408720" y="3124080"/>
            <a:ext cx="78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164360" y="2971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164360" y="3429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162920" y="3429000"/>
            <a:ext cx="317520" cy="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468200" y="320040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155080" y="2971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909920" y="342900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0.707 ·h ·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8001000" y="34290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279840" y="190512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 = 0.707 ·h ·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114880" y="4038480"/>
            <a:ext cx="901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869080" y="3886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792400" y="44197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943600" y="4343400"/>
            <a:ext cx="3142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4000" y="411480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238880" y="3962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162920" y="4419720"/>
            <a:ext cx="5331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164000" y="44197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772400" y="4114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8307000" y="4419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305920" y="4419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8307360" y="3962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324480" y="38862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010280" y="396252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696080" y="411480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8763120" y="4114800"/>
            <a:ext cx="75960" cy="609480"/>
          </a:xfrm>
          <a:custGeom>
            <a:avLst/>
            <a:gdLst>
              <a:gd name="textAreaLeft" fmla="*/ 0 w 75960"/>
              <a:gd name="textAreaRight" fmla="*/ 5328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8153280" y="4114800"/>
            <a:ext cx="76320" cy="609480"/>
          </a:xfrm>
          <a:custGeom>
            <a:avLst/>
            <a:gdLst>
              <a:gd name="textAreaLeft" fmla="*/ 360 w 76320"/>
              <a:gd name="textAreaRight" fmla="*/ 5400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7086600" y="4114800"/>
            <a:ext cx="76320" cy="609480"/>
          </a:xfrm>
          <a:custGeom>
            <a:avLst/>
            <a:gdLst>
              <a:gd name="textAreaLeft" fmla="*/ 360 w 76320"/>
              <a:gd name="textAreaRight" fmla="*/ 5400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773480" y="3962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8834040" y="3962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267160" y="5029200"/>
            <a:ext cx="1663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1.61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935760" y="4876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859080" y="54100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010280" y="5334120"/>
            <a:ext cx="3891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381480" y="5959440"/>
            <a:ext cx="1186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257800" y="586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181480" y="6324480"/>
            <a:ext cx="5335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182560" y="64008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791320" y="60199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325560" y="6400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32448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6280" y="5867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267080" y="5851440"/>
            <a:ext cx="73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58672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715000" y="601992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781680" y="601992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H="1">
            <a:off x="6172200" y="6019920"/>
            <a:ext cx="76320" cy="609480"/>
          </a:xfrm>
          <a:custGeom>
            <a:avLst/>
            <a:gdLst>
              <a:gd name="textAreaLeft" fmla="*/ 360 w 76320"/>
              <a:gd name="textAreaRight" fmla="*/ 5400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5104800" y="6019920"/>
            <a:ext cx="75960" cy="609480"/>
          </a:xfrm>
          <a:custGeom>
            <a:avLst/>
            <a:gdLst>
              <a:gd name="textAreaLeft" fmla="*/ -360 w 75960"/>
              <a:gd name="textAreaRight" fmla="*/ 529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792400" y="5867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852600" y="5867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936120" y="60199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11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8230680" y="6400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8229600" y="6400800"/>
            <a:ext cx="4572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8231040" y="5943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/>
          <p:nvPr/>
        </p:nvSpPr>
        <p:spPr>
          <a:xfrm>
            <a:off x="1294200" y="304920"/>
            <a:ext cx="381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lexión en uniones soldad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62120" y="2133720"/>
            <a:ext cx="259056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04920" y="1219320"/>
            <a:ext cx="457200" cy="289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-76320" y="2438280"/>
            <a:ext cx="487692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762120" y="1676520"/>
            <a:ext cx="30456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66680" y="1676520"/>
            <a:ext cx="990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 flipV="1">
            <a:off x="1523880" y="1675800"/>
            <a:ext cx="152640" cy="15228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1523880" y="1523880"/>
            <a:ext cx="152640" cy="15264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62120" y="609480"/>
            <a:ext cx="0" cy="396252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267080" y="2057400"/>
            <a:ext cx="38124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172200" y="2590920"/>
            <a:ext cx="38088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172200" y="1905120"/>
            <a:ext cx="38088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267080" y="1676520"/>
            <a:ext cx="0" cy="3045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648320" y="1676520"/>
            <a:ext cx="0" cy="3045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724280" y="205740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724280" y="266688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952880" y="2057400"/>
            <a:ext cx="0" cy="60948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4648320" y="182880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809880" y="182880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172200" y="160020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553080" y="160020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6553080" y="175248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715000" y="175248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629400" y="2666880"/>
            <a:ext cx="10666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629400" y="2590920"/>
            <a:ext cx="990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858000" y="1981080"/>
            <a:ext cx="0" cy="60984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629400" y="1905120"/>
            <a:ext cx="990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629400" y="1981080"/>
            <a:ext cx="990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391520" y="160020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391520" y="236232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352680" y="1523880"/>
            <a:ext cx="0" cy="6098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373760" y="369900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´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278880" y="1219320"/>
            <a:ext cx="4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82680" y="380880"/>
            <a:ext cx="4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583080" y="2286000"/>
            <a:ext cx="4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268520" y="14223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rot="16200000">
            <a:off x="4577760" y="21398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rot="16234800">
            <a:off x="6965280" y="26373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867280" y="2286000"/>
            <a:ext cx="114300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400800" y="1295280"/>
            <a:ext cx="0" cy="190512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097680" y="9907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716440" y="213372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rot="16234800">
            <a:off x="7041240" y="14176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7391520" y="2666520"/>
            <a:ext cx="0" cy="3812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7391520" y="198072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rot="16200000">
            <a:off x="6508440" y="20271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139760" y="3048120"/>
            <a:ext cx="355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corte primari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440" y="533412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63200" y="5181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839520" y="5715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838080" y="5638680"/>
            <a:ext cx="3142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35160" y="3505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058840" y="4038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209680" y="3962520"/>
            <a:ext cx="31428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048120" y="35053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V : fuerza de c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 : área total de garga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30640" y="4648320"/>
            <a:ext cx="358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de flexió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278520" y="54100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981800" y="518148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 d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531440" y="571500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707 b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h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676520" y="56386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297440" y="54100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582720" y="51814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.414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888000" y="5715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 d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657600" y="56386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102640" y="4267080"/>
            <a:ext cx="37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omento unitario de inerci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029280" y="4732200"/>
            <a:ext cx="79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637320" y="457200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70752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858000" y="5029200"/>
            <a:ext cx="3142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102280" y="5486400"/>
            <a:ext cx="38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omento de inercia gargan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249960" y="5951520"/>
            <a:ext cx="136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0.70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475760" y="579132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54560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620120" y="6248520"/>
            <a:ext cx="31428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/>
          <p:nvPr/>
        </p:nvSpPr>
        <p:spPr>
          <a:xfrm>
            <a:off x="1294200" y="304920"/>
            <a:ext cx="38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rsión en uniones soldad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990720" y="838080"/>
            <a:ext cx="7339680" cy="4584240"/>
            <a:chOff x="990720" y="838080"/>
            <a:chExt cx="7339680" cy="4584240"/>
          </a:xfrm>
        </p:grpSpPr>
        <p:sp>
          <p:nvSpPr>
            <p:cNvPr id="1032" name=""/>
            <p:cNvSpPr/>
            <p:nvPr/>
          </p:nvSpPr>
          <p:spPr>
            <a:xfrm>
              <a:off x="1562040" y="1917720"/>
              <a:ext cx="5144400" cy="159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367080" y="855360"/>
              <a:ext cx="0" cy="106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367080" y="3511080"/>
              <a:ext cx="0" cy="127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990720" y="838080"/>
              <a:ext cx="2376360" cy="3965040"/>
            </a:xfrm>
            <a:custGeom>
              <a:avLst/>
              <a:gdLst/>
              <a:ahLst/>
              <a:rect l="l" t="t" r="r" b="b"/>
              <a:pathLst>
                <a:path w="1264" h="1792">
                  <a:moveTo>
                    <a:pt x="1264" y="8"/>
                  </a:moveTo>
                  <a:cubicBezTo>
                    <a:pt x="1216" y="4"/>
                    <a:pt x="1168" y="0"/>
                    <a:pt x="1120" y="8"/>
                  </a:cubicBezTo>
                  <a:cubicBezTo>
                    <a:pt x="1072" y="16"/>
                    <a:pt x="1008" y="32"/>
                    <a:pt x="976" y="56"/>
                  </a:cubicBezTo>
                  <a:cubicBezTo>
                    <a:pt x="944" y="80"/>
                    <a:pt x="952" y="136"/>
                    <a:pt x="928" y="152"/>
                  </a:cubicBezTo>
                  <a:cubicBezTo>
                    <a:pt x="904" y="168"/>
                    <a:pt x="864" y="152"/>
                    <a:pt x="832" y="152"/>
                  </a:cubicBezTo>
                  <a:cubicBezTo>
                    <a:pt x="800" y="152"/>
                    <a:pt x="776" y="152"/>
                    <a:pt x="736" y="152"/>
                  </a:cubicBezTo>
                  <a:cubicBezTo>
                    <a:pt x="696" y="152"/>
                    <a:pt x="648" y="168"/>
                    <a:pt x="592" y="152"/>
                  </a:cubicBezTo>
                  <a:cubicBezTo>
                    <a:pt x="536" y="136"/>
                    <a:pt x="464" y="64"/>
                    <a:pt x="400" y="56"/>
                  </a:cubicBezTo>
                  <a:cubicBezTo>
                    <a:pt x="336" y="48"/>
                    <a:pt x="256" y="56"/>
                    <a:pt x="208" y="104"/>
                  </a:cubicBezTo>
                  <a:cubicBezTo>
                    <a:pt x="160" y="152"/>
                    <a:pt x="136" y="264"/>
                    <a:pt x="112" y="344"/>
                  </a:cubicBezTo>
                  <a:cubicBezTo>
                    <a:pt x="88" y="424"/>
                    <a:pt x="72" y="520"/>
                    <a:pt x="64" y="584"/>
                  </a:cubicBezTo>
                  <a:cubicBezTo>
                    <a:pt x="56" y="648"/>
                    <a:pt x="56" y="680"/>
                    <a:pt x="64" y="728"/>
                  </a:cubicBezTo>
                  <a:cubicBezTo>
                    <a:pt x="72" y="776"/>
                    <a:pt x="112" y="824"/>
                    <a:pt x="112" y="872"/>
                  </a:cubicBezTo>
                  <a:cubicBezTo>
                    <a:pt x="112" y="920"/>
                    <a:pt x="72" y="976"/>
                    <a:pt x="64" y="1016"/>
                  </a:cubicBezTo>
                  <a:cubicBezTo>
                    <a:pt x="56" y="1056"/>
                    <a:pt x="72" y="1064"/>
                    <a:pt x="64" y="1112"/>
                  </a:cubicBezTo>
                  <a:cubicBezTo>
                    <a:pt x="56" y="1160"/>
                    <a:pt x="24" y="1248"/>
                    <a:pt x="16" y="1304"/>
                  </a:cubicBezTo>
                  <a:cubicBezTo>
                    <a:pt x="8" y="1360"/>
                    <a:pt x="0" y="1416"/>
                    <a:pt x="16" y="1448"/>
                  </a:cubicBezTo>
                  <a:cubicBezTo>
                    <a:pt x="32" y="1480"/>
                    <a:pt x="72" y="1464"/>
                    <a:pt x="112" y="1496"/>
                  </a:cubicBezTo>
                  <a:cubicBezTo>
                    <a:pt x="152" y="1528"/>
                    <a:pt x="216" y="1616"/>
                    <a:pt x="256" y="1640"/>
                  </a:cubicBezTo>
                  <a:cubicBezTo>
                    <a:pt x="296" y="1664"/>
                    <a:pt x="296" y="1640"/>
                    <a:pt x="352" y="1640"/>
                  </a:cubicBezTo>
                  <a:cubicBezTo>
                    <a:pt x="408" y="1640"/>
                    <a:pt x="528" y="1632"/>
                    <a:pt x="592" y="1640"/>
                  </a:cubicBezTo>
                  <a:cubicBezTo>
                    <a:pt x="656" y="1648"/>
                    <a:pt x="696" y="1672"/>
                    <a:pt x="736" y="1688"/>
                  </a:cubicBezTo>
                  <a:cubicBezTo>
                    <a:pt x="776" y="1704"/>
                    <a:pt x="792" y="1720"/>
                    <a:pt x="832" y="1736"/>
                  </a:cubicBezTo>
                  <a:cubicBezTo>
                    <a:pt x="872" y="1752"/>
                    <a:pt x="936" y="1776"/>
                    <a:pt x="976" y="1784"/>
                  </a:cubicBezTo>
                  <a:cubicBezTo>
                    <a:pt x="1016" y="1792"/>
                    <a:pt x="1032" y="1784"/>
                    <a:pt x="1072" y="1784"/>
                  </a:cubicBezTo>
                  <a:cubicBezTo>
                    <a:pt x="1112" y="1784"/>
                    <a:pt x="1184" y="1784"/>
                    <a:pt x="1216" y="178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562040" y="3511080"/>
              <a:ext cx="1805040" cy="212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706440" y="961920"/>
              <a:ext cx="0" cy="9558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020240" y="2661480"/>
              <a:ext cx="7310160" cy="0"/>
            </a:xfrm>
            <a:prstGeom prst="line">
              <a:avLst/>
            </a:prstGeom>
            <a:ln w="9360">
              <a:solidFill>
                <a:srgbClr val="ffff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464560" y="855360"/>
              <a:ext cx="0" cy="4566960"/>
            </a:xfrm>
            <a:prstGeom prst="line">
              <a:avLst/>
            </a:prstGeom>
            <a:ln w="9360">
              <a:solidFill>
                <a:srgbClr val="ffff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367080" y="1811520"/>
              <a:ext cx="0" cy="531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367080" y="1811520"/>
              <a:ext cx="631440" cy="8499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998880" y="2661480"/>
              <a:ext cx="0" cy="530640"/>
            </a:xfrm>
            <a:prstGeom prst="line">
              <a:avLst/>
            </a:prstGeom>
            <a:ln w="93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367080" y="2342880"/>
              <a:ext cx="0" cy="1167840"/>
            </a:xfrm>
            <a:prstGeom prst="line">
              <a:avLst/>
            </a:prstGeom>
            <a:ln w="93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367080" y="1811520"/>
              <a:ext cx="631440" cy="13806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367080" y="2342880"/>
              <a:ext cx="631440" cy="8492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193840" y="2554920"/>
              <a:ext cx="35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644920" y="1811520"/>
              <a:ext cx="35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103480" y="2024280"/>
              <a:ext cx="631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0" i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706440" y="961920"/>
              <a:ext cx="54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908880" y="287352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915640" y="1917720"/>
              <a:ext cx="72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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`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908880" y="2024280"/>
              <a:ext cx="81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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``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2464560" y="1811160"/>
              <a:ext cx="902520" cy="8499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562040" y="1705320"/>
              <a:ext cx="1805040" cy="212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2464560" y="1811160"/>
              <a:ext cx="0" cy="8499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374200" y="1811520"/>
              <a:ext cx="18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464560" y="1705320"/>
              <a:ext cx="0" cy="21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76720" y="1811520"/>
              <a:ext cx="18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367080" y="1705320"/>
              <a:ext cx="0" cy="21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103480" y="1280520"/>
              <a:ext cx="5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0`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3963600" y="3886200"/>
            <a:ext cx="9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878360" y="3733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878360" y="4191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800600" y="41911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554160" y="3886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´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468920" y="37339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468920" y="4191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391520" y="41911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872880" y="4932360"/>
            <a:ext cx="4861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: área de garganta de todas las soldadu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 : m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 : momento polar de iner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" descr=""/>
          <p:cNvPicPr/>
          <p:nvPr/>
        </p:nvPicPr>
        <p:blipFill>
          <a:blip r:embed="rId1"/>
          <a:stretch/>
        </p:blipFill>
        <p:spPr>
          <a:xfrm>
            <a:off x="2300400" y="-46080"/>
            <a:ext cx="516708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" descr=""/>
          <p:cNvPicPr/>
          <p:nvPr/>
        </p:nvPicPr>
        <p:blipFill>
          <a:blip r:embed="rId1"/>
          <a:stretch/>
        </p:blipFill>
        <p:spPr>
          <a:xfrm>
            <a:off x="1676520" y="-22320"/>
            <a:ext cx="542772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1296000" y="0"/>
            <a:ext cx="155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JEMPL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62120" y="1523880"/>
            <a:ext cx="190476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09480" y="1371600"/>
            <a:ext cx="152640" cy="205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666880" y="1371600"/>
            <a:ext cx="152640" cy="205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62120" y="274320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914400" y="28195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62120" y="342900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590920" y="342900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838080" y="2819520"/>
            <a:ext cx="763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514600" y="2819520"/>
            <a:ext cx="763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7200" y="1676520"/>
            <a:ext cx="2666880" cy="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761760" y="2514600"/>
            <a:ext cx="22860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990720" y="251460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143000" y="2513880"/>
            <a:ext cx="152280" cy="15228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09480" y="11430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62120" y="11430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819520" y="11430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62120" y="1219320"/>
            <a:ext cx="190476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2819520" y="1219320"/>
            <a:ext cx="3045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52280" y="121932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962520" y="1676520"/>
            <a:ext cx="2666880" cy="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581280" y="27432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352680" y="342900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105520" y="1523880"/>
            <a:ext cx="304560" cy="304920"/>
          </a:xfrm>
          <a:prstGeom prst="donut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876920" y="1371600"/>
            <a:ext cx="761760" cy="685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H="1">
            <a:off x="4571640" y="1676520"/>
            <a:ext cx="30492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638680" y="1676520"/>
            <a:ext cx="30492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572000" y="27432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943600" y="27432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943600" y="27432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572000" y="27432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505320" y="28195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438280" y="2514600"/>
            <a:ext cx="22860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1981080" y="251460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 flipV="1">
            <a:off x="2133000" y="2513880"/>
            <a:ext cx="152280" cy="15228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400800" y="1676520"/>
            <a:ext cx="0" cy="106668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400800" y="2743200"/>
            <a:ext cx="0" cy="6858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572000" y="342900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943600" y="342900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352680" y="2743200"/>
            <a:ext cx="241560" cy="685800"/>
          </a:xfrm>
          <a:custGeom>
            <a:avLst/>
            <a:gdLst/>
            <a:ahLst/>
            <a:rect l="l" t="t" r="r" b="b"/>
            <a:pathLst>
              <a:path w="152" h="432">
                <a:moveTo>
                  <a:pt x="144" y="0"/>
                </a:moveTo>
                <a:cubicBezTo>
                  <a:pt x="148" y="20"/>
                  <a:pt x="152" y="40"/>
                  <a:pt x="144" y="48"/>
                </a:cubicBezTo>
                <a:cubicBezTo>
                  <a:pt x="136" y="56"/>
                  <a:pt x="104" y="40"/>
                  <a:pt x="96" y="48"/>
                </a:cubicBezTo>
                <a:cubicBezTo>
                  <a:pt x="88" y="56"/>
                  <a:pt x="104" y="80"/>
                  <a:pt x="96" y="96"/>
                </a:cubicBezTo>
                <a:cubicBezTo>
                  <a:pt x="88" y="112"/>
                  <a:pt x="56" y="128"/>
                  <a:pt x="48" y="144"/>
                </a:cubicBezTo>
                <a:cubicBezTo>
                  <a:pt x="40" y="160"/>
                  <a:pt x="40" y="168"/>
                  <a:pt x="48" y="192"/>
                </a:cubicBezTo>
                <a:cubicBezTo>
                  <a:pt x="56" y="216"/>
                  <a:pt x="88" y="264"/>
                  <a:pt x="96" y="288"/>
                </a:cubicBezTo>
                <a:cubicBezTo>
                  <a:pt x="104" y="312"/>
                  <a:pt x="104" y="328"/>
                  <a:pt x="96" y="336"/>
                </a:cubicBezTo>
                <a:cubicBezTo>
                  <a:pt x="88" y="344"/>
                  <a:pt x="56" y="328"/>
                  <a:pt x="48" y="336"/>
                </a:cubicBezTo>
                <a:cubicBezTo>
                  <a:pt x="40" y="344"/>
                  <a:pt x="56" y="368"/>
                  <a:pt x="48" y="384"/>
                </a:cubicBezTo>
                <a:cubicBezTo>
                  <a:pt x="40" y="400"/>
                  <a:pt x="8" y="424"/>
                  <a:pt x="0" y="43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705720" y="2743200"/>
            <a:ext cx="241200" cy="685800"/>
          </a:xfrm>
          <a:custGeom>
            <a:avLst/>
            <a:gdLst/>
            <a:ahLst/>
            <a:rect l="l" t="t" r="r" b="b"/>
            <a:pathLst>
              <a:path w="152" h="432">
                <a:moveTo>
                  <a:pt x="144" y="0"/>
                </a:moveTo>
                <a:cubicBezTo>
                  <a:pt x="148" y="20"/>
                  <a:pt x="152" y="40"/>
                  <a:pt x="144" y="48"/>
                </a:cubicBezTo>
                <a:cubicBezTo>
                  <a:pt x="136" y="56"/>
                  <a:pt x="104" y="40"/>
                  <a:pt x="96" y="48"/>
                </a:cubicBezTo>
                <a:cubicBezTo>
                  <a:pt x="88" y="56"/>
                  <a:pt x="104" y="80"/>
                  <a:pt x="96" y="96"/>
                </a:cubicBezTo>
                <a:cubicBezTo>
                  <a:pt x="88" y="112"/>
                  <a:pt x="56" y="128"/>
                  <a:pt x="48" y="144"/>
                </a:cubicBezTo>
                <a:cubicBezTo>
                  <a:pt x="40" y="160"/>
                  <a:pt x="40" y="168"/>
                  <a:pt x="48" y="192"/>
                </a:cubicBezTo>
                <a:cubicBezTo>
                  <a:pt x="56" y="216"/>
                  <a:pt x="88" y="264"/>
                  <a:pt x="96" y="288"/>
                </a:cubicBezTo>
                <a:cubicBezTo>
                  <a:pt x="104" y="312"/>
                  <a:pt x="104" y="328"/>
                  <a:pt x="96" y="336"/>
                </a:cubicBezTo>
                <a:cubicBezTo>
                  <a:pt x="88" y="344"/>
                  <a:pt x="56" y="328"/>
                  <a:pt x="48" y="336"/>
                </a:cubicBezTo>
                <a:cubicBezTo>
                  <a:pt x="40" y="344"/>
                  <a:pt x="56" y="368"/>
                  <a:pt x="48" y="384"/>
                </a:cubicBezTo>
                <a:cubicBezTo>
                  <a:pt x="40" y="400"/>
                  <a:pt x="8" y="424"/>
                  <a:pt x="0" y="43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809880" y="167652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876920" y="1676520"/>
            <a:ext cx="75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876920" y="1752480"/>
            <a:ext cx="152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876920" y="1752480"/>
            <a:ext cx="228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105520" y="1905120"/>
            <a:ext cx="152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181480" y="1905120"/>
            <a:ext cx="457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562720" y="1676520"/>
            <a:ext cx="7596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257800" y="609480"/>
            <a:ext cx="0" cy="243864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973240" y="914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525320" y="9144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30040" y="914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21076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91548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430080" y="3733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4114800" y="3124080"/>
            <a:ext cx="457200" cy="6098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352680" y="373392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3657600" y="3733200"/>
            <a:ext cx="152280" cy="15228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657600" y="3581280"/>
            <a:ext cx="152280" cy="15264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rot="16200000">
            <a:off x="6018120" y="19846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030640" y="35053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735000" y="129528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Times New Roman"/>
              </a:rPr>
              <a:t>50 k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rot="16200000">
            <a:off x="6075360" y="2917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259240" y="533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986760" y="4267080"/>
            <a:ext cx="62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Ubicación del centroide del grupo de soldadur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982160" y="4952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449000" y="518148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x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523880" y="525780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982160" y="53802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057400" y="53802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033880" y="4983120"/>
            <a:ext cx="5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56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420800" y="518148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y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495680" y="5208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963320" y="541008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 ·56+1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952880" y="5410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543800" y="2743200"/>
            <a:ext cx="1371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543800" y="274320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915400" y="274320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543800" y="33526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915400" y="33526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543800" y="373392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8002440" y="3429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315200" y="2743200"/>
            <a:ext cx="0" cy="6858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rot="16200000">
            <a:off x="6989760" y="2917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7162920" y="2743200"/>
            <a:ext cx="3045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7162920" y="3429000"/>
            <a:ext cx="3045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210760" y="518148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514600" y="5005440"/>
            <a:ext cx="5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1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592360" y="5410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90920" y="5386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934360" y="518148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= 9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248520" y="525780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= 10.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/>
          <p:nvPr/>
        </p:nvSpPr>
        <p:spPr>
          <a:xfrm>
            <a:off x="1523880" y="1371600"/>
            <a:ext cx="1371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523880" y="137160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895480" y="137160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523880" y="19810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895480" y="1981080"/>
            <a:ext cx="0" cy="1143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523880" y="236232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982520" y="20574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295280" y="1371600"/>
            <a:ext cx="0" cy="6858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1142640" y="1371600"/>
            <a:ext cx="304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1142640" y="2057400"/>
            <a:ext cx="304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rot="16200000">
            <a:off x="893880" y="1470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209680" y="0"/>
            <a:ext cx="0" cy="312408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09480" y="1523880"/>
            <a:ext cx="350532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295280" y="228600"/>
            <a:ext cx="9144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362320" y="228600"/>
            <a:ext cx="17524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971800" y="137160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200400" y="228600"/>
            <a:ext cx="0" cy="11430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3200400" y="15238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809880" y="228600"/>
            <a:ext cx="0" cy="129528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209680" y="2819520"/>
            <a:ext cx="6858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1676160" y="1523880"/>
            <a:ext cx="5331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363760" y="2514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287800" y="1676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830240" y="1447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296360" y="22860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Times New Roman"/>
              </a:rPr>
              <a:t>25 k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rot="7774800">
            <a:off x="1794960" y="1127520"/>
            <a:ext cx="7610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rot="16200000">
            <a:off x="3341520" y="6224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1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rot="16200000">
            <a:off x="2788920" y="16315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rot="16200000">
            <a:off x="2741760" y="5367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275440" y="609480"/>
            <a:ext cx="25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= 25 ·110.4 N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050800" y="1270080"/>
            <a:ext cx="17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8b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6b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497480" y="149868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716440" y="1676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105520" y="1746360"/>
            <a:ext cx="16761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858000" y="1523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162920" y="1219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088400" y="175248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2b+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162920" y="17524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753720" y="2362320"/>
            <a:ext cx="350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(56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6(56)(190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(190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201840" y="259092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259240" y="2743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7162920" y="2590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7696080" y="2286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56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7392960" y="281952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(56)+1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543800" y="28195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809880" y="281952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060160" y="3429000"/>
            <a:ext cx="22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 = 1.6 · 1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mm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399840" y="3886200"/>
            <a:ext cx="53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 = 0.707 h(2b+d)=0.707 ·6 ·(2 ·56+19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657680" y="4495680"/>
            <a:ext cx="19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 = 1280 mm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/>
          <p:nvPr/>
        </p:nvSpPr>
        <p:spPr>
          <a:xfrm>
            <a:off x="419040" y="876240"/>
            <a:ext cx="1371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19040" y="87624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790640" y="87624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0" y="1066680"/>
            <a:ext cx="266688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066680" y="228600"/>
            <a:ext cx="0" cy="175248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371600" y="144792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440" y="1447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095960" y="3973680"/>
            <a:ext cx="1625760" cy="149832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 flipV="1">
            <a:off x="7086600" y="3965040"/>
            <a:ext cx="9360" cy="1506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7095960" y="3973680"/>
            <a:ext cx="1625760" cy="1498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095960" y="5472000"/>
            <a:ext cx="8431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095960" y="5472000"/>
            <a:ext cx="16257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8661240" y="3660840"/>
            <a:ext cx="48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324480" y="3809880"/>
            <a:ext cx="762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8309160" y="5472000"/>
            <a:ext cx="734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284240" y="5410080"/>
            <a:ext cx="598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144440" y="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363400" y="9907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425400" y="24912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cortante primari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438000" y="858960"/>
            <a:ext cx="837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268880" y="782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268880" y="12398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267080" y="1239840"/>
            <a:ext cx="317520" cy="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572720" y="101124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028480" y="78264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5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105160" y="123984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2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105520" y="123984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869080" y="914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9.5 M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24280" y="2133720"/>
            <a:ext cx="434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s cortantes secundari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41800" y="2743200"/>
            <a:ext cx="973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452240" y="266688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M r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602000" y="31240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600200" y="3124080"/>
            <a:ext cx="317520" cy="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981800" y="289548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388240" y="2666880"/>
            <a:ext cx="153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760 ·10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·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438280" y="31240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7.07 ·10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438280" y="312408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040280" y="281952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7.1 M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33520" y="3733920"/>
            <a:ext cx="99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452240" y="365760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M r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02000" y="41148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600200" y="4114800"/>
            <a:ext cx="317520" cy="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981800" y="388620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387520" y="365760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760 ·10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·4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438280" y="4114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7.07 ·10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438280" y="41148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040280" y="380988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7.8 M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79800" y="4724280"/>
            <a:ext cx="25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s máxim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77960" y="5389560"/>
            <a:ext cx="615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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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(37.1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(19.5+17.8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235160" y="54658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0" y="543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73880" y="5334120"/>
            <a:ext cx="6501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124080" y="5486400"/>
            <a:ext cx="3048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835640" y="6019920"/>
            <a:ext cx="21405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 52.6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8400" y="22860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 subir la 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4800" y="114300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080" y="83808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( se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cos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7040" y="1371600"/>
            <a:ext cx="20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se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13716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44560" y="3581280"/>
            <a:ext cx="22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 bajar la 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5680" y="441972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320" y="4114800"/>
            <a:ext cx="24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( se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cos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4648320"/>
            <a:ext cx="21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se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6483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7840" y="11430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84840" y="838080"/>
            <a:ext cx="242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[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  /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]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12360" y="1371600"/>
            <a:ext cx="196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- (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  /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13716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9760" y="4114800"/>
            <a:ext cx="244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[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- 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  /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]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7280" y="4648320"/>
            <a:ext cx="205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 (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  /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46483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2400" y="441972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7440" y="2438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91520" y="213984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11480" y="26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666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32720" y="2133720"/>
            <a:ext cx="160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56400" y="2666880"/>
            <a:ext cx="131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l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266688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228600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228600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6040" y="579132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20120" y="549288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40080" y="602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60199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62760" y="5486400"/>
            <a:ext cx="150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-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85720" y="6019920"/>
            <a:ext cx="134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l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601992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563868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563868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7600" y="22860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utorreten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47760" y="1295280"/>
            <a:ext cx="143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&gt;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5160" y="1336680"/>
            <a:ext cx="144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&gt; ta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7720" y="198108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30240" y="289548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23240" y="259704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2720" y="312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3124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05320" y="685800"/>
            <a:ext cx="140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ajada </a:t>
            </a:r>
            <a:r>
              <a:rPr b="0" i="1" lang="es-C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04880" y="2819520"/>
            <a:ext cx="79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2760" y="25210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0" y="3048120"/>
            <a:ext cx="584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14680" y="2813040"/>
            <a:ext cx="193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T (</a:t>
            </a: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297180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96760" y="4473720"/>
            <a:ext cx="8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82560" y="417528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 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48006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1480" y="4800600"/>
            <a:ext cx="5335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3962520"/>
            <a:ext cx="281916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441972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7520" y="152280"/>
            <a:ext cx="472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OSCA TRAPEZOIDAL O UNIFIC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733560" cy="3546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181480" y="6094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343400" y="1066680"/>
            <a:ext cx="838080" cy="381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44792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43400" y="1828800"/>
            <a:ext cx="838080" cy="228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81480" y="20574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343400" y="2514600"/>
            <a:ext cx="838080" cy="380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43400" y="289548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43400" y="3276720"/>
            <a:ext cx="838080" cy="228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81480" y="35053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181480" y="2209320"/>
            <a:ext cx="6858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3505320"/>
            <a:ext cx="8384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02040" y="2441520"/>
            <a:ext cx="1218960" cy="213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59999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599999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2438280"/>
            <a:ext cx="330480" cy="1219320"/>
          </a:xfrm>
          <a:custGeom>
            <a:avLst/>
            <a:gdLst/>
            <a:ahLst/>
            <a:rect l="l" t="t" r="r" b="b"/>
            <a:pathLst>
              <a:path w="208" h="768">
                <a:moveTo>
                  <a:pt x="0" y="0"/>
                </a:moveTo>
                <a:cubicBezTo>
                  <a:pt x="32" y="20"/>
                  <a:pt x="64" y="40"/>
                  <a:pt x="96" y="96"/>
                </a:cubicBezTo>
                <a:cubicBezTo>
                  <a:pt x="128" y="152"/>
                  <a:pt x="176" y="264"/>
                  <a:pt x="192" y="336"/>
                </a:cubicBezTo>
                <a:cubicBezTo>
                  <a:pt x="208" y="408"/>
                  <a:pt x="200" y="456"/>
                  <a:pt x="192" y="528"/>
                </a:cubicBezTo>
                <a:cubicBezTo>
                  <a:pt x="184" y="600"/>
                  <a:pt x="152" y="728"/>
                  <a:pt x="144" y="76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38680" y="259092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76212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648320" y="838080"/>
            <a:ext cx="457200" cy="10670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1359000"/>
            <a:ext cx="228600" cy="88920"/>
          </a:xfrm>
          <a:custGeom>
            <a:avLst/>
            <a:gdLst/>
            <a:ahLst/>
            <a:rect l="l" t="t" r="r" b="b"/>
            <a:pathLst>
              <a:path w="144" h="56">
                <a:moveTo>
                  <a:pt x="0" y="8"/>
                </a:moveTo>
                <a:cubicBezTo>
                  <a:pt x="12" y="4"/>
                  <a:pt x="24" y="0"/>
                  <a:pt x="48" y="8"/>
                </a:cubicBezTo>
                <a:cubicBezTo>
                  <a:pt x="72" y="16"/>
                  <a:pt x="128" y="48"/>
                  <a:pt x="144" y="5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1371600"/>
            <a:ext cx="9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30640" y="1066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00600" y="13716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76920" y="152388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68880" y="6858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81680" y="1162080"/>
            <a:ext cx="1295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&lt;&lt;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07480" y="44956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01200" y="419724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21520" y="473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47440" y="4191120"/>
            <a:ext cx="201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+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66080" y="4724280"/>
            <a:ext cx="1913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l 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86400" y="473076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05520" y="434340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4349880"/>
            <a:ext cx="75960" cy="761760"/>
          </a:xfrm>
          <a:custGeom>
            <a:avLst/>
            <a:gdLst>
              <a:gd name="textAreaLeft" fmla="*/ 0 w 75960"/>
              <a:gd name="textAreaRight" fmla="*/ 53280 w 7596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6600" y="457200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ra subir (o apretar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18920" y="2889360"/>
            <a:ext cx="78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86800" y="245736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028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848720" y="3048120"/>
            <a:ext cx="914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476400" y="1981080"/>
            <a:ext cx="22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r en el collarí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45600" y="44956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939080" y="413388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15508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01000" y="47242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59760" y="5867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53840" y="556884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3800" y="6102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6095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99360" y="5562720"/>
            <a:ext cx="198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18720" y="6095880"/>
            <a:ext cx="2000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l 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38680" y="610236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571500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43800" y="5721480"/>
            <a:ext cx="76320" cy="76176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52840" y="5943600"/>
            <a:ext cx="26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ra bajar (o soltar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98240" y="58672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91720" y="550548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07720" y="609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153280" y="60958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287080" y="304920"/>
            <a:ext cx="41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S SOBRE LA ROS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4080" y="1219320"/>
            <a:ext cx="51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corte en la rosca del tornil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560" y="194472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39920" y="1676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72240" y="2286000"/>
            <a:ext cx="84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6200" y="22096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7400" y="2971800"/>
            <a:ext cx="528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corte en la rosca de la tuer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54120" y="377352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4840" y="3505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71400" y="4114800"/>
            <a:ext cx="77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91120" y="40384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6320" y="4572000"/>
            <a:ext cx="626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(de aplastamiento) en las rosc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54120" y="541008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44840" y="51418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4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60440" y="5715000"/>
            <a:ext cx="170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 (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)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91120" y="56386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60" y="228600"/>
            <a:ext cx="312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IONES CON PE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3809880" cy="32828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817880" y="3124080"/>
            <a:ext cx="167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 = 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+ 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33120" y="449568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92000" y="4191120"/>
            <a:ext cx="587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45120" y="4800600"/>
            <a:ext cx="88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5664240"/>
            <a:ext cx="227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48600" y="5410080"/>
            <a:ext cx="587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02080" y="6019920"/>
            <a:ext cx="943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90920" y="58942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11440" y="5638680"/>
            <a:ext cx="69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53080" y="5359320"/>
            <a:ext cx="91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12320" y="6018120"/>
            <a:ext cx="943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00800" y="5892840"/>
            <a:ext cx="914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73520" y="5638680"/>
            <a:ext cx="7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320600" y="5638680"/>
            <a:ext cx="59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-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67240" y="304920"/>
            <a:ext cx="466704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  : Carga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Pre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Porción de P sobre el p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Porción de P sobre ele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Fza. Resultante sobre p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Fza. Resultante sobre ele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: Carga ax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5480" y="4565520"/>
            <a:ext cx="96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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9880" y="42670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77360" y="4800600"/>
            <a:ext cx="48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86600" y="47242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4800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58560" y="4572000"/>
            <a:ext cx="92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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72960" y="4273560"/>
            <a:ext cx="49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70440" y="4807080"/>
            <a:ext cx="52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4807080"/>
            <a:ext cx="3808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88400" y="311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02080" y="2819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002800" y="335268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01000" y="3352680"/>
            <a:ext cx="3808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800" y="0"/>
            <a:ext cx="507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S EN UNIONES APERN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4038480" cy="22255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4038480" cy="2934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454720" y="22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60840" y="760320"/>
            <a:ext cx="52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52920" y="755640"/>
            <a:ext cx="38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35960" y="53352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93160" y="22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97120" y="760320"/>
            <a:ext cx="48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91360" y="755640"/>
            <a:ext cx="3808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307720" y="22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11680" y="760320"/>
            <a:ext cx="42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05920" y="755640"/>
            <a:ext cx="4064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54920" y="22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58880" y="760320"/>
            <a:ext cx="48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53120" y="755640"/>
            <a:ext cx="38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74040" y="53352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436520" y="53352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 ..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44840" y="189864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33960" y="1606680"/>
            <a:ext cx="100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w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 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25920" y="21337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172200" y="212724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1757520"/>
            <a:ext cx="76320" cy="750600"/>
          </a:xfrm>
          <a:custGeom>
            <a:avLst/>
            <a:gdLst>
              <a:gd name="textAreaLeft" fmla="*/ 22320 w 76320"/>
              <a:gd name="textAreaRight" fmla="*/ 76320 w 76320"/>
              <a:gd name="textAreaTop" fmla="*/ 30960 h 750600"/>
              <a:gd name="textAreaBottom" fmla="*/ 719640 h 75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10280" y="1757520"/>
            <a:ext cx="76320" cy="750600"/>
          </a:xfrm>
          <a:custGeom>
            <a:avLst/>
            <a:gdLst>
              <a:gd name="textAreaLeft" fmla="*/ 0 w 76320"/>
              <a:gd name="textAreaRight" fmla="*/ 53640 w 76320"/>
              <a:gd name="textAreaTop" fmla="*/ 30960 h 750600"/>
              <a:gd name="textAreaBottom" fmla="*/ 719640 h 75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57800" y="1682640"/>
            <a:ext cx="152280" cy="9018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400 h 901800"/>
              <a:gd name="textAreaBottom" fmla="*/ 878400 h 90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87840" y="190512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786080" y="1606680"/>
            <a:ext cx="90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w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- 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078760" y="21337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7924680" y="2127240"/>
            <a:ext cx="83844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38880" y="1757520"/>
            <a:ext cx="76320" cy="750600"/>
          </a:xfrm>
          <a:custGeom>
            <a:avLst/>
            <a:gdLst>
              <a:gd name="textAreaLeft" fmla="*/ 22320 w 76320"/>
              <a:gd name="textAreaRight" fmla="*/ 76320 w 76320"/>
              <a:gd name="textAreaTop" fmla="*/ 30960 h 750600"/>
              <a:gd name="textAreaBottom" fmla="*/ 719640 h 75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763120" y="1757520"/>
            <a:ext cx="75960" cy="750600"/>
          </a:xfrm>
          <a:custGeom>
            <a:avLst/>
            <a:gdLst>
              <a:gd name="textAreaLeft" fmla="*/ 0 w 75960"/>
              <a:gd name="textAreaRight" fmla="*/ 53280 w 75960"/>
              <a:gd name="textAreaTop" fmla="*/ 30960 h 750600"/>
              <a:gd name="textAreaBottom" fmla="*/ 719640 h 75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40680" y="190512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067680" y="1682640"/>
            <a:ext cx="76320" cy="901800"/>
          </a:xfrm>
          <a:custGeom>
            <a:avLst/>
            <a:gdLst>
              <a:gd name="textAreaLeft" fmla="*/ 0 w 76320"/>
              <a:gd name="textAreaRight" fmla="*/ 27360 w 76320"/>
              <a:gd name="textAreaTop" fmla="*/ 23400 h 901800"/>
              <a:gd name="textAreaBottom" fmla="*/ 87840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55120" y="2971800"/>
            <a:ext cx="1570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1.5 ·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150520" y="1217520"/>
            <a:ext cx="34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ono de presión (Rotsher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78720" y="4336920"/>
            <a:ext cx="7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15000" y="41148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63440" y="4572000"/>
            <a:ext cx="76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38680" y="4572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69280" y="403236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+ 0.5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393320" y="45720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+ 2.5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7391520" y="4565520"/>
            <a:ext cx="13716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418464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839080" y="418464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4343400"/>
            <a:ext cx="4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12080" y="433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0" y="41083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067680" y="4108320"/>
            <a:ext cx="76320" cy="914400"/>
          </a:xfrm>
          <a:custGeom>
            <a:avLst/>
            <a:gdLst>
              <a:gd name="textAreaLeft" fmla="*/ 0 w 76320"/>
              <a:gd name="textAreaRight" fmla="*/ 2736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030640" y="533412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638680" y="51055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62720" y="5562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38680" y="55627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7680" y="533412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39152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05720" y="556272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69280" y="563256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+ 0.5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93320" y="61722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+ 2.5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7391520" y="6165720"/>
            <a:ext cx="13716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15200" y="578484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839080" y="578484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77120" y="5943600"/>
            <a:ext cx="4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12080" y="5937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0" y="57085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067680" y="5708520"/>
            <a:ext cx="76320" cy="914400"/>
          </a:xfrm>
          <a:custGeom>
            <a:avLst/>
            <a:gdLst>
              <a:gd name="textAreaLeft" fmla="*/ 0 w 76320"/>
              <a:gd name="textAreaRight" fmla="*/ 2736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12440" y="3041640"/>
            <a:ext cx="7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960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 dx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97520" y="328284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772400" y="3276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3-04-08T12:26:04Z</dcterms:modified>
  <cp:revision>81</cp:revision>
  <dc:subject/>
  <dc:title>Sin título de diapositiva</dc:title>
</cp:coreProperties>
</file>