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073-7EA6-46B7-8CD4-DFFE2593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94B-EB17-498A-856F-1218BF5C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6CE-DC02-44B5-A379-B7BA1B04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153-0DC1-4898-B0AF-9FC2A7AC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684-598E-4F43-816E-9DA145E8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22B-9A0A-4A9C-AA35-5F67F9B8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5ED-D168-41F4-B756-D6382E73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D41-8591-4C97-AF03-8579D904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2D1-D03C-4706-BEB6-969648AB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4E1-58E1-4C15-81CD-2261B683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3E8-5557-4E6B-98F7-F4AC4A8D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151-D37A-43B8-B48F-2C3C51C7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FD2A-51BF-48C8-A725-31DD3F27AF2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5280" y="2819520"/>
            <a:ext cx="50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FRENOS Y EMBRAG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57480" y="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CINTA O B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RENOS%20CINTA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867280" cy="344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 + dP)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 - P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648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5410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/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304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868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868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05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715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51814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715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1800" y="5146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55627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638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52578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3341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63640" y="507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91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43200" y="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TAGUES 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RENOS%20DISCO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3138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1981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1880" y="1905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880" y="2133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22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r dr= 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84160" y="1676520"/>
            <a:ext cx="85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3070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141760" y="2133720"/>
            <a:ext cx="621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1240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6960" y="3048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6960" y="3276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124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f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r= 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007120" y="2971800"/>
            <a:ext cx="9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2306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066160" y="3429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038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183640" y="3816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5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46640" y="42670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29920" y="39276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+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648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47242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12520" y="44956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735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569760" y="4952880"/>
            <a:ext cx="621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8280" y="468936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583440" y="5187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735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646440" y="56386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4960" y="514656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10800" y="56386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54720" y="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RAGUES C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RENOS%20CONICO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343400" cy="3102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18288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1360" y="1752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1360" y="1981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d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7840" y="2895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7840" y="3124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743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2895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02600" y="3124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26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784920" y="2743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859080" y="3124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200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10280" y="29304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886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564880" y="36576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86836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91320" y="37749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105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2076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076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 d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868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868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8240" y="51404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9636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43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346280" y="49528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20440" y="53341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54100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5181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4200" y="495288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68360" y="53341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5410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3240" y="5070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88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12952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2514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050280" y="22860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2014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24640" y="2514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41911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24080" y="396252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72880" y="43434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0040" y="407988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7800" y="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FR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FRENOS%20MAT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2012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6800" y="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EMBR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EMBRAGUES%20MAT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816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4840" y="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RENOS%20CLSIF" descr=""/>
          <p:cNvPicPr/>
          <p:nvPr/>
        </p:nvPicPr>
        <p:blipFill>
          <a:blip r:embed="rId1"/>
          <a:stretch/>
        </p:blipFill>
        <p:spPr>
          <a:xfrm>
            <a:off x="1123920" y="1033560"/>
            <a:ext cx="72579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RENOS%20CLASI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1814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ENOS%20CLAS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977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53720" y="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ALISIS EST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ENOS%20ANALISIS%20EST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276720" cy="322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30680" y="7272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ribución de pr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8880" y="1447920"/>
            <a:ext cx="9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68760" y="20574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quilibrio est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2920" y="2666880"/>
            <a:ext cx="139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6120" y="3346560"/>
            <a:ext cx="377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b – N ·b+f ·N ·a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7280" y="3809880"/>
            <a:ext cx="181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(b – f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6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343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5105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791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2578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58672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1814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79132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760" y="4952880"/>
            <a:ext cx="3885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resión en cualquier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re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superfici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42760" y="0"/>
            <a:ext cx="76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IN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RENOS%20ZAP%20INT" descr=""/>
          <p:cNvPicPr/>
          <p:nvPr/>
        </p:nvPicPr>
        <p:blipFill>
          <a:blip r:embed="rId1"/>
          <a:stretch/>
        </p:blipFill>
        <p:spPr>
          <a:xfrm>
            <a:off x="0" y="609480"/>
            <a:ext cx="4267080" cy="392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914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4160" y="609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113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42240" y="6159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1149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057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7524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292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 sen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781680" y="3429000"/>
            <a:ext cx="18288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943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6386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6172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6172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25780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1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191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1880" y="4038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4267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114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r – a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1880" y="4952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1880" y="5181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5791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6019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r 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9600" y="59436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143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676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447920" y="1676160"/>
            <a:ext cx="8380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3716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–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371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1600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12952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+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600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51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200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47920" y="3429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124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-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029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440" y="4876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4440" y="51055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0292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724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58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9436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4440" y="6172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60958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3244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7913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50292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½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8769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60199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4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5867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62485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33960" y="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RENOS%20ZAP%20EXT" descr=""/>
          <p:cNvPicPr/>
          <p:nvPr/>
        </p:nvPicPr>
        <p:blipFill>
          <a:blip r:embed="rId1"/>
          <a:stretch/>
        </p:blipFill>
        <p:spPr>
          <a:xfrm>
            <a:off x="0" y="685800"/>
            <a:ext cx="4359240" cy="408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4120" y="1066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838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1295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4876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57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752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2286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1981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-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-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867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3960" y="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IME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FRENOS%20ZAP%20EXT%20SIMETR" descr=""/>
          <p:cNvPicPr/>
          <p:nvPr/>
        </p:nvPicPr>
        <p:blipFill>
          <a:blip r:embed="rId1"/>
          <a:stretch/>
        </p:blipFill>
        <p:spPr>
          <a:xfrm>
            <a:off x="0" y="914400"/>
            <a:ext cx="5410080" cy="367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514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6280" y="2362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628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438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a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r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334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3341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a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72428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3T12:41:10Z</dcterms:modified>
  <cp:revision>192</cp:revision>
  <dc:subject/>
  <dc:title>Sin título de diapositiva</dc:title>
</cp:coreProperties>
</file>