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236-6E12-4147-8C88-3575D441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F20-3221-453A-A563-C27C5157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C9E-4FE4-443A-8EA6-74FD87E7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2FF-0ABB-4707-8327-FDF3E31F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6DB-591E-4844-AF0C-3CEFA646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D10-43DE-4B8E-8974-11DB4326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553-E381-46DD-A8E2-0B7C4634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CBB-6C4A-4F27-9814-8FED8611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3B0-7FC1-433C-8CE4-D9ED9E6A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A49-F37F-42BD-A3E4-2191E7FC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D76-A4D9-4A77-93E7-3E472982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E75-4829-4BCA-9DAF-03FE9660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BBE9-5B02-4A82-B6DD-1F5CD48EB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1000" y="2060640"/>
            <a:ext cx="780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 CUAL ES SU OPINION SOBRE EL ACT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MARCO REGULATORIO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TRANSPORTE PUBL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QUE CAMBIOS INTRODUCIR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63880" y="2060640"/>
            <a:ext cx="674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 CUALES SON LOS ASPECTOS 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IMPORTANTES A CONSIDERAR EN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AMBIO TECNOLOG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53080" y="2060640"/>
            <a:ext cx="676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 CUALES SON LOS ASPECTOS 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IMPORTANTES A CONSIDERAR EN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FINICION DE LOS RECORRI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19200" y="2060640"/>
            <a:ext cx="60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¿ CUALES SON LAS VENTAJAS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SVENTAJAS D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MPRESARIZAC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13:50:08Z</dcterms:created>
  <dc:creator>Roberto Corvalán Paiva</dc:creator>
  <dc:description/>
  <dc:language>en-US</dc:language>
  <cp:lastModifiedBy>Roberto Corvalán Paiva</cp:lastModifiedBy>
  <dcterms:modified xsi:type="dcterms:W3CDTF">2002-11-09T13:50:53Z</dcterms:modified>
  <cp:revision>1</cp:revision>
  <dc:subject/>
  <dc:title>Diapositiva 1</dc:title>
</cp:coreProperties>
</file>