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FA69-7ACA-4C45-A394-90A63CDDD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38A2-EAB2-4BEE-8FE7-BD4A5EA9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29CC-D4FC-44D7-B212-9A4F66A6D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4333-77B8-4B88-AAB2-0B96D6E3F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C9AF-0697-4507-8043-9A73490A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DDCE-6F14-4659-BA0F-A27DF2D1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6184-B9BB-4CEA-A65E-168080F9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D685-D7B6-4E15-8737-550524D3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A4B8-D674-4796-941B-62A6B5CE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1ADF-1E96-4ED1-8D97-E199FC08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454A-509A-4B98-894F-D3DE17F8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C912-B5E3-4D71-A474-558BD998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6091-2565-4DAD-B9BA-B0CCB2433346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2819520"/>
            <a:ext cx="61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NGRANAJES HELICOID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PARALE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E%20Rectos%20Fact%20DistCarga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534520" cy="29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676520" y="2819520"/>
            <a:ext cx="61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NGRANAJES HELICOID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CRUZ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E%20HelicCrzados%20Sesgo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3930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3520" y="4495680"/>
            <a:ext cx="2454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±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2680" y="556272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5334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579744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57913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49760" y="4495680"/>
            <a:ext cx="38214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Symbol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entre e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ángulo hélice engranaje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 : diámetro de pa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 : número de 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paso diametral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448080" y="10008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E%20HelicParal%20Ralaciones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6782040" cy="3409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60" y="4267080"/>
            <a:ext cx="3691800" cy="25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paso circular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paso circular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paso circular ax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la hél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paso diametral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66520" y="4267080"/>
            <a:ext cx="4671720" cy="21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paso diametral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presión plano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presión plano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número de 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`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número virtual de 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79240" y="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Re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68880" y="1143000"/>
            <a:ext cx="1716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60960" y="2209680"/>
            <a:ext cx="69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49520" y="190512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16240" y="243828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24382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37640" y="350532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25480" y="320040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2920" y="373392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37339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952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8680" y="4343400"/>
            <a:ext cx="97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9760" y="4876920"/>
            <a:ext cx="89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48769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78520" y="5791320"/>
            <a:ext cx="7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`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67080" y="5486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46760" y="6019920"/>
            <a:ext cx="96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60199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970000" y="100080"/>
            <a:ext cx="30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álisis de Fuer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91440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W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E%20HelicParal%20Fuerzas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4038480" cy="37749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34120" y="160020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W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10080" y="266688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W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10080" y="342900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10080" y="419112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8520" y="5486400"/>
            <a:ext cx="7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7760" y="5257800"/>
            <a:ext cx="48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46760" y="5715000"/>
            <a:ext cx="1679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14800" y="571500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62840" y="100080"/>
            <a:ext cx="38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Esfuerzos sobre el d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3920" y="76212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5335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10666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9907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9810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- 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14600" y="1752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09680" y="228600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 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220968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60400" y="1752480"/>
            <a:ext cx="5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0" y="18288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312408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7760" y="2819520"/>
            <a:ext cx="5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623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3352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78+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09680" y="32767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289548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3429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4114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I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480" y="3886200"/>
            <a:ext cx="163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43434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 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3434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388620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02440" y="4343400"/>
            <a:ext cx="103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43434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3920" y="5070600"/>
            <a:ext cx="87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05720" y="480060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5334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0.95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53341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0760" y="60958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Z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6019920"/>
            <a:ext cx="2438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a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r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60958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6019920"/>
            <a:ext cx="2438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a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r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60958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55000" y="6054840"/>
            <a:ext cx="2059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6240" y="601992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68720" y="60199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E%20HelicParal%20Nomenc" descr=""/>
          <p:cNvPicPr/>
          <p:nvPr/>
        </p:nvPicPr>
        <p:blipFill>
          <a:blip r:embed="rId1"/>
          <a:stretch/>
        </p:blipFill>
        <p:spPr>
          <a:xfrm>
            <a:off x="3886200" y="1143000"/>
            <a:ext cx="52578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E%20HelicParal%20FactorJ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991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84120" y="10008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álculo a la Fati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68580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5720" y="175248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151776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19810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1981080"/>
            <a:ext cx="9144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20120" y="167652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90720" y="990720"/>
            <a:ext cx="299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0.4 · H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10 Kp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E%20HelicParal%20NomencResist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655308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E%20HelicParal%20CH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010280" cy="52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743200" y="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Factor de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1447920"/>
            <a:ext cx="281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3200400"/>
            <a:ext cx="7162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Factor de seguridad para el cálculo de engran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Factor de sobre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Factor de distribución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    : Factor de seguridad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1-10-10T13:49:35Z</dcterms:modified>
  <cp:revision>159</cp:revision>
  <dc:subject/>
  <dc:title>Sin título de diapositiva</dc:title>
</cp:coreProperties>
</file>