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4B1-2A3A-45D8-A50C-DEFB9CEA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D63-74C0-4F14-A33E-008705CF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0D4-E693-4452-BB20-E2CDAFC3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C72-AE7D-415C-A54A-1FC4DA83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A08-453D-4A39-A6F6-DAE5CB0B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E71-6A78-4024-8ED2-E65699EA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82A-FB56-4B62-80F7-1362DCC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A88-03C3-4649-AFFA-1277618E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34E-0CD8-4915-B4AE-B8A80E51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E41-7BF1-4C01-9E88-99C328A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3BA-1F7F-4AF6-98BF-43D3A45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478-F56A-4C7A-BA5E-A0D2A67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91F0-1528-48ED-84E4-BB5A3AEED9C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%20Rectos%20Fact%20DistCarga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U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%20HelicCrzados%20Sesgo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393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24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680" y="55627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974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9760" y="4495680"/>
            <a:ext cx="3821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entre e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ángulo hélice engrana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%20HelicParal%20Ralaciones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4267080"/>
            <a:ext cx="3691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la hé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6520" y="4267080"/>
            <a:ext cx="46717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virtual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9240" y="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8880" y="114300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60960" y="220968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9520" y="19051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240" y="2438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7640" y="3505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480" y="32004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37339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8680" y="43434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9760" y="4876920"/>
            <a:ext cx="89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520" y="57913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676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914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%20HelicParal%20Fuerzas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377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4120" y="1600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6668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429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1911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8520" y="5486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760" y="525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6760" y="5715000"/>
            <a:ext cx="167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7150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9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1240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7760" y="28195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895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480" y="3886200"/>
            <a:ext cx="163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343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886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2440" y="4343400"/>
            <a:ext cx="10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343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920" y="5070600"/>
            <a:ext cx="87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5720" y="480060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0.95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760" y="60958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Z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55000" y="6054840"/>
            <a:ext cx="205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6240" y="60199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8720" y="601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%20HelicParal%20Nomenc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%20HelicParal%20FactorJ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%20HelicParal%20CH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3:49:35Z</dcterms:modified>
  <cp:revision>159</cp:revision>
  <dc:subject/>
  <dc:title>Sin título de diapositiva</dc:title>
</cp:coreProperties>
</file>