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E1CC-531D-4720-A0E5-0F4DA041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F3E-44E8-4F6D-B19C-AD825285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117-A025-40C6-97FE-C3B2705B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B743-E954-4F9A-8964-4CB1D12E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613-4B9A-4D1B-83C1-72FDB616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7EE-0F58-4C0A-8AF5-BFD3A5D6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F4D-F0A4-451E-A505-E58B34EB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008-6770-401D-A4C1-12A1D72D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88A-FF2E-4837-8274-1C17AF56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D84-3925-4488-9A76-D146D40D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93C-7766-44D9-A248-C663D858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A64-0337-4D1B-BA58-27E4E6F7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4A7C-1DEC-4286-87B1-BCD3D3799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1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609480"/>
            <a:ext cx="358128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6 hilos por pul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oble entrada (rosca do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iámtero mayor = 1 pul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0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1.25 pulg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F = 1500 lb por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1904760" cy="165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7242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rmaliz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4267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416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4495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696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3341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n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426708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7913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44956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9167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5257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8333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0.333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7280" y="16207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01000" y="13222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213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84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42920" y="1316160"/>
            <a:ext cx="15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65880" y="184932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184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46844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146844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3640" y="1627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77120" y="1265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31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855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2760" y="762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  contra la car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640" y="3581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4440" y="33526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060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3879720"/>
            <a:ext cx="1676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4920" y="330372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0.33 +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0.08 ·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1120" y="3836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9167 - 0.08 ·0.33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505320"/>
            <a:ext cx="75960" cy="76176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50532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4000" y="3581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4520" y="320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9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8680" y="48769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136 + 75 = 211 lb · pul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78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8000" y="12952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  a favor de la car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008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4380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412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86440" y="213372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9400" y="266688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22860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28924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1000" y="2392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24480" y="2030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40480" y="262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2620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3040" y="4032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7280" y="36576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08 ·0.9167 - 0.33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6560" y="4267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9167 + 0.08 · 0.333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809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809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4000" y="3962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63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5840" y="373392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200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260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4520" y="3657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9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24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97240" y="51814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-24.4 + 75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  50 lb · pul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520" y="1295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ficiencia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7280" y="188280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3080" y="158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2880" y="3330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4360" y="3032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1500 · 0.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·2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0" y="47242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37.7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38640" cy="2867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724360" y="404640"/>
            <a:ext cx="213552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0 – 36 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= 5/8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’ = 18.4 k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30 M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12 M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= 1.5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3716280"/>
                <a:ext cx="43927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508720" y="4149720"/>
                <a:ext cx="2735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627280" y="0"/>
                <a:ext cx="3543480" cy="55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79640" y="5445000"/>
                <a:ext cx="47577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859280" y="2637000"/>
            <a:ext cx="28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3880" y="1397160"/>
            <a:ext cx="398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916360" y="549360"/>
                <a:ext cx="2519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959120" y="1938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91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19162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19162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24922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2.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1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4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349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191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348000" y="3284640"/>
                <a:ext cx="2664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340000" y="4005360"/>
                <a:ext cx="1584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48360" y="4005360"/>
                <a:ext cx="1834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kps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284720" y="4797360"/>
                <a:ext cx="3959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11280" y="5013360"/>
                <a:ext cx="288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ki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13:18:49Z</dcterms:created>
  <dc:creator>Roberto Corvalán Paiva</dc:creator>
  <dc:description/>
  <dc:language>en-US</dc:language>
  <cp:lastModifiedBy>Roberto Corvalán Paiva</cp:lastModifiedBy>
  <dcterms:modified xsi:type="dcterms:W3CDTF">2002-08-21T13:59:08Z</dcterms:modified>
  <cp:revision>4</cp:revision>
  <dc:subject/>
  <dc:title>Diapositiva 1</dc:title>
</cp:coreProperties>
</file>