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3A4D-048C-497F-ACB7-CF9ECDA35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D8FB-59C6-477F-8020-D4148277A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E393-74F0-4087-927C-1AF4F032C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F3E9-32D3-4E0B-B0EC-BA315FBB4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6412-0281-445B-8F84-02DC4FFAB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2503-09F2-46D1-98D4-E02CE8C1E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39AA-395F-47D0-ABAF-CA6D91076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2629-9555-4A0B-A005-DBB002BD0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4D52-6775-4942-86B3-D1D0054C1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ABC7-2340-46AF-A42A-D75CC41D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9715-467F-4C7F-B15A-FDF7A242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4E96-4385-4141-9A5E-CF9CBB10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9A526-44BF-45FD-8D53-22FB5E27957C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54320" y="2819520"/>
            <a:ext cx="502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ENGRANAJES CON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68320" y="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Res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8120" y="609480"/>
            <a:ext cx="281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25200" y="1530360"/>
            <a:ext cx="74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28800" y="129528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28800" y="175896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52480" y="1758960"/>
            <a:ext cx="91440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29960" y="1454040"/>
            <a:ext cx="45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276520" y="1523880"/>
            <a:ext cx="299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0.4 · H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– 10 Kp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E%20HelicParal%20NomencResist" descr=""/>
          <p:cNvPicPr/>
          <p:nvPr/>
        </p:nvPicPr>
        <p:blipFill>
          <a:blip r:embed="rId1"/>
          <a:stretch/>
        </p:blipFill>
        <p:spPr>
          <a:xfrm>
            <a:off x="1295280" y="2362320"/>
            <a:ext cx="6553440" cy="41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768680" y="2819520"/>
            <a:ext cx="60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Engranales Cónicos Espir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E%20Conicos%20Espirales%20Fzas" descr=""/>
          <p:cNvPicPr/>
          <p:nvPr/>
        </p:nvPicPr>
        <p:blipFill>
          <a:blip r:embed="rId1"/>
          <a:stretch/>
        </p:blipFill>
        <p:spPr>
          <a:xfrm>
            <a:off x="0" y="380880"/>
            <a:ext cx="4164120" cy="34196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004560" y="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Análisis de fuer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30600" y="838080"/>
            <a:ext cx="765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38880" y="609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186680" y="990720"/>
            <a:ext cx="59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162920" y="10666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16120" y="1447920"/>
            <a:ext cx="453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Espiral derecha giro horario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espiral izquierda giro anti-horari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93000" y="2479680"/>
            <a:ext cx="805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28560" y="2251080"/>
            <a:ext cx="48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72320" y="2631960"/>
            <a:ext cx="8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22800" y="27082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676480" y="2438280"/>
            <a:ext cx="350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-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291560" y="3352680"/>
            <a:ext cx="78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28560" y="3124080"/>
            <a:ext cx="48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72320" y="3505320"/>
            <a:ext cx="8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22800" y="35812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676480" y="3311640"/>
            <a:ext cx="350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-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41148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Espiral derecha giro horario y espiral izquierda giro anti-horari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005200" y="4883040"/>
            <a:ext cx="805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41120" y="4654440"/>
            <a:ext cx="48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84520" y="5035680"/>
            <a:ext cx="8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35360" y="511164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389760" y="4842000"/>
            <a:ext cx="361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004120" y="5756400"/>
            <a:ext cx="78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41120" y="5527800"/>
            <a:ext cx="48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84520" y="5908680"/>
            <a:ext cx="8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35360" y="598500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89040" y="5715000"/>
            <a:ext cx="350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-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814480" y="0"/>
            <a:ext cx="33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Análisis de Esfuerz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78520" y="762120"/>
            <a:ext cx="6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2520" y="53352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9880" y="106668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F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62520" y="99072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198108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- 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14600" y="17524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28600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F 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362320" y="220968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60400" y="1752480"/>
            <a:ext cx="58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0" y="18288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81480" y="1981080"/>
            <a:ext cx="281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E%20HelicParal%20Nomenc" descr=""/>
          <p:cNvPicPr/>
          <p:nvPr/>
        </p:nvPicPr>
        <p:blipFill>
          <a:blip r:embed="rId1"/>
          <a:stretch/>
        </p:blipFill>
        <p:spPr>
          <a:xfrm>
            <a:off x="1828800" y="2744640"/>
            <a:ext cx="525780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918520" y="0"/>
            <a:ext cx="31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Factor Geométrico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E%20Conicos%20Espirales%20J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624816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960640" y="0"/>
            <a:ext cx="30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Factor Geométric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E%20Conicos%20Espirales%20I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609624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562200" y="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Res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685800"/>
            <a:ext cx="281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 =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5720" y="1752480"/>
            <a:ext cx="74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19320" y="151776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198108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43000" y="1981080"/>
            <a:ext cx="91440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20120" y="1676520"/>
            <a:ext cx="45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90720" y="990720"/>
            <a:ext cx="299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0.4 · H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– 10 Kp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E%20HelicParal%20NomencResist" descr=""/>
          <p:cNvPicPr/>
          <p:nvPr/>
        </p:nvPicPr>
        <p:blipFill>
          <a:blip r:embed="rId1"/>
          <a:stretch/>
        </p:blipFill>
        <p:spPr>
          <a:xfrm>
            <a:off x="1143000" y="2590920"/>
            <a:ext cx="6553080" cy="41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993320" y="2819520"/>
            <a:ext cx="55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Engranajes Cónicos Re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430440" y="0"/>
            <a:ext cx="19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Defini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E%20Conicos%20Rectos%20Ralaciones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4267440" cy="3970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753520" y="1406520"/>
            <a:ext cx="110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67720" y="114300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68800" y="1676520"/>
            <a:ext cx="51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65840" y="2666880"/>
            <a:ext cx="111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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960960" y="2403360"/>
            <a:ext cx="51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959880" y="293688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0" y="16765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4320" y="28954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5400" y="3892680"/>
            <a:ext cx="76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`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3657600"/>
            <a:ext cx="87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162920" y="403848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411480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67640" y="4575240"/>
            <a:ext cx="6105960" cy="23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Symbol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ángulo de paso piñ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ángulo de paso rue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número de dientes piñ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número de dientes rue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` : número virtual de dientes (aprox Tredg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: paso circular en el extremo mayor de 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E%20Conicos%20Rectos%20PrpDientes" descr=""/>
          <p:cNvPicPr/>
          <p:nvPr/>
        </p:nvPicPr>
        <p:blipFill>
          <a:blip r:embed="rId1"/>
          <a:stretch/>
        </p:blipFill>
        <p:spPr>
          <a:xfrm>
            <a:off x="1600200" y="685800"/>
            <a:ext cx="6324480" cy="51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04560" y="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Análisis de fuer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330600" y="838080"/>
            <a:ext cx="765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86160" y="1746360"/>
            <a:ext cx="2642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45760" y="4038480"/>
            <a:ext cx="6511320" cy="28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componente tangencial de la fuerza de conta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componente radial de la fuerza de conta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componente axial de la fuerza de conta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 : par tor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ed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radio de paso en el punto medio deld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Symbol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ángulo de pre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ángulo de pa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E%20Conicos%20Rectos%20Fzas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4309920" cy="37864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238880" y="609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86680" y="990720"/>
            <a:ext cx="59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10666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72200" y="2438280"/>
            <a:ext cx="281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661560" y="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Esfuerz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10605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00200" y="75564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55480" y="1219320"/>
            <a:ext cx="93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F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12891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81080" y="1654200"/>
            <a:ext cx="6400800" cy="55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esfuerzo flex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carga transmit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: paso diame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fact. de velocid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: ancho de cara (flex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J : factor geomét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coeficiente elá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factor de velo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I : factor geométrico (durabilidad de superfici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ángulo de av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factor de seguridad de los engran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factor de sobre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factor de distribución de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 : factor de seguridad conve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990720"/>
            <a:ext cx="152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- 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81480" y="76212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76920" y="1295280"/>
            <a:ext cx="144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F 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29200" y="121932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27280" y="762120"/>
            <a:ext cx="58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952880" y="8380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0" y="990720"/>
            <a:ext cx="281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E%20Conicos%20Rectos%20Fact%20J" descr=""/>
          <p:cNvPicPr/>
          <p:nvPr/>
        </p:nvPicPr>
        <p:blipFill>
          <a:blip r:embed="rId1"/>
          <a:stretch/>
        </p:blipFill>
        <p:spPr>
          <a:xfrm>
            <a:off x="1447920" y="914400"/>
            <a:ext cx="6781680" cy="54738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918520" y="0"/>
            <a:ext cx="31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Factor Geométrico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709000" y="0"/>
            <a:ext cx="35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Coeficiente Elástico 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E%20Conicos%20Rectos%20Cp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84872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965320" y="0"/>
            <a:ext cx="30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Factor Geométric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E%20Conicos%20Rectos%20I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67057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4:27:20Z</dcterms:created>
  <dc:creator>ROBERTO CORVALAN PAIVA</dc:creator>
  <dc:description/>
  <dc:language>en-US</dc:language>
  <cp:lastModifiedBy>Roberto Corvalán Paiva</cp:lastModifiedBy>
  <dcterms:modified xsi:type="dcterms:W3CDTF">2001-10-10T21:40:58Z</dcterms:modified>
  <cp:revision>171</cp:revision>
  <dc:subject/>
  <dc:title>Sin título de diapositiva</dc:title>
</cp:coreProperties>
</file>