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CD7D-C760-4AAA-A5FB-CEA726FD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E5A-B485-4C26-8EEF-03275F07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96F6-9AF5-4C39-921C-2052F35B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41FC-735C-492C-98F1-07A39A6B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80F-6630-4848-9487-996B90C2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7C54-0FCF-4DEF-A595-3A778616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4F61-7278-413B-9FB2-0930573A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0CB4-090E-42F0-982B-04E6ACFF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1301-B7E2-4443-93DE-F2F4CC6F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1D6-597E-4BD6-866E-E2D33494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F903-6378-4535-BFB9-49E042C4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25C-792C-423E-BD3C-C397BFAF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90FD-C8DF-405E-B778-B68C65F8AFDA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7360" y="2819520"/>
            <a:ext cx="58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RBOLES DE TRANSM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141200" y="3808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aga Est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05120" y="1828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954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27080" y="22096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954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5160" y="18288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 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90920" y="16765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19520" y="17524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81280" y="17524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62720" y="160020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40120" y="1523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62120" y="852480"/>
            <a:ext cx="14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= 66 k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59040" y="838080"/>
            <a:ext cx="14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= 20 k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15000" y="838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n = 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3809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954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74440" y="4191120"/>
            <a:ext cx="15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· 66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3200" y="41148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226400" y="3809880"/>
            <a:ext cx="25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 192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330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438280" y="36576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66880" y="37339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14800" y="37339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0" y="358128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1720" y="3429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76720" y="5410080"/>
            <a:ext cx="19810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02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114800" y="1447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05520" y="1219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189040" y="17524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05520" y="1752480"/>
            <a:ext cx="8380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029200" y="1371600"/>
            <a:ext cx="76320" cy="977760"/>
          </a:xfrm>
          <a:custGeom>
            <a:avLst/>
            <a:gdLst>
              <a:gd name="textAreaLeft" fmla="*/ 22320 w 76320"/>
              <a:gd name="textAreaRight" fmla="*/ 7632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5880" y="1371600"/>
            <a:ext cx="76320" cy="977760"/>
          </a:xfrm>
          <a:custGeom>
            <a:avLst/>
            <a:gdLst>
              <a:gd name="textAreaLeft" fmla="*/ 0 w 76320"/>
              <a:gd name="textAreaRight" fmla="*/ 5364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73640" y="1219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52760" y="3808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ati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1080" y="1447920"/>
            <a:ext cx="106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479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9720" y="183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7920" y="1752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24080" y="14479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57400" y="3276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8120" y="3048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1920 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31640" y="3581280"/>
            <a:ext cx="15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· 20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8128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71800" y="3200400"/>
            <a:ext cx="76320" cy="977760"/>
          </a:xfrm>
          <a:custGeom>
            <a:avLst/>
            <a:gdLst>
              <a:gd name="textAreaLeft" fmla="*/ 22320 w 76320"/>
              <a:gd name="textAreaRight" fmla="*/ 7632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29200" y="3200400"/>
            <a:ext cx="76320" cy="977760"/>
          </a:xfrm>
          <a:custGeom>
            <a:avLst/>
            <a:gdLst>
              <a:gd name="textAreaLeft" fmla="*/ 0 w 76320"/>
              <a:gd name="textAreaRight" fmla="*/ 5364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06960" y="3048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24080" y="5105520"/>
            <a:ext cx="1981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21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600200" y="1066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382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92000" y="14479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14600" y="13716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83808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0532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05320" y="144792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05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9907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38480" y="9907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6240" y="76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144792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7200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495680" y="9907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05520" y="99072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82920" y="76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76720" y="838080"/>
            <a:ext cx="75960" cy="106704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10080" y="838080"/>
            <a:ext cx="152640" cy="106704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4160" y="762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019200" y="838080"/>
            <a:ext cx="152280" cy="106704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7320" y="762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27760" y="304920"/>
            <a:ext cx="50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Sodelberg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</a:rPr>
              <a:t>(esfuerzo cosrtante máxim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514600" y="220968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52880" y="22096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76520" y="3276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1460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667960" y="3657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90920" y="3581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62320" y="304812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8128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81280" y="36576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35812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05320" y="3200400"/>
            <a:ext cx="75960" cy="83808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14800" y="32004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92560" y="29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83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365760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35812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72000" y="32004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81480" y="32004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259240" y="29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352680" y="304812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86400" y="3048120"/>
            <a:ext cx="152280" cy="1066680"/>
          </a:xfrm>
          <a:custGeom>
            <a:avLst/>
            <a:gdLst>
              <a:gd name="textAreaLeft" fmla="*/ 0 w 152280"/>
              <a:gd name="textAreaRight" fmla="*/ 106920 w 15228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40120" y="2971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6095880" y="30481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73640" y="2971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43000" y="4648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8108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87080" y="50292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57400" y="49528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828800" y="441972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52680" y="4419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352680" y="5029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6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52680" y="49528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76720" y="4572000"/>
            <a:ext cx="75960" cy="83808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67080" y="45720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4840" y="434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72428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9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242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24280" y="49528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0" y="45720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38680" y="45720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640120" y="434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441972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67280" y="4419720"/>
            <a:ext cx="152640" cy="106668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21360" y="43434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6476400" y="441972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54520" y="43434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352680" y="5867280"/>
            <a:ext cx="1981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26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05160" y="228600"/>
            <a:ext cx="533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Sodelberg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</a:rPr>
              <a:t>(máxima energía de distorsión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00200" y="2057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92000" y="2438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14600" y="2362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86000" y="18288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053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05320" y="24382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05320" y="2362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29000" y="1981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038480" y="19810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16240" y="175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0" y="24382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72000" y="2362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1981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05520" y="1981080"/>
            <a:ext cx="75960" cy="83844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82920" y="175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1828800"/>
            <a:ext cx="75960" cy="106668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10080" y="1828800"/>
            <a:ext cx="152640" cy="106668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564160" y="1752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6019200" y="182880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7320" y="1752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99072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77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876920" y="990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77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3581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98108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 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87080" y="39625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057400" y="3886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828800" y="335268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3526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6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52680" y="3886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3505320"/>
            <a:ext cx="75960" cy="83808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7080" y="35053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4840" y="3276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72428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9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7242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724280" y="3886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5053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638680" y="35053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640120" y="3276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24080" y="3352680"/>
            <a:ext cx="76320" cy="106704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67280" y="3352680"/>
            <a:ext cx="152640" cy="106704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021360" y="3276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6476400" y="3352680"/>
            <a:ext cx="152280" cy="106704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554520" y="3276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5334120"/>
            <a:ext cx="19810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44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628000" y="10008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iseño a carga est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10080" y="2590920"/>
            <a:ext cx="857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24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56080" y="2971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2895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19440" y="1219320"/>
            <a:ext cx="76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79760" y="1600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1523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5400" y="1447920"/>
            <a:ext cx="35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normal de Flex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6120" y="2743200"/>
            <a:ext cx="27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de 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960" y="426708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Cortante Máxi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5486400"/>
            <a:ext cx="1066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á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3080" y="58672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5791320"/>
            <a:ext cx="4572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4191120"/>
            <a:ext cx="1066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á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39625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3120" y="457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4495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419112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419112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2240" y="4038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4191120"/>
            <a:ext cx="1371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12360" y="4067280"/>
            <a:ext cx="54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41148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6720" y="5457960"/>
            <a:ext cx="47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7800" y="5603760"/>
            <a:ext cx="11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5562720"/>
            <a:ext cx="1219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72560" y="914400"/>
            <a:ext cx="46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Máximo Esfuerzo de Cor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2057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84280" y="24382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3623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02360" y="20574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 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19051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19810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19810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182880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7320" y="1752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1240" y="3429000"/>
            <a:ext cx="43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la Energía de Dis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572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84280" y="49528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4876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75360" y="45720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4419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44956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44956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4343400"/>
            <a:ext cx="152640" cy="99072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3640" y="42670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T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7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4800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44956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44956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40120" y="42670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4080" y="53352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ódigo AS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1523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28520" y="1805040"/>
            <a:ext cx="543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77760" y="1523880"/>
            <a:ext cx="138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13716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129528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4520" y="1066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13716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5040" y="1143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68360" y="1523880"/>
            <a:ext cx="101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14479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895480"/>
            <a:ext cx="4876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onde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 el menor valor ent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26668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01640" y="2590920"/>
            <a:ext cx="1637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3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01640" y="3200400"/>
            <a:ext cx="180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18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4114800"/>
            <a:ext cx="838188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ipo de carga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je Fijo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gradual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repentina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2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je rotatorio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gradual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establ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mpacto ligero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2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-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mpacto fuert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2.0-3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11480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57200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685800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4100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98960" y="114300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altern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6480" y="0"/>
            <a:ext cx="57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Torsión constante y flexión alterna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1219320"/>
            <a:ext cx="80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9760" y="1600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1523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2800" y="25146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med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2590920"/>
            <a:ext cx="857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56080" y="2971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2895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2040" y="3809880"/>
            <a:ext cx="807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sumiendo que la resistencia a la fatiga por flexión no se ve afect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or la existencia de esfuerzo medio por 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510552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4876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30600" y="549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5410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5105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5181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7640" y="548640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54864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51055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51055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2240" y="49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2200" y="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étodo de Sodelbe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1371600"/>
            <a:ext cx="121932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523880" y="6854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1905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190512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86000" y="1523520"/>
            <a:ext cx="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219320"/>
            <a:ext cx="838080" cy="1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62120" y="1523520"/>
            <a:ext cx="0" cy="8384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066320" y="2663640"/>
            <a:ext cx="838440" cy="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0" y="1905120"/>
            <a:ext cx="838080" cy="1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685800"/>
            <a:ext cx="857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73000" y="9144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990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43320" y="2108160"/>
            <a:ext cx="6422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2057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32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53880" y="22860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8120" y="2362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4640" y="21337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s w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0400" y="457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180760" y="1523880"/>
            <a:ext cx="2057400" cy="762120"/>
          </a:xfrm>
          <a:prstGeom prst="rtTriangl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514840" y="1502640"/>
            <a:ext cx="1203480" cy="480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01000" y="2057400"/>
            <a:ext cx="1143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5788800" y="1089720"/>
            <a:ext cx="315720" cy="770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543800" y="1523520"/>
            <a:ext cx="144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2666160"/>
            <a:ext cx="1143000" cy="18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724280" y="129492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867280" y="2666520"/>
            <a:ext cx="990720" cy="3812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001000" y="1676520"/>
            <a:ext cx="914400" cy="3808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743440" y="2652480"/>
            <a:ext cx="114480" cy="388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8921880" y="1689120"/>
            <a:ext cx="171000" cy="3358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7538760" y="1544760"/>
            <a:ext cx="270000" cy="631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543800" y="2209680"/>
            <a:ext cx="304920" cy="152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762120"/>
            <a:ext cx="685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05920" y="19810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990720"/>
            <a:ext cx="76212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2209680"/>
            <a:ext cx="533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676520"/>
            <a:ext cx="5331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1905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199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29600" y="1752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91520" y="1752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14120" y="3476520"/>
            <a:ext cx="27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cuación de equilibr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3886200"/>
            <a:ext cx="52578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en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sen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cos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4773600"/>
            <a:ext cx="10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7400" y="454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88640" y="51544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5078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4800600"/>
            <a:ext cx="1219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os 2 </a:t>
            </a: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-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518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0080" y="51274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50515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4773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en 2 </a:t>
            </a: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os w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134600">
            <a:off x="2702520" y="4840560"/>
            <a:ext cx="274680" cy="1717920"/>
          </a:xfrm>
          <a:custGeom>
            <a:avLst/>
            <a:gdLst>
              <a:gd name="textAreaLeft" fmla="*/ 175680 w 274680"/>
              <a:gd name="textAreaRight" fmla="*/ 275040 w 274680"/>
              <a:gd name="textAreaTop" fmla="*/ 44640 h 1717920"/>
              <a:gd name="textAreaBottom" fmla="*/ 1673280 h 171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5"/>
                </a:lnTo>
                <a:cubicBezTo>
                  <a:pt x="10800" y="10345"/>
                  <a:pt x="5400" y="11245"/>
                  <a:pt x="0" y="11245"/>
                </a:cubicBezTo>
                <a:cubicBezTo>
                  <a:pt x="5400" y="11245"/>
                  <a:pt x="10800" y="12145"/>
                  <a:pt x="10800" y="1304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134600">
            <a:off x="5118840" y="4472280"/>
            <a:ext cx="274680" cy="2438280"/>
          </a:xfrm>
          <a:custGeom>
            <a:avLst/>
            <a:gdLst>
              <a:gd name="textAreaLeft" fmla="*/ 175680 w 274680"/>
              <a:gd name="textAreaRight" fmla="*/ 275040 w 27468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5"/>
                </a:lnTo>
                <a:cubicBezTo>
                  <a:pt x="10800" y="10345"/>
                  <a:pt x="5400" y="11245"/>
                  <a:pt x="0" y="11245"/>
                </a:cubicBezTo>
                <a:cubicBezTo>
                  <a:pt x="5400" y="11245"/>
                  <a:pt x="10800" y="12145"/>
                  <a:pt x="10800" y="1304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62320" y="594360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594360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81240" y="316080"/>
            <a:ext cx="0" cy="4295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4043520"/>
            <a:ext cx="8101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1488960" y="1515960"/>
            <a:ext cx="5540040" cy="505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73" y="1"/>
                </a:moveTo>
                <a:arcTo wR="10800" hR="10800" stAng="-5345085" swAng="5345085"/>
                <a:lnTo>
                  <a:pt x="10800" y="10800"/>
                </a:lnTo>
                <a:close/>
              </a:path>
              <a:path fill="none" w="21600" h="21600">
                <a:moveTo>
                  <a:pt x="10973" y="1"/>
                </a:moveTo>
                <a:arcTo wR="10800" hR="10800" stAng="-5345085" swAng="5345085"/>
              </a:path>
            </a:pathLst>
          </a:custGeom>
          <a:noFill/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81240" y="1136520"/>
            <a:ext cx="5678280" cy="29703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81240" y="820800"/>
            <a:ext cx="6162480" cy="3222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997760" y="4043520"/>
            <a:ext cx="9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8960" y="0"/>
            <a:ext cx="9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7200" y="56844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05840" y="40435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51440" y="366408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90º, 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65080" y="126360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45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19840" y="568440"/>
            <a:ext cx="9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565440" y="990720"/>
            <a:ext cx="473040" cy="1600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1800" y="379440"/>
            <a:ext cx="211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m </a:t>
            </a:r>
            <a:r>
              <a:rPr b="0" i="1" lang="es-CL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s-CL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35640" y="31608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75160" y="820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35640" y="75888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59520" y="50472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43720" y="379440"/>
            <a:ext cx="69840" cy="757080"/>
          </a:xfrm>
          <a:custGeom>
            <a:avLst/>
            <a:gdLst>
              <a:gd name="textAreaLeft" fmla="*/ 0 w 69840"/>
              <a:gd name="textAreaRight" fmla="*/ 48960 w 69840"/>
              <a:gd name="textAreaTop" fmla="*/ 31320 h 757080"/>
              <a:gd name="textAreaBottom" fmla="*/ 725760 h 75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27920" y="379440"/>
            <a:ext cx="69840" cy="757080"/>
          </a:xfrm>
          <a:custGeom>
            <a:avLst/>
            <a:gdLst>
              <a:gd name="textAreaLeft" fmla="*/ 20520 w 69840"/>
              <a:gd name="textAreaRight" fmla="*/ 69840 w 69840"/>
              <a:gd name="textAreaTop" fmla="*/ 31320 h 757080"/>
              <a:gd name="textAreaBottom" fmla="*/ 725760 h 7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51440" y="4043520"/>
            <a:ext cx="0" cy="63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81240" y="4359240"/>
            <a:ext cx="2770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26840" y="151596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34920" y="1515960"/>
            <a:ext cx="0" cy="2527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35280" y="448632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1400" y="48006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35280" y="480204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233676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16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7000" y="26528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0720" y="2652840"/>
            <a:ext cx="41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1440" y="1643040"/>
            <a:ext cx="15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67600" y="1579680"/>
            <a:ext cx="7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0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0120" y="1447920"/>
            <a:ext cx="68040" cy="758880"/>
          </a:xfrm>
          <a:custGeom>
            <a:avLst/>
            <a:gdLst>
              <a:gd name="textAreaLeft" fmla="*/ 0 w 68040"/>
              <a:gd name="textAreaRight" fmla="*/ 47880 w 68040"/>
              <a:gd name="textAreaTop" fmla="*/ 31320 h 758880"/>
              <a:gd name="textAreaBottom" fmla="*/ 727560 h 75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67600" y="1452600"/>
            <a:ext cx="68040" cy="758880"/>
          </a:xfrm>
          <a:custGeom>
            <a:avLst/>
            <a:gdLst>
              <a:gd name="textAreaLeft" fmla="*/ 19800 w 68040"/>
              <a:gd name="textAreaRight" fmla="*/ 68400 w 68040"/>
              <a:gd name="textAreaTop" fmla="*/ 31320 h 758880"/>
              <a:gd name="textAreaBottom" fmla="*/ 727560 h 75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89680" y="1390680"/>
            <a:ext cx="9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29200" y="18954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89680" y="183204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29000" y="504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86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63400" y="5867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5791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57400" y="52578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58672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5791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5410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9880" y="54100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7640" y="518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3400" y="58672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3400" y="5791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67080" y="5410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5410080"/>
            <a:ext cx="75960" cy="83844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4320" y="518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5257800"/>
            <a:ext cx="75960" cy="106668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5257800"/>
            <a:ext cx="152640" cy="106668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560" y="5181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790600" y="525780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8720" y="5181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285280" y="304920"/>
            <a:ext cx="45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Torsión y Flexión altern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25909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2680" y="29718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2895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66680" y="23623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25146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33920" y="251460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7640" y="2362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243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0" y="29718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2971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25146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251460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7320" y="228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236232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0800" y="2362320"/>
            <a:ext cx="152280" cy="1066680"/>
          </a:xfrm>
          <a:custGeom>
            <a:avLst/>
            <a:gdLst>
              <a:gd name="textAreaLeft" fmla="*/ 0 w 152280"/>
              <a:gd name="textAreaRight" fmla="*/ 106920 w 15228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4520" y="2286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7010280" y="23623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8040" y="2286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680" y="137160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Máximo Esfuerzo de Corte (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</a:rPr>
              <a:t>Westinghouse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62320" y="2362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62320" y="297180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895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0400" y="2362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29718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00400" y="2895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0600" y="2666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3600" y="2666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243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29718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2971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30640" y="27432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6240" y="426708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la energía de dis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5257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9000" y="56386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5562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43000" y="50292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0" y="51814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9880" y="51814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3960" y="5029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48320" y="5105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48320" y="56386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8320" y="5638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19720" y="51814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5880" y="51814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73640" y="495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5029200"/>
            <a:ext cx="75960" cy="106668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5029200"/>
            <a:ext cx="152280" cy="1066680"/>
          </a:xfrm>
          <a:custGeom>
            <a:avLst/>
            <a:gdLst>
              <a:gd name="textAreaLeft" fmla="*/ 0 w 152280"/>
              <a:gd name="textAreaRight" fmla="*/ 106920 w 15228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30840" y="49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085880" y="502920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64360" y="49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38280" y="5029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38280" y="56386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8280" y="5562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76720" y="5029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56386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5562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96920" y="5334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39920" y="5334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5105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56386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86400" y="5638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06600" y="54100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13840" y="3049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28800" y="1600200"/>
            <a:ext cx="41911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71800" y="990720"/>
            <a:ext cx="1523880" cy="1295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19520" y="1295280"/>
            <a:ext cx="152280" cy="60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1371600"/>
            <a:ext cx="38124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1295280"/>
            <a:ext cx="152640" cy="60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8320" y="1371600"/>
            <a:ext cx="38088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29200" y="1447920"/>
            <a:ext cx="76320" cy="304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05520" y="1523880"/>
            <a:ext cx="609480" cy="152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438280" y="1371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1371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648320" y="1371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48320" y="1371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1143000"/>
            <a:ext cx="152388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71800" y="2133720"/>
            <a:ext cx="152388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43200" y="2209680"/>
            <a:ext cx="19810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43200" y="1066680"/>
            <a:ext cx="19810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38280" y="1905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19810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19810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71800" y="23623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23623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1905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15000" y="17524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71800" y="27432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2743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29200" y="2743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437920" y="27432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21520" y="2438280"/>
            <a:ext cx="3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82720" y="243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5720" y="243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16040" y="243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45000" y="2362320"/>
            <a:ext cx="3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82920" y="24382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05520" y="14479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05520" y="175248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00800" y="1447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477120" y="1447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38280" y="38098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38280" y="59436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590920" y="38095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876920" y="38095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33920" y="31240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4120" y="31240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8900400">
            <a:off x="3493080" y="3613680"/>
            <a:ext cx="303840" cy="30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94894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948942"/>
              </a:path>
            </a:pathLst>
          </a:custGeom>
          <a:noFill/>
          <a:ln w="9360">
            <a:solidFill>
              <a:srgbClr val="ff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rot="12699600">
            <a:off x="5269680" y="3613320"/>
            <a:ext cx="304560" cy="30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94894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948942"/>
              </a:path>
            </a:pathLst>
          </a:custGeom>
          <a:noFill/>
          <a:ln w="9360">
            <a:solidFill>
              <a:srgbClr val="ff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339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341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90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33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76920" y="4800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0" y="4495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16240" y="4495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78360" y="44197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514600" y="5333760"/>
            <a:ext cx="1219320" cy="609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3920" y="5334120"/>
            <a:ext cx="990360" cy="1143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724280" y="5943600"/>
            <a:ext cx="685800" cy="533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53920" y="41148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68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4840" y="3048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10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734640" y="312408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200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9560" y="411480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242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85360" y="3809880"/>
            <a:ext cx="365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809880"/>
            <a:ext cx="1752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= 3300 lb·pu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83080" y="6858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26080" y="1066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58880" y="1066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438280" y="32000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15000" y="3809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734640" y="510552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2040 lb·pu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31240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74000" y="35053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5000" y="632448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920 lb·pu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09-12T15:09:12Z</dcterms:modified>
  <cp:revision>132</cp:revision>
  <dc:subject/>
  <dc:title>Sin título de diapositiva</dc:title>
</cp:coreProperties>
</file>