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FBE-FD9B-4DC0-8B18-AEE86E7B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D21-4BF0-414F-8627-B7723A72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D6D-9BCD-4E0A-BE76-3CD5854B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6D2-2A97-434C-BBC4-27CD82AF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84C4-0552-438F-9181-AF5E43F2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7B60-78AD-4A53-9C71-30CED013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EF98-6A32-442F-9C26-7397039C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C616-AF50-47A0-8C9A-3DDFDC07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A5C7-8F88-4EFA-90CC-52A1127F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E650-411A-4DE6-ACD9-9CF77F91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368-B5E1-4513-841A-E4F995EF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056F-0223-4E36-8B44-0DD7FA5F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D5EA-656E-40B9-8AC2-239B31BE2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1000" y="2060640"/>
            <a:ext cx="780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¿ CUAL ES SU OPINION SOBRE EL ACT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MARCO REGULATORIO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TRANSPORTE PUBL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¿QUE CAMBIOS INTRODUCIR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63880" y="2060640"/>
            <a:ext cx="674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¿ CUALES SON LOS ASPECTOS 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IMPORTANTES A CONSIDERAR EN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CAMBIO TECNOLOG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53080" y="2060640"/>
            <a:ext cx="676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¿ CUALES SON LOS ASPECTOS 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IMPORTANTES A CONSIDERAR EN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FINICION DE LOS RECORRI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19200" y="2060640"/>
            <a:ext cx="60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¿ CUALES SON LAS VENTAJAS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SVENTAJAS DE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MPRESARIZAC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9T13:50:08Z</dcterms:created>
  <dc:creator>Roberto Corvalán Paiva</dc:creator>
  <dc:description/>
  <dc:language>en-US</dc:language>
  <cp:lastModifiedBy>Roberto Corvalán Paiva</cp:lastModifiedBy>
  <dcterms:modified xsi:type="dcterms:W3CDTF">2002-11-09T13:50:53Z</dcterms:modified>
  <cp:revision>1</cp:revision>
  <dc:subject/>
  <dc:title>Diapositiva 1</dc:title>
</cp:coreProperties>
</file>