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F9B5-5AD1-4DA6-BB70-526C6F959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30B0-EB7C-4E93-BB32-7820D0D6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E0B6-0A8A-4082-AE10-1EC92B029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0563-E007-40A5-B873-FCB672796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A6F4-FA81-43F5-8A0A-1F899AD7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A124-0453-479F-B05B-000FD42F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2F09-E05E-4B7C-AAC6-9CA2B89C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E7CB-265B-4B2F-8C44-945F1B9B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93CE-FFC3-4030-B870-C3932BFC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14A3-6078-452B-B16E-92EDB24C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9859-203A-4B20-AD8B-FB4A160C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D639-0A54-4BBB-A162-BF95369F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F5EF-807A-4107-8BC8-4CC622B78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487480" y="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4176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029200" y="609480"/>
            <a:ext cx="3581280" cy="29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DA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Rosca cuad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6 hilos por pulg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Doble entrada (rosca do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Diámtero mayor = 1 pulg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0" i="1" lang="es-CL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i="1" lang="es-CL" sz="20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 = 0.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i="1" lang="es-CL" sz="20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 = 1.25 pulg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F = 1500 lb por torni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133720" y="4572000"/>
            <a:ext cx="1904760" cy="1652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4724280"/>
            <a:ext cx="21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osca cuad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normaliza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95680" y="42670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= d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150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4160" y="44956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15000" y="449568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19720" y="5105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p 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7800" y="4876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06960" y="53341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533412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19720" y="6400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l = n 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5880" y="4267080"/>
            <a:ext cx="228600" cy="2590920"/>
          </a:xfrm>
          <a:custGeom>
            <a:avLst/>
            <a:gdLst>
              <a:gd name="textAreaLeft" fmla="*/ 0 w 228600"/>
              <a:gd name="textAreaRight" fmla="*/ 82440 w 22860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579132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= d -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53080" y="44956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= 0.9167 pul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53080" y="525780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= 0.8333 pul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53080" y="5943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l = 0.333 pul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07280" y="162072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01000" y="132228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F 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21320" y="185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1849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42920" y="1316160"/>
            <a:ext cx="1543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l + </a:t>
            </a: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65880" y="1849320"/>
            <a:ext cx="131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33920" y="18493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1468440"/>
            <a:ext cx="75960" cy="76212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05520" y="1468440"/>
            <a:ext cx="75960" cy="762120"/>
          </a:xfrm>
          <a:custGeom>
            <a:avLst/>
            <a:gdLst>
              <a:gd name="textAreaLeft" fmla="*/ 0 w 75960"/>
              <a:gd name="textAreaRight" fmla="*/ 5328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83640" y="162720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77120" y="1265400"/>
            <a:ext cx="10951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3120" y="185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38680" y="18558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2760" y="762120"/>
            <a:ext cx="269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ar  contra la carg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640" y="35812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44440" y="3352680"/>
            <a:ext cx="192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1500 · 0.9167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30600" y="3956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3879720"/>
            <a:ext cx="167616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4920" y="3303720"/>
            <a:ext cx="29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0.33 + </a:t>
            </a: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 0.08 ·0.9167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1120" y="3836880"/>
            <a:ext cx="28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0.9167 - 0.08 ·0.33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3505320"/>
            <a:ext cx="75960" cy="76176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5880" y="3505320"/>
            <a:ext cx="76320" cy="76176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74000" y="358128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54520" y="320040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1500 ·0.08 ·1.25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46928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68680" y="4876920"/>
            <a:ext cx="44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T = 136 + 75 = 211 lb · pul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52680" y="38098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3782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78000" y="1295280"/>
            <a:ext cx="312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ar  a favor de la carg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50080" y="24382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43800" y="213984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F 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64120" y="267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86440" y="2133720"/>
            <a:ext cx="150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-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09400" y="2666880"/>
            <a:ext cx="134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2286000"/>
            <a:ext cx="75960" cy="76212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952880" y="2289240"/>
            <a:ext cx="76320" cy="76176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31000" y="239220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24480" y="2030400"/>
            <a:ext cx="10951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40480" y="2620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262080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3040" y="403236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97280" y="3657600"/>
            <a:ext cx="30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0.08 ·0.9167 - 0.33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96560" y="4267080"/>
            <a:ext cx="32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0.9167 + 0.08 · 0.333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42670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19520" y="3809880"/>
            <a:ext cx="75960" cy="76212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809880"/>
            <a:ext cx="76320" cy="76212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74000" y="396252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2639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15840" y="3733920"/>
            <a:ext cx="192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1500 · 0.9167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02000" y="433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42609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4520" y="365760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1500 ·0.08 ·1.25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46928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29400" y="42400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97240" y="5181480"/>
            <a:ext cx="45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T = -24.4 + 75 </a:t>
            </a:r>
            <a:r>
              <a:rPr b="0" i="1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  50 lb · pul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80520" y="1295280"/>
            <a:ext cx="159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ficiencia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7280" y="1882800"/>
            <a:ext cx="8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e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3080" y="158436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F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22096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2209680"/>
            <a:ext cx="533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72880" y="3330720"/>
            <a:ext cx="8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e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54360" y="3032280"/>
            <a:ext cx="22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1500 · 0.3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14800" y="36576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 ·2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657600" y="36576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0" y="4724280"/>
            <a:ext cx="209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e = 37.7 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487480" y="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4238640" cy="28670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724360" y="404640"/>
            <a:ext cx="2135520" cy="30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DA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= 0 – 36 k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= 5/8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’ = 18.4 kp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= 30 Mp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= 12 Mp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l = 1.5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79280" y="3716280"/>
                <a:ext cx="4392720" cy="18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π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d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508720" y="4149720"/>
                <a:ext cx="273528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627280" y="0"/>
                <a:ext cx="3543480" cy="558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C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P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t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P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ut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979640" y="5445000"/>
                <a:ext cx="47577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6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15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1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4859280" y="2637000"/>
            <a:ext cx="2881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523880" y="1397160"/>
            <a:ext cx="3984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916360" y="549360"/>
                <a:ext cx="25192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1959120" y="193824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43280" y="19162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27640" y="1916280"/>
            <a:ext cx="5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64000" y="1916280"/>
            <a:ext cx="5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76720" y="191628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40360" y="191628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08000" y="2492280"/>
            <a:ext cx="6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2728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2.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24922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8.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40360" y="24922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0.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3236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1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9600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4.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35280" y="2349360"/>
            <a:ext cx="47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84360" y="191628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348000" y="3284640"/>
                <a:ext cx="26640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340000" y="4005360"/>
                <a:ext cx="15843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148360" y="4005360"/>
                <a:ext cx="18349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rPr>
                        <m:lit/>
                        <m:nor/>
                      </m:rPr>
                      <m:t xml:space="preserve">kps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284720" y="4797360"/>
                <a:ext cx="395928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ín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á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611280" y="5013360"/>
                <a:ext cx="28810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6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rPr>
                        <m:lit/>
                        <m:nor/>
                      </m:rPr>
                      <m:t xml:space="preserve">ki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1T13:18:49Z</dcterms:created>
  <dc:creator>Roberto Corvalán Paiva</dc:creator>
  <dc:description/>
  <dc:language>en-US</dc:language>
  <cp:lastModifiedBy>Roberto Corvalán Paiva</cp:lastModifiedBy>
  <dcterms:modified xsi:type="dcterms:W3CDTF">2002-08-21T13:59:08Z</dcterms:modified>
  <cp:revision>4</cp:revision>
  <dc:subject/>
  <dc:title>Diapositiva 1</dc:title>
</cp:coreProperties>
</file>