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340-0F82-4242-94B1-4009980D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25F-7489-4F92-96D7-5793D9BA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FC1-0D14-435F-9371-614D0AF8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103-01C0-41AE-86A5-746084B7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1B7-FDB9-4C98-AADE-9763C752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7FB-6A00-41F8-A20A-C8AFA9AD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07A-3634-4232-ACD5-53A948D2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AC3-832C-4E10-BB4B-6117C13E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82A-E9CF-43FB-B6CB-A8C358FF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74F-8F14-4E79-9300-99176BD6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25C-AAA0-4E02-A113-29F73364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2E2-8582-47BC-9ACB-9DC4FBC6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4496-DD90-4A4F-B92C-0B725211CED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7360" y="281952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RBOLES DE TRANSM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1200" y="3808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aga Est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1828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27080" y="22096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95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5160" y="18288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90920" y="1676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1752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1752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0120" y="1523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62120" y="8524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66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9040" y="8380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20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15000" y="838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n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74440" y="4191120"/>
            <a:ext cx="15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66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4114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26400" y="3809880"/>
            <a:ext cx="25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192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330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38280" y="36576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3733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7339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3581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17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41008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02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1148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89040" y="17524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5520" y="1752480"/>
            <a:ext cx="838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13716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13716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3640" y="1219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52760" y="3808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ati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144792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9720" y="183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752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4479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812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920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1640" y="358128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20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812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32004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32004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696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510552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1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60020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2000" y="1447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1371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8380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144792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9907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624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44792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9907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292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838080"/>
            <a:ext cx="75960" cy="106704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8380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416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019200" y="8380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732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7760" y="30492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esfuerzo cosrtante máxim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22096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22096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46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796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30481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36576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32004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256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6576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32004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924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2680" y="30481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30481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4012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095880" y="30481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364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7080" y="50292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57400" y="4952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8800" y="44197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45720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484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242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45720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86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4012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44197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41972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2136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476400" y="441972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5452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586728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6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05160" y="22860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máxima energía de distorsió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0020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92000" y="2438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1460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1828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900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624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2438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1981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292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1828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1828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6416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019200" y="1828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9907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990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7080" y="3962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5740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33526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0532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484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242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505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4012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335268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33526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2136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476400" y="33526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452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33412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44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28000" y="1000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iseño a carga est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9440" y="1219320"/>
            <a:ext cx="76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5400" y="14479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normal de 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6120" y="274320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de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42670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Cortante Máxi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48640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3080" y="58672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579132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419112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9625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120" y="457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41911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1911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240" y="403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191120"/>
            <a:ext cx="1371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2360" y="406728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114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6720" y="5457960"/>
            <a:ext cx="4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7800" y="560376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562720"/>
            <a:ext cx="1219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72560" y="914400"/>
            <a:ext cx="46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84280" y="24382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362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2360" y="20574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905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9810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18288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1240" y="342900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572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84280" y="49528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876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5360" y="4572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441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34340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64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T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7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12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4080" y="5335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ódigo AS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523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8520" y="1805040"/>
            <a:ext cx="543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7760" y="1523880"/>
            <a:ext cx="138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371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295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520" y="1066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3716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5040" y="1143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8360" y="1523880"/>
            <a:ext cx="10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895480"/>
            <a:ext cx="487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onde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 el menor valor en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26668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01640" y="2590920"/>
            <a:ext cx="163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3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01640" y="3200400"/>
            <a:ext cx="180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18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114800"/>
            <a:ext cx="83818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ipo de carga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Fij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repentin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rotatori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establ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liger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-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fuert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2.0-3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48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8960" y="11430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alter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6480" y="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constante y flexión altern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21932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800" y="25146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med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2040" y="3809880"/>
            <a:ext cx="80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sumiendo que la resistencia a la fatiga por flexión no se ve afec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or la existencia de esfuerzo medio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510552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4876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060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105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51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7640" y="5486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86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51055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51055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22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2200" y="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étodo de Sodelbe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371600"/>
            <a:ext cx="121932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23880" y="685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051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193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212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066320" y="2663640"/>
            <a:ext cx="838440" cy="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0" y="19051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685800"/>
            <a:ext cx="85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3000" y="9144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3320" y="2108160"/>
            <a:ext cx="642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3880" y="2286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4640" y="21337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s w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400" y="457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80760" y="1523880"/>
            <a:ext cx="2057400" cy="762120"/>
          </a:xfrm>
          <a:prstGeom prst="rtTriangl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14840" y="1502640"/>
            <a:ext cx="1203480" cy="48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205740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788800" y="1089720"/>
            <a:ext cx="315720" cy="770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543800" y="152352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2666160"/>
            <a:ext cx="1143000" cy="1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129492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2666520"/>
            <a:ext cx="990720" cy="3812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01000" y="1676520"/>
            <a:ext cx="91440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743440" y="2652480"/>
            <a:ext cx="114480" cy="38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8921880" y="1689120"/>
            <a:ext cx="171000" cy="3358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538760" y="1544760"/>
            <a:ext cx="270000" cy="631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543800" y="2209680"/>
            <a:ext cx="304920" cy="152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762120"/>
            <a:ext cx="685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1981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990720"/>
            <a:ext cx="7621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209680"/>
            <a:ext cx="533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676520"/>
            <a:ext cx="5331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1752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4120" y="347652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cuación de equilib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886200"/>
            <a:ext cx="5257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7736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5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8640" y="5154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5078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4800600"/>
            <a:ext cx="121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518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0080" y="5127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051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77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en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w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134600">
            <a:off x="2702520" y="4840560"/>
            <a:ext cx="274680" cy="1717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44640 h 1717920"/>
              <a:gd name="textAreaBottom" fmla="*/ 1673280 h 171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134600">
            <a:off x="5118840" y="4472280"/>
            <a:ext cx="274680" cy="243828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94360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594360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81240" y="316080"/>
            <a:ext cx="0" cy="4295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043520"/>
            <a:ext cx="81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1488960" y="1515960"/>
            <a:ext cx="5540040" cy="505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73" y="1"/>
                </a:moveTo>
                <a:arcTo wR="10800" hR="10800" stAng="-5345085" swAng="5345085"/>
                <a:lnTo>
                  <a:pt x="10800" y="10800"/>
                </a:lnTo>
                <a:close/>
              </a:path>
              <a:path fill="none" w="21600" h="21600">
                <a:moveTo>
                  <a:pt x="10973" y="1"/>
                </a:moveTo>
                <a:arcTo wR="10800" hR="10800" stAng="-5345085" swAng="5345085"/>
              </a:path>
            </a:pathLst>
          </a:cu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81240" y="1136520"/>
            <a:ext cx="5678280" cy="297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1240" y="820800"/>
            <a:ext cx="6162480" cy="3222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97760" y="404352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8960" y="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200" y="5684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05840" y="4043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51440" y="36640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90º, 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5080" y="1263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19840" y="56844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5440" y="990720"/>
            <a:ext cx="473040" cy="1600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79440"/>
            <a:ext cx="21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35640" y="3160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75160" y="820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35640" y="75888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9520" y="5047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43720" y="379440"/>
            <a:ext cx="69840" cy="757080"/>
          </a:xfrm>
          <a:custGeom>
            <a:avLst/>
            <a:gdLst>
              <a:gd name="textAreaLeft" fmla="*/ 0 w 69840"/>
              <a:gd name="textAreaRight" fmla="*/ 4896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7920" y="379440"/>
            <a:ext cx="69840" cy="757080"/>
          </a:xfrm>
          <a:custGeom>
            <a:avLst/>
            <a:gdLst>
              <a:gd name="textAreaLeft" fmla="*/ 20520 w 69840"/>
              <a:gd name="textAreaRight" fmla="*/ 6984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51440" y="4043520"/>
            <a:ext cx="0" cy="63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1240" y="4359240"/>
            <a:ext cx="277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26840" y="151596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34920" y="1515960"/>
            <a:ext cx="0" cy="252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35280" y="44863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1400" y="48006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35280" y="480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3367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000" y="26528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720" y="2652840"/>
            <a:ext cx="41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1440" y="16430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67600" y="157968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1447920"/>
            <a:ext cx="68040" cy="758880"/>
          </a:xfrm>
          <a:custGeom>
            <a:avLst/>
            <a:gdLst>
              <a:gd name="textAreaLeft" fmla="*/ 0 w 68040"/>
              <a:gd name="textAreaRight" fmla="*/ 4788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67600" y="1452600"/>
            <a:ext cx="68040" cy="758880"/>
          </a:xfrm>
          <a:custGeom>
            <a:avLst/>
            <a:gdLst>
              <a:gd name="textAreaLeft" fmla="*/ 19800 w 68040"/>
              <a:gd name="textAreaRight" fmla="*/ 6840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89680" y="139068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29200" y="1895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9680" y="183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29000" y="504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3400" y="5867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5791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5257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5867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5410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764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5867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5410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432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5257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5257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56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790600" y="5257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872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5280" y="3049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y Flexión altern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2680" y="29718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640" y="236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73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3623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3623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52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0102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804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680" y="137160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 (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Westinghouse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29718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0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3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30640" y="2743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6240" y="426708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257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9000" y="5638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5562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50292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51814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960" y="50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5181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3640" y="495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0292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502920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308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085880" y="50292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5562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6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9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6600" y="5410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13840" y="304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600200"/>
            <a:ext cx="41911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990720"/>
            <a:ext cx="1523880" cy="129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1295280"/>
            <a:ext cx="15228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1371600"/>
            <a:ext cx="38124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1295280"/>
            <a:ext cx="15264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1371600"/>
            <a:ext cx="380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1447920"/>
            <a:ext cx="76320" cy="304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1523880"/>
            <a:ext cx="609480" cy="152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114300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213372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209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1066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1905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17524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2743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2743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743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21520" y="243828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2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5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604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5000" y="236232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2920" y="24382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1447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17524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809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5943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590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876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8900400">
            <a:off x="3493080" y="3613680"/>
            <a:ext cx="30384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rot="12699600">
            <a:off x="5269680" y="3613320"/>
            <a:ext cx="30456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0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624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8360" y="4419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514600" y="5333760"/>
            <a:ext cx="121932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5334120"/>
            <a:ext cx="99036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724280" y="5943600"/>
            <a:ext cx="68580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3920" y="41148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68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4840" y="3048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1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4640" y="31240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9560" y="411480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42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85360" y="380988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80988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= 330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3080" y="685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1066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58880" y="1066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438280" y="32000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34640" y="51055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4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3124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4000" y="35053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5000" y="632448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92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09-12T15:09:12Z</dcterms:modified>
  <cp:revision>132</cp:revision>
  <dc:subject/>
  <dc:title>Sin título de diapositiva</dc:title>
</cp:coreProperties>
</file>