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6AA-DAFF-4C23-8119-86B30D36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D9C-F8B2-4F0A-A3E8-0366AA60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C5DF-5482-4A65-877C-5BF909E5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61F-C926-4E7E-B872-463CB9DC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73F7-1A45-4B58-8B73-3E4CFB29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ECDF-94A5-4447-9964-EBFA6F4E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95CB-F5C9-47D8-9282-C60698D4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7271-C1ED-4BE0-A676-5C7EB9D1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A09-7007-4337-80E9-69876CCF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0439-F26F-40E9-A5CB-2BDCB65E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B23B-5CD2-407C-9AAC-8EAF6D02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D5A0-E7F6-452C-830D-8C8C4661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BE26-613A-42CD-8927-57D6B6E7F6F7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54320" y="2819520"/>
            <a:ext cx="50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CON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68320" y="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60948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5200" y="153036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2952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175896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175896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29960" y="145404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76520" y="152388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E%20HelicParal%20NomencResist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55344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8680" y="2819520"/>
            <a:ext cx="60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les Cónicos Espi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E%20Conicos%20Espirales%20Fzas" descr=""/>
          <p:cNvPicPr/>
          <p:nvPr/>
        </p:nvPicPr>
        <p:blipFill>
          <a:blip r:embed="rId1"/>
          <a:stretch/>
        </p:blipFill>
        <p:spPr>
          <a:xfrm>
            <a:off x="0" y="380880"/>
            <a:ext cx="4164120" cy="3419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04560" y="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30600" y="838080"/>
            <a:ext cx="7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609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86680" y="99072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1066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6120" y="1447920"/>
            <a:ext cx="453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Espiral derecha giro horari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espiral izquierda giro anti-hora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93000" y="2479680"/>
            <a:ext cx="80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28560" y="225108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72320" y="263196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22800" y="27082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76480" y="2438280"/>
            <a:ext cx="350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91560" y="3352680"/>
            <a:ext cx="7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28560" y="312408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72320" y="350532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22800" y="35812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76480" y="3311640"/>
            <a:ext cx="350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114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Espiral derecha giro horario y espiral izquierda giro anti-hora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05200" y="4883040"/>
            <a:ext cx="80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1120" y="465444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84520" y="503568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35360" y="511164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89760" y="4842000"/>
            <a:ext cx="36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04120" y="5756400"/>
            <a:ext cx="7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41120" y="552780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84520" y="590868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35360" y="59850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89040" y="5715000"/>
            <a:ext cx="350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14480" y="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8520" y="76212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33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1066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9907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981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1752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2860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2096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60400" y="175248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8288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19810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E%20HelicParal%20Nomenc" descr=""/>
          <p:cNvPicPr/>
          <p:nvPr/>
        </p:nvPicPr>
        <p:blipFill>
          <a:blip r:embed="rId1"/>
          <a:stretch/>
        </p:blipFill>
        <p:spPr>
          <a:xfrm>
            <a:off x="1828800" y="2744640"/>
            <a:ext cx="52578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918520" y="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E%20Conicos%20Espirales%20J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960640" y="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E%20Conicos%20Espirales%20I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0962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562200" y="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68580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5720" y="17524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151776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19810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98108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20120" y="16765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90720" y="9907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E%20HelicParal%20NomencResist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65530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93320" y="2819520"/>
            <a:ext cx="55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Cónicos R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30440" y="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E%20Conicos%20Rectos%20Ralaciones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4267440" cy="3970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53520" y="1406520"/>
            <a:ext cx="11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67720" y="11430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68800" y="167652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5840" y="266688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60960" y="24033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59880" y="29368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1676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28954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5400" y="389268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3657600"/>
            <a:ext cx="87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40384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41148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67640" y="4575240"/>
            <a:ext cx="61059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aso piñ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aso ru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úmero de dientes piñ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úmero de dientes ru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 : número virtual de dientes (aprox Tred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: paso circular en el extremo mayor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E%20Conicos%20Rectos%20PrpDientes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63244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04560" y="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30600" y="838080"/>
            <a:ext cx="7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86160" y="1746360"/>
            <a:ext cx="26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5760" y="4038480"/>
            <a:ext cx="651132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tangencial de la fuerza d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radial de la fuerza d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axial de la fuerza d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: par tor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e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radio de paso en el punto medio del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%20Conicos%20Rectos%20Fzas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309920" cy="3786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238880" y="609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86680" y="99072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1066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24382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61560" y="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0605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75564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55480" y="1219320"/>
            <a:ext cx="9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2891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1654200"/>
            <a:ext cx="640080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esfuerzo flex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arga transmi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: paso diame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de veloc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: ancho de cara (flex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J : factor ge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eficiente elá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I : factor geométrico (durabilidad de superfic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seguridad de los engran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sob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distribu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: factor de seguridad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99072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7621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129528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12193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27280" y="76212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838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99072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E%20Conicos%20Rectos%20Fact%20J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781680" cy="5473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918520" y="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709000" y="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oeficiente Elástico 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E%20Conicos%20Rectos%20Cp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65320" y="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E%20Conicos%20Rectos%20I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705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10T21:40:58Z</dcterms:modified>
  <cp:revision>171</cp:revision>
  <dc:subject/>
  <dc:title>Sin título de diapositiva</dc:title>
</cp:coreProperties>
</file>