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18E-90A6-47D2-A8E1-C5EBDC26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856-14DA-4ED8-A109-92BB58EC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CA8-8BC0-4362-A5A7-5993DA56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725-1A9F-47A1-8366-6F920F2A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A51-4C94-4EB0-84F4-D5478AB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AE9-2D0B-4831-87A9-4CC63AC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06D-4A04-44FF-92FA-C1BE166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8D3-54A8-4316-9CDA-19BF8CA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937-1005-4F9C-A1C2-98FA5809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48A-D678-4137-B266-4FE74A5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638-E3FF-4D68-A42E-8780A3C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1EB-6119-4241-8A6A-5CAAF4A4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596A-C06F-41C6-A9D0-145C82EF4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000" y="2060640"/>
            <a:ext cx="780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 ES SU OPINION SOBRE EL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ARCO REGULATORI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TRANSPORTE PUBL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QUE CAMBIOS INTRODUCI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63880" y="2060640"/>
            <a:ext cx="67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MBIO TECNOLOG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3080" y="2060640"/>
            <a:ext cx="676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CION DE LOS RECORR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19200" y="2060640"/>
            <a:ext cx="60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AS VENTAJA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ENTAJAS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MPRESARIZAC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3:50:08Z</dcterms:created>
  <dc:creator>Roberto Corvalán Paiva</dc:creator>
  <dc:description/>
  <dc:language>en-US</dc:language>
  <cp:lastModifiedBy>Roberto Corvalán Paiva</cp:lastModifiedBy>
  <dcterms:modified xsi:type="dcterms:W3CDTF">2002-11-09T13:50:53Z</dcterms:modified>
  <cp:revision>1</cp:revision>
  <dc:subject/>
  <dc:title>Diapositiva 1</dc:title>
</cp:coreProperties>
</file>