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AF17-E401-4672-B6C4-15178D31C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38EC-88E0-4BAA-B669-5BA89258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4D38-6C81-427E-8A92-9ED35EA44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1157-E3D8-456F-99FA-A5B2BF361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BAD4-9266-4886-9322-37E446F8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067D-A27B-4701-9D5A-0C29CED8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06E4-1904-4A31-A0E5-4C104902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881A-1C41-4A2A-AC7E-DDCC38AC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5A24-EFDF-4C11-9020-E473843C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DE64-8C7C-4A13-B235-A61D7E38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76B8-1A1E-48CF-94F9-70E3638E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AD1D-49C9-4DA3-A9B7-5CF70537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44F1-86B3-4716-8D91-994F2DBF3992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5240" y="2819520"/>
            <a:ext cx="617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TRANSMISION POR COR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orreas%20CapacidadPot" descr=""/>
          <p:cNvPicPr/>
          <p:nvPr/>
        </p:nvPicPr>
        <p:blipFill>
          <a:blip r:embed="rId1"/>
          <a:stretch/>
        </p:blipFill>
        <p:spPr>
          <a:xfrm>
            <a:off x="1371600" y="0"/>
            <a:ext cx="6413400" cy="82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Correas%20DiamPrimMin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63904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Correas%20Dimensiones" descr=""/>
          <p:cNvPicPr/>
          <p:nvPr/>
        </p:nvPicPr>
        <p:blipFill>
          <a:blip r:embed="rId1"/>
          <a:stretch/>
        </p:blipFill>
        <p:spPr>
          <a:xfrm>
            <a:off x="1219320" y="0"/>
            <a:ext cx="6918120" cy="903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Correas%20DimenPoleas" descr=""/>
          <p:cNvPicPr/>
          <p:nvPr/>
        </p:nvPicPr>
        <p:blipFill>
          <a:blip r:embed="rId1"/>
          <a:stretch/>
        </p:blipFill>
        <p:spPr>
          <a:xfrm>
            <a:off x="1319040" y="536400"/>
            <a:ext cx="6504120" cy="578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Correas%20FacCorrArcContacto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617220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Correas%20FacCorrLongitud" descr=""/>
          <p:cNvPicPr/>
          <p:nvPr/>
        </p:nvPicPr>
        <p:blipFill>
          <a:blip r:embed="rId1"/>
          <a:stretch/>
        </p:blipFill>
        <p:spPr>
          <a:xfrm>
            <a:off x="2362320" y="228600"/>
            <a:ext cx="44114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Correas%20FacDiamMenor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5086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07720" y="0"/>
            <a:ext cx="66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Nomenclatura y Expresiones Funda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76680" y="65088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69680" y="380880"/>
            <a:ext cx="122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olea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69680" y="914400"/>
            <a:ext cx="122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olea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9144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1360" y="3429000"/>
            <a:ext cx="7059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: relación de veloc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: longitud primitiva de la cor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 : diámetro primitivo de la POLEA mayor (accion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 : diámetro primitivo de la polea menor (motri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: distancia entre cen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 : arco de contacto de correa en polea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 : velocidad lineal de la cor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: velocidad angular de la pol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624640" y="65088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50680" y="380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50320" y="91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48520" y="914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8520" y="1905120"/>
            <a:ext cx="31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= 2 C + 1.57 (D+d)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13600" y="1600200"/>
            <a:ext cx="11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 – d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5720" y="213372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21337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2760" y="19051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 = 180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40680" y="167652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 – d)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8505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38880" y="220968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5200" y="281952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 = 0.00314 D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3240" y="0"/>
            <a:ext cx="81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rocedimiento de diseño y selección de transm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4840" y="1523880"/>
            <a:ext cx="5880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Datos requeri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otencia a transmi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ipo mo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elocidad angular de la polea motr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elocidad angular de la polea accio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ipo de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ndicione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istancia aproximada entre cen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43240" y="533520"/>
            <a:ext cx="729576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Procedimie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stimación de un Factor de Servicio, 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álculo de la potencia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H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iseño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FS · H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o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 la sección de la correa, en base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otencia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elocidad angular de la polea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álculo de la relación de velocida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95840" y="499428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88840" y="4724280"/>
            <a:ext cx="122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olea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88840" y="5257800"/>
            <a:ext cx="122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olea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9720" y="52578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orreas%20FacServ" descr=""/>
          <p:cNvPicPr/>
          <p:nvPr/>
        </p:nvPicPr>
        <p:blipFill>
          <a:blip r:embed="rId1"/>
          <a:stretch/>
        </p:blipFill>
        <p:spPr>
          <a:xfrm>
            <a:off x="838080" y="0"/>
            <a:ext cx="7410600" cy="965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62000" y="609480"/>
            <a:ext cx="71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l diámetro de poleas en funció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spacio disponi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72160" y="202248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97840" y="1752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74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22860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0920" y="2743200"/>
            <a:ext cx="642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álculo de la longitud primitiva de la corr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13280" y="4038480"/>
            <a:ext cx="31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= 2 C + 1.57 (D+d)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18360" y="3733920"/>
            <a:ext cx="11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 – d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40480" y="426708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10080" y="426708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08360" y="762120"/>
            <a:ext cx="765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lección de la longitud primitiva estándar y cálcu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a nueva distancia entre cen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43760" y="266688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52880" y="228600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- 1.57 (D+d)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66520" y="2133720"/>
            <a:ext cx="90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(D – d)</a:t>
            </a:r>
            <a:r>
              <a:rPr b="0" i="1" lang="es-ES_tradnl" sz="1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91520" y="251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37080" y="25146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51080" y="2895480"/>
            <a:ext cx="3124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2448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520" y="3429000"/>
            <a:ext cx="89726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l Factor de Diámetro de la polea menor, F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n función de la velocidad angular y cálculo del diámetro ef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61120" y="5257800"/>
            <a:ext cx="14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F ·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480" y="-228600"/>
            <a:ext cx="617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álculo de la velocidad lineal de la corr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9160" y="914400"/>
            <a:ext cx="335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 = 0.0314 · 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· 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olea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00" y="1143000"/>
            <a:ext cx="86918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 la capacidad de potencia, 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l factor de corrección del arco de contacto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n función de (D-d)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4680" y="2362320"/>
            <a:ext cx="9126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l factor de corrección de la longitud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en fu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l tamaño y sección de la cor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-9000" y="3200400"/>
            <a:ext cx="81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álculo del factor de corrección longitud-arco de conta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01240" y="4114800"/>
            <a:ext cx="159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·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4680" y="4267080"/>
            <a:ext cx="676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álculo de la capacidad corregida de la corr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08080" y="5181480"/>
            <a:ext cx="21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HP 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or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K · 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-1440" y="5334120"/>
            <a:ext cx="558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l número de corre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76880" y="6172200"/>
            <a:ext cx="255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= H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iseño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/ H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o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Correas%20SelecSecc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54380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AN</cp:lastModifiedBy>
  <dcterms:modified xsi:type="dcterms:W3CDTF">2002-06-18T12:30:24Z</dcterms:modified>
  <cp:revision>176</cp:revision>
  <dc:subject/>
  <dc:title>Sin título de diapositiva</dc:title>
</cp:coreProperties>
</file>