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7A4CD-777E-4BDA-B4BC-43098AC04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4301E-68FC-43A5-9BAE-2391FCC5D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14291-0505-4D3E-83A1-FF09D7B78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A8FA8-AAFD-4018-8E89-0218F4510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2447A-3FB0-4910-A901-A71A21FB5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B9190-85E1-48C5-9520-5C2536F05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930AC-F8EA-45C3-9795-637834814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36357-CEB7-4DE4-993D-94B39F34A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E7D19-49DA-4AEA-8F6B-4411764CF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E0E25-45BC-4934-AA01-951A3F653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B7E1D-E715-4649-A84A-61A95A213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2BF16-1BC6-4E5C-80E3-DD3779477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CC18E-A9E5-4508-8759-0672AD6D47F3}" type="slidenum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95240" y="2819520"/>
            <a:ext cx="617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00"/>
                </a:solidFill>
                <a:latin typeface="Arial"/>
              </a:rPr>
              <a:t>TRANSMISION POR CORRE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Correas%20CapacidadPot" descr=""/>
          <p:cNvPicPr/>
          <p:nvPr/>
        </p:nvPicPr>
        <p:blipFill>
          <a:blip r:embed="rId1"/>
          <a:stretch/>
        </p:blipFill>
        <p:spPr>
          <a:xfrm>
            <a:off x="1371600" y="0"/>
            <a:ext cx="6413400" cy="824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Correas%20DiamPrimMin" descr=""/>
          <p:cNvPicPr/>
          <p:nvPr/>
        </p:nvPicPr>
        <p:blipFill>
          <a:blip r:embed="rId1"/>
          <a:stretch/>
        </p:blipFill>
        <p:spPr>
          <a:xfrm>
            <a:off x="1752480" y="1752480"/>
            <a:ext cx="5639040" cy="278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Correas%20Dimensiones" descr=""/>
          <p:cNvPicPr/>
          <p:nvPr/>
        </p:nvPicPr>
        <p:blipFill>
          <a:blip r:embed="rId1"/>
          <a:stretch/>
        </p:blipFill>
        <p:spPr>
          <a:xfrm>
            <a:off x="1219320" y="0"/>
            <a:ext cx="6918120" cy="903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Correas%20DimenPoleas" descr=""/>
          <p:cNvPicPr/>
          <p:nvPr/>
        </p:nvPicPr>
        <p:blipFill>
          <a:blip r:embed="rId1"/>
          <a:stretch/>
        </p:blipFill>
        <p:spPr>
          <a:xfrm>
            <a:off x="1319040" y="536400"/>
            <a:ext cx="6504120" cy="578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Correas%20FacCorrArcContacto" descr=""/>
          <p:cNvPicPr/>
          <p:nvPr/>
        </p:nvPicPr>
        <p:blipFill>
          <a:blip r:embed="rId1"/>
          <a:stretch/>
        </p:blipFill>
        <p:spPr>
          <a:xfrm>
            <a:off x="1523880" y="990720"/>
            <a:ext cx="6172200" cy="47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Correas%20FacCorrLongitud" descr=""/>
          <p:cNvPicPr/>
          <p:nvPr/>
        </p:nvPicPr>
        <p:blipFill>
          <a:blip r:embed="rId1"/>
          <a:stretch/>
        </p:blipFill>
        <p:spPr>
          <a:xfrm>
            <a:off x="2362320" y="228600"/>
            <a:ext cx="441144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Correas%20FacDiamMenor" descr=""/>
          <p:cNvPicPr/>
          <p:nvPr/>
        </p:nvPicPr>
        <p:blipFill>
          <a:blip r:embed="rId1"/>
          <a:stretch/>
        </p:blipFill>
        <p:spPr>
          <a:xfrm>
            <a:off x="1981080" y="1066680"/>
            <a:ext cx="50864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107720" y="0"/>
            <a:ext cx="668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Nomenclatura y Expresiones Fundament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976680" y="650880"/>
            <a:ext cx="6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R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669680" y="380880"/>
            <a:ext cx="1220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polea men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69680" y="914400"/>
            <a:ext cx="1220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polea may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600200" y="914400"/>
            <a:ext cx="1371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521360" y="3429000"/>
            <a:ext cx="70599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R : relación de veloci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L : longitud primitiva de la corr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D : diámetro primitivo de la POLEA mayor (accionad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d : diámetro primitivo de la polea menor (motriz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C : distancia entre cent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A : arco de contacto de correa en polea men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V : velocidad lineal de la corr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n : velocidad angular de la pol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624640" y="650880"/>
            <a:ext cx="6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R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250680" y="3808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250320" y="914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248520" y="91440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08520" y="1905120"/>
            <a:ext cx="317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L = 2 C + 1.57 (D+d) 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513600" y="1600200"/>
            <a:ext cx="115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(D – d)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735720" y="2133720"/>
            <a:ext cx="61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4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05320" y="2133720"/>
            <a:ext cx="10666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792760" y="1905120"/>
            <a:ext cx="136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A = 180 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240680" y="1676520"/>
            <a:ext cx="144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(D – d) 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850520" y="2286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238880" y="2209680"/>
            <a:ext cx="1447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355200" y="2819520"/>
            <a:ext cx="223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V = 0.00314 D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453240" y="0"/>
            <a:ext cx="812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Procedimiento de diseño y selección de transmis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4840" y="1523880"/>
            <a:ext cx="58802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00"/>
                </a:solidFill>
                <a:latin typeface="Times New Roman"/>
              </a:rPr>
              <a:t>Datos requerid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otencia a transmit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Tipo mo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Velocidad angular de la polea motri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Velocidad angular de la polea accion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Tipo de máqu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Condiciones de ope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Distancia aproximada entre cent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443240" y="533520"/>
            <a:ext cx="7295760" cy="52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00"/>
                </a:solidFill>
                <a:latin typeface="Times New Roman"/>
              </a:rPr>
              <a:t>Procedimien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Estimación de un Factor de Servicio, 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Cálculo de la potencia de dise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H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diseño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 FS · H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nomi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Determinación de la sección de la correa, en base 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otencia de dise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velocidad angular de la polea men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Cálculo de la relación de velocidad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95840" y="4994280"/>
            <a:ext cx="6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R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488840" y="4724280"/>
            <a:ext cx="1220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polea men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488840" y="5257800"/>
            <a:ext cx="1220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polea may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419720" y="5257800"/>
            <a:ext cx="1371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Correas%20FacServ" descr=""/>
          <p:cNvPicPr/>
          <p:nvPr/>
        </p:nvPicPr>
        <p:blipFill>
          <a:blip r:embed="rId1"/>
          <a:stretch/>
        </p:blipFill>
        <p:spPr>
          <a:xfrm>
            <a:off x="838080" y="0"/>
            <a:ext cx="7410600" cy="965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062000" y="609480"/>
            <a:ext cx="71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Determinación del diámetro de poleas en función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espacio disponib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872160" y="2022480"/>
            <a:ext cx="6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R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497840" y="17524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497480" y="2286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495680" y="2286000"/>
            <a:ext cx="3812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060920" y="2743200"/>
            <a:ext cx="642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Cálculo de la longitud primitiva de la corre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213280" y="4038480"/>
            <a:ext cx="317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L = 2 C + 1.57 (D+d) 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418360" y="3733920"/>
            <a:ext cx="115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(D – d)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40480" y="4267080"/>
            <a:ext cx="61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4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410080" y="4267080"/>
            <a:ext cx="10670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08360" y="762120"/>
            <a:ext cx="7655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Selección de la longitud primitiva estándar y cálculo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la nueva distancia entre centr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643760" y="2666880"/>
            <a:ext cx="66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C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252880" y="2286000"/>
            <a:ext cx="217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L - 1.57 (D+d) 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466520" y="2133720"/>
            <a:ext cx="90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(D – d)</a:t>
            </a:r>
            <a:r>
              <a:rPr b="0" i="1" lang="es-ES_tradnl" sz="1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691520" y="25146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537080" y="2514600"/>
            <a:ext cx="7621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251080" y="2895480"/>
            <a:ext cx="3124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624480" y="2895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82520" y="3429000"/>
            <a:ext cx="897264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Determinación del Factor de Diámetro de la polea menor, F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en función de la velocidad angular y cálculo del diámetro efec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761120" y="5257800"/>
            <a:ext cx="1403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 F ·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-6480" y="-228600"/>
            <a:ext cx="617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Cálculo de la velocidad lineal de la corre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829160" y="914400"/>
            <a:ext cx="3356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V = 0.0314 · D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· n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polea men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400" y="1143000"/>
            <a:ext cx="869184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Determinación de la capacidad de potencia, H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Determinación del factor de corrección del arco de contacto 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en función de (D-d)/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-4680" y="2362320"/>
            <a:ext cx="912636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Determinación del factor de corrección de la longitud 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l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en fun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del tamaño y sección de la corr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-9000" y="3200400"/>
            <a:ext cx="815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Cálculo del factor de corrección longitud-arco de contac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001240" y="4114800"/>
            <a:ext cx="1590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K = 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c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· 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-4680" y="4267080"/>
            <a:ext cx="6762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Cálculo de la capacidad corregida de la corre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008080" y="5181480"/>
            <a:ext cx="2160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HP 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corr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 K · H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-1440" y="5334120"/>
            <a:ext cx="558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Determinación del número de corre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576880" y="6172200"/>
            <a:ext cx="2553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N = H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diseño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/ H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cor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Correas%20SelecSecc" descr=""/>
          <p:cNvPicPr/>
          <p:nvPr/>
        </p:nvPicPr>
        <p:blipFill>
          <a:blip r:embed="rId1"/>
          <a:stretch/>
        </p:blipFill>
        <p:spPr>
          <a:xfrm>
            <a:off x="838080" y="304920"/>
            <a:ext cx="7543800" cy="547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0T14:27:20Z</dcterms:created>
  <dc:creator>ROBERTO CORVALAN PAIVA</dc:creator>
  <dc:description/>
  <dc:language>en-US</dc:language>
  <cp:lastModifiedBy>ROBERTO CORVALAN</cp:lastModifiedBy>
  <dcterms:modified xsi:type="dcterms:W3CDTF">2002-06-18T12:30:24Z</dcterms:modified>
  <cp:revision>176</cp:revision>
  <dc:subject/>
  <dc:title>Sin título de diapositiva</dc:title>
</cp:coreProperties>
</file>