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E65-D1B1-4823-A2C1-F6E5E304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718-7181-46BF-8AE3-A8F0B1B8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337-C287-4E0B-B24E-56124DC5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833-2F0B-48DB-9825-ED6C6A7D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A3A-DAAC-456C-B673-A089DD96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E7B-968F-411A-9805-1EC02DDB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9D0-0433-4B69-AF25-E1D23191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4A0-4383-4092-B001-41E6B5F2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208-29EF-456A-B782-FF7D6949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D95-62D0-4371-84D9-5A954879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FE7-7944-43E1-B08E-2698748C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4A2-87B4-4BD7-9DFA-F90FD1D8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69F2-04FD-4992-A289-9866543C9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, 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74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Estát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90512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048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Estática Neces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267080"/>
            <a:ext cx="350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36200" y="5181480"/>
            <a:ext cx="4041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actor de seguridad est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ímite de velo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92120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rod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00" y="176040"/>
            <a:ext cx="819936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32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600200"/>
            <a:ext cx="31240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981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2096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4382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8954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3124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276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3124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8954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6668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4382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981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22096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352680"/>
            <a:ext cx="37339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75248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666880"/>
            <a:ext cx="3124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4479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666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8480" y="2819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000" y="25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3600" y="236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3760" y="1143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3080" y="1087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7680" y="1371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7000" y="10875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7680" y="13716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46960" y="18018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a s) =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47600" y="2522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reyn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2408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7880" y="279252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6.89 · 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2789280"/>
            <a:ext cx="9907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8120" y="3381480"/>
            <a:ext cx="55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25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080" y="3408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32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40320" y="3706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703680"/>
            <a:ext cx="381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32568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8120" y="4108320"/>
            <a:ext cx="2227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/s)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= 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(c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40480" y="471816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71816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0400" y="480060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4718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6640" y="50990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09580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471816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7720" y="48290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40840" y="56325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5638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5320" y="5721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5638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560" y="601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601668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5638680"/>
            <a:ext cx="75960" cy="685800"/>
          </a:xfrm>
          <a:custGeom>
            <a:avLst/>
            <a:gdLst>
              <a:gd name="textAreaLeft" fmla="*/ 0 w 75960"/>
              <a:gd name="textAreaRight" fmla="*/ 5328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62280" y="5749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920" y="3927600"/>
            <a:ext cx="401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/dy : gradiente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       : Viscosidad absoluta en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Viscosidad absoluta en (c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cinemática (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ensidad (kg/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        : Segundos Sayb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Ley de Pet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3040" y="1265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1320" y="12952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12160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7800" y="1600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1596960"/>
            <a:ext cx="246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143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r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2400" y="1600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15969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8680" y="140184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0" y="223524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·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2082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800" y="25401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536920"/>
            <a:ext cx="1295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158920"/>
            <a:ext cx="152640" cy="762120"/>
          </a:xfrm>
          <a:custGeom>
            <a:avLst/>
            <a:gdLst>
              <a:gd name="textAreaLeft" fmla="*/ 44640 w 152640"/>
              <a:gd name="textAreaRight" fmla="*/ 153000 w 15264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2082960"/>
            <a:ext cx="152280" cy="838080"/>
          </a:xfrm>
          <a:custGeom>
            <a:avLst/>
            <a:gdLst>
              <a:gd name="textAreaLeft" fmla="*/ 0 w 152280"/>
              <a:gd name="textAreaRight" fmla="*/ 106920 w 15228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2286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l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4880" y="2514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5113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7400" y="3151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f W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200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r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f l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20200" y="31748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9240" y="342900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425760"/>
            <a:ext cx="8380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3920" y="3809880"/>
            <a:ext cx="470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U       : velocidad perif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        : espesor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43200" y="380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ubricación Hidr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8480" y="160020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1673280"/>
            <a:ext cx="152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3760" y="16765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749600"/>
            <a:ext cx="1522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132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126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8880" y="167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7226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14479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1447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3716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13716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30080" y="30481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3121200"/>
            <a:ext cx="15264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764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63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48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30942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8195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8195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809880"/>
            <a:ext cx="579096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 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Número característico o de de Sommer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686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ición del 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8120" y="281952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47920" y="582480"/>
            <a:ext cx="716256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lujo de lu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609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22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2895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c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68560"/>
            <a:ext cx="6858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ión máxima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eriales para cojinetes de desl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534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029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4240" y="10008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B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858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3160" y="1000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Rod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05756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85040" y="2895480"/>
            <a:ext cx="35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cilín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esfér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cón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: de agu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: cónicos ord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: cónicos de contacto a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11400" y="10008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2952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066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3960" y="16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1219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2193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3440" y="990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51460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83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819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4382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24382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1520" y="21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9400" y="2819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2819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8160" y="2362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42760" y="3484440"/>
            <a:ext cx="643500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: duración nominal en millones de revol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: duración nominal en horas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pacidad de carga dinámica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exponente empírico (p=3 rodamientos de bola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=10/3 rodamientos de rodil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velocidad constante de rotación,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21120" y="1000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aciones típ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25146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8320" y="3429000"/>
            <a:ext cx="44539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rad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ax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Cons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Fluctu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1600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32160" y="166356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44792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...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9051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572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7920" y="154944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9080" y="244152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209680"/>
            <a:ext cx="17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2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4880" y="259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5909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8560" y="241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7760" y="4572000"/>
            <a:ext cx="160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(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10T12:26:09Z</dcterms:modified>
  <cp:revision>151</cp:revision>
  <dc:subject/>
  <dc:title>Sin título de diapositiva</dc:title>
</cp:coreProperties>
</file>