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AB3E-BCD6-4ACF-AA5D-F078F6E9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746-7FB2-4F1F-8FBF-398B1FE1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0C1-B303-47C1-A0FF-4852C00B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CDE-1DC3-4D7C-A4E9-27008D36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87FA-8343-426F-AB3F-78B5AFED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A319-1372-4397-B1A6-AECE727F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A190-EF31-4224-B9DE-43BB8476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E672-048C-46C6-851B-C1D0EB16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DAD-9646-42B4-9B88-8A82EA56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0024-1531-48C2-903D-AA006DE4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1333-4356-42A3-9FD8-87A36A67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1C60-966E-4BC6-9011-A0075B73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6784-8258-481D-B88D-530113380B07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2920" y="2819520"/>
            <a:ext cx="38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TORNILLO SIN F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infin%20Fact%20Km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2924280"/>
          </a:xfrm>
          <a:prstGeom prst="rect">
            <a:avLst/>
          </a:prstGeom>
          <a:ln w="0">
            <a:noFill/>
          </a:ln>
        </p:spPr>
      </p:pic>
      <p:pic>
        <p:nvPicPr>
          <p:cNvPr id="126" name="Sinfin%20Fact%20Kv" descr=""/>
          <p:cNvPicPr/>
          <p:nvPr/>
        </p:nvPicPr>
        <p:blipFill>
          <a:blip r:embed="rId2"/>
          <a:stretch/>
        </p:blipFill>
        <p:spPr>
          <a:xfrm>
            <a:off x="1447920" y="3181320"/>
            <a:ext cx="61722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759480" y="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1066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838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12952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92440" y="1295280"/>
            <a:ext cx="159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6000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1066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838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12952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40480" y="12952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3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2514600"/>
            <a:ext cx="640080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 : potencia nominal de entrada,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idad tornillo,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elación de transmisión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/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uerza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velocidad de deslizamiento en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30440" y="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infin%20Relaciones" descr=""/>
          <p:cNvPicPr/>
          <p:nvPr/>
        </p:nvPicPr>
        <p:blipFill>
          <a:blip r:embed="rId1"/>
          <a:stretch/>
        </p:blipFill>
        <p:spPr>
          <a:xfrm>
            <a:off x="0" y="457200"/>
            <a:ext cx="5181480" cy="489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35640" y="114300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2286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45120" y="2362320"/>
            <a:ext cx="110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9144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1371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77320" y="2286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2960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773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89840" y="3276720"/>
            <a:ext cx="141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20640" y="4032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42670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4267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120" y="5305320"/>
            <a:ext cx="34527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º dientes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º entradas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50840" y="5305320"/>
            <a:ext cx="3723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: distanci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: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6320" y="0"/>
            <a:ext cx="75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gulos de presión de avance y alturas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infin%20AngAvance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822960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Sinfin%20Fzas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5867280" cy="3465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395040" y="457200"/>
            <a:ext cx="27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15200" y="91440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5120" y="1371600"/>
            <a:ext cx="272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20240" y="2063880"/>
            <a:ext cx="22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39320" y="2590920"/>
            <a:ext cx="22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38240" y="3124080"/>
            <a:ext cx="224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56920" y="3886200"/>
            <a:ext cx="530424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 : fuerza resul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omponentes ortogonales 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5400" y="457200"/>
            <a:ext cx="90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que el contacto se hace por deslizamiento y no rodad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51240" y="1676520"/>
            <a:ext cx="42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60600" y="213372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50160" y="25909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16160" y="3575160"/>
            <a:ext cx="163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W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10800" y="32767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16360" y="380988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38098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15880" y="4876920"/>
            <a:ext cx="142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45680" y="4572000"/>
            <a:ext cx="28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44960" y="510552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5105520"/>
            <a:ext cx="2667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23720" y="152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Rendimi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106668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94600" y="838080"/>
            <a:ext cx="22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sin fri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2952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94600" y="1295280"/>
            <a:ext cx="23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con fri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228600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8480" y="2050920"/>
            <a:ext cx="20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514600"/>
            <a:ext cx="2133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520" y="2514600"/>
            <a:ext cx="21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t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8280" y="35812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Veloc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4114800"/>
            <a:ext cx="60984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8006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8098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5181480"/>
            <a:ext cx="190476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2670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60958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5181480"/>
            <a:ext cx="1371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1814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57200" y="5181120"/>
            <a:ext cx="13716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724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257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638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43434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5257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4952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7440" y="54100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5486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86040" y="4648320"/>
            <a:ext cx="45514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idad rel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. en línea de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. en línea de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Sinfin%20Rend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60195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61560" y="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914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609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5400" y="1073160"/>
            <a:ext cx="102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52120" y="1676520"/>
            <a:ext cx="181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167652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209680"/>
            <a:ext cx="6400800" cy="52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sfuerzo flex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ancho de car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 : factor de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corrección tamaño y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corrección relación de 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de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ancho efectivo de cara: menor valor entre ancho de cara rueda y 2/3 diámetro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infin%20Fact%20y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562720" cy="2257200"/>
          </a:xfrm>
          <a:prstGeom prst="rect">
            <a:avLst/>
          </a:prstGeom>
          <a:ln w="0">
            <a:noFill/>
          </a:ln>
        </p:spPr>
      </p:pic>
      <p:pic>
        <p:nvPicPr>
          <p:cNvPr id="124" name="Sinfin%20Fact%20ks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83818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15:59:35Z</dcterms:modified>
  <cp:revision>160</cp:revision>
  <dc:subject/>
  <dc:title>Sin título de diapositiva</dc:title>
</cp:coreProperties>
</file>