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98C-9E52-46F7-B141-07FD1483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28E-2426-4C07-AEEC-8398FDCE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8A4-6BCC-4E35-A4AD-14223502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55F-2B16-4769-B135-BA9ECCA4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E8C-2363-4929-97D7-C14EFEDC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CEC-56D4-4191-8B48-93E5AC94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96D-ECAD-43F4-8C33-62B8B795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5A0-99BC-4913-8D57-84DA55E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B0E-65C9-4F50-A3DC-210BD3E1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4EF-BDA4-4A33-939C-12EB171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1E1-0CE4-45A1-B793-7D45FEA6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934-78D7-492B-B744-91BC905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0EAF-ADDB-43FA-8FEC-B99ED203B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9440" y="281952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1880" y="5335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requerido para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1360" y="3200400"/>
            <a:ext cx="167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0.2 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7320" y="2743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9600" y="990720"/>
            <a:ext cx="60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1320" y="1523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1523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7280" y="990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52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523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1143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1143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86440" y="3124080"/>
            <a:ext cx="3188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0.2 ;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0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990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9907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36360" y="1289160"/>
            <a:ext cx="159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0.625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5000" y="1295280"/>
            <a:ext cx="113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991040" y="-190440"/>
            <a:ext cx="685800" cy="51814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2004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6600" y="3124080"/>
            <a:ext cx="141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K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5880" y="4038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erza de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6640" y="48006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44640" y="44956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7760" y="51055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5029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9640" y="4876920"/>
            <a:ext cx="19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nP(1 -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0760" y="53352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de fatiga en pernos precarg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69560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68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9810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4720" y="1398600"/>
            <a:ext cx="94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21320" y="174636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15177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19749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84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896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8960" y="266688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4840" y="3041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813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270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91960" y="327672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760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7600" y="27432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56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9560" y="17524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02320" y="23623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22860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19112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iterio de Falla (Goodman modificad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8006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54039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84640" y="5410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5105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76440" y="541008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05880" y="48006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8720" y="5181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51240" y="5335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empaquetad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1219320"/>
            <a:ext cx="5257800" cy="3047760"/>
            <a:chOff x="380880" y="1219320"/>
            <a:chExt cx="5257800" cy="304776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388620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809880" y="1295280"/>
              <a:ext cx="1828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1219320"/>
              <a:ext cx="35816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3276720"/>
              <a:ext cx="358128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410080" y="1320840"/>
            <a:ext cx="19814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2286000"/>
            <a:ext cx="198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m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3581280"/>
            <a:ext cx="7238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 Area de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sión mínima de sellado en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actor de empaquetadura ( 2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: Presión bajo la cual se tiende a la separación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itades de un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733560" cy="239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13372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36232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78360" y="1000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s de Ro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6880" y="54072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merican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Un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7760" y="5483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41600" y="5562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rapezo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c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463200" y="281952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105520" cy="5029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562720" y="213372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) Carg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) Flexión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Corte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) Falla por tracción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) Aplastamiento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obre los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8800" y="30492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el remache por flexión (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3240" y="9144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68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960" y="12254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219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6600" y="10144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360" y="679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5000" y="1219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1212840"/>
            <a:ext cx="609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1440" y="167652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el remache (c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8160" y="2395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2560" y="212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25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660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960" y="320040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tracción en uno de los elementos de unión (d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160" y="38862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6240" y="365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1624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41846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1520" y="480060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aplastamiento en el remache o elementos (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6920" y="5554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5360" y="53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5360" y="593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5853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45400" y="548640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t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36880" y="609480"/>
            <a:ext cx="52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s por desgarre de elementos (f y g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1981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3276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429000" y="17524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1752480"/>
            <a:ext cx="1219320" cy="25416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733920"/>
            <a:ext cx="1219320" cy="25380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28195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3276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3400" y="39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728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743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&gt;1.5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666880"/>
            <a:ext cx="304920" cy="3049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41920" y="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NTROIDE DE GRUPOS DE PERNOS O REMACH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11430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18288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12193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668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31240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6858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9680" y="38098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4640" y="22860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84640" y="762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99240" y="838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8880" y="198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836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2057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09680" y="2133720"/>
            <a:ext cx="2286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1337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6200" y="68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051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448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68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20574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96252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560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5008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1724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2688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852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13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9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277080" y="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0666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24080" y="10666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106668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1066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3880" y="1523880"/>
            <a:ext cx="1524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1600200"/>
            <a:ext cx="45720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9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251460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1460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819520"/>
            <a:ext cx="457200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426708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2502000"/>
            <a:ext cx="1676160" cy="10152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4495680"/>
            <a:ext cx="1676160" cy="10188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19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04812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038480"/>
            <a:ext cx="76212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2320" y="304812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4038480"/>
            <a:ext cx="76176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3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198108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447920" y="60948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124080" y="6094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762120"/>
            <a:ext cx="167616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09680" y="1981080"/>
            <a:ext cx="1800" cy="32004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3581280"/>
            <a:ext cx="5715000" cy="18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600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1752480"/>
            <a:ext cx="30492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1219320"/>
            <a:ext cx="144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514600" y="1599840"/>
            <a:ext cx="144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295280"/>
            <a:ext cx="18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324480" y="1752120"/>
            <a:ext cx="18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5880" y="2819520"/>
            <a:ext cx="1143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267080"/>
            <a:ext cx="106704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2819520"/>
            <a:ext cx="1440" cy="1447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3048120"/>
            <a:ext cx="60948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038480"/>
            <a:ext cx="60948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3048120"/>
            <a:ext cx="1800" cy="5331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35812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676520" y="464832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819520" y="457200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952880"/>
            <a:ext cx="53316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952880"/>
            <a:ext cx="60984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019920" y="609480"/>
            <a:ext cx="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762120"/>
            <a:ext cx="289584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58840" y="45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428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6376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074000">
            <a:off x="3255840" y="360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074000">
            <a:off x="3255840" y="314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074000">
            <a:off x="599904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074000">
            <a:off x="6246360" y="3127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074000">
            <a:off x="218880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20640" y="2057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F=16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-2880" y="5257800"/>
            <a:ext cx="31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3400" y="61088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592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7400" y="6324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1880" y="52578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209680" y="3047760"/>
            <a:ext cx="60984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16160" y="2971800"/>
            <a:ext cx="33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1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566424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6197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6360" y="6197760"/>
            <a:ext cx="13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··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63120" y="5892840"/>
            <a:ext cx="97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29560" y="5867280"/>
            <a:ext cx="319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·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832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3400" y="3048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20960" y="2971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2209680"/>
            <a:ext cx="38102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5360" y="1905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4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24080" y="457200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123720" y="49528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6483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457200" y="914040"/>
            <a:ext cx="4495680" cy="441972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1371600"/>
            <a:ext cx="3886200" cy="3886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708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905120"/>
            <a:ext cx="1800" cy="5331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272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56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272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42670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3434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523880" y="1523520"/>
            <a:ext cx="6858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22096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95120" y="42670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4040" y="365724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3880" y="16765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46483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3809880"/>
            <a:ext cx="76176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12952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48006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91120" y="259092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34290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523880" y="1828800"/>
            <a:ext cx="6858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2209680"/>
            <a:ext cx="6098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895120" y="4267080"/>
            <a:ext cx="6858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914040" y="3962520"/>
            <a:ext cx="6094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90920" y="609480"/>
            <a:ext cx="0" cy="5029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4103000">
            <a:off x="2215080" y="300240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3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1148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426708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24480" y="205740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80800" y="2133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90280" y="4267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2200" y="327672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86240" y="1143000"/>
            <a:ext cx="6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1520" y="22096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2200" y="42670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960" y="3809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44160" y="1828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30481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04840" y="52578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7320" y="3352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91520" y="236232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81160" y="259092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57480" y="34290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24800" y="13082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10240" y="990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1024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0880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38840" y="12193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4832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00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46880" y="1523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53240" y="121932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13760" y="3808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2520" y="22096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12440" y="2819520"/>
            <a:ext cx="9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13520" y="2819520"/>
            <a:ext cx="102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180200" y="2819520"/>
            <a:ext cx="10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94600" y="2819520"/>
            <a:ext cx="104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3657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V ·R = 16 · 425 = 6800 N·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9132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7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9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22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1336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87240" y="4267080"/>
            <a:ext cx="6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5002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6272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9800" y="5486400"/>
            <a:ext cx="6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 ·r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523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77120" y="507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7000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73280" y="533088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3320" y="5281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17.7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1160" y="60958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958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1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6095880"/>
            <a:ext cx="85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60958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3.8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6019920"/>
            <a:ext cx="251460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753920" y="1405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6868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68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120" y="457200"/>
            <a:ext cx="55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máximo en pernos A y B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5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00320" y="1143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412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167652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9680" y="259092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aplastamiento (en viga canal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01280" y="3386160"/>
            <a:ext cx="8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604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1604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365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360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536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3620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8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00320" y="31240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6920" y="3740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365760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536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97480" y="3733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888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4840" y="449568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rítico por flexión en la barra (sección que pasa por A y 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0" y="5257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724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6160" y="5568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7840" y="51055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 ·(300+50) = 5600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5520" y="5715000"/>
            <a:ext cx="326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rr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2(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gujero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5029200"/>
            <a:ext cx="1522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1000" y="6248520"/>
            <a:ext cx="1522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01000" y="5562720"/>
            <a:ext cx="15228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00100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5328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29600" y="5029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29600" y="6629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7240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15292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99172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074000">
            <a:off x="8608680" y="5641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5486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696080" y="6171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238880" y="6400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60958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62840" y="630252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(15 ·20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 - 2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(15 ·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15 ·d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51216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V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19320" y="990720"/>
            <a:ext cx="1218960" cy="1143000"/>
          </a:xfrm>
          <a:prstGeom prst="donut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2480" y="1219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1522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523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76920" y="1143000"/>
            <a:ext cx="2361960" cy="2362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5000" y="762120"/>
            <a:ext cx="6094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99072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9720" y="129528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38088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2286000"/>
            <a:ext cx="312444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19920" y="609480"/>
            <a:ext cx="0" cy="34290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105520" y="2286000"/>
            <a:ext cx="914400" cy="762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91440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5335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257800" y="2362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4640" y="342900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de cor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96252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4565520"/>
            <a:ext cx="4572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708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52480" y="4267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82360" y="4648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5360" y="39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9160" y="5257800"/>
            <a:ext cx="69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normal de aplastamien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5715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63183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97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051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34280" y="6400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97640" y="5721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61560" y="100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059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866560" y="1911240"/>
            <a:ext cx="2590920" cy="76212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45404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600" y="1987560"/>
            <a:ext cx="990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292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240" y="22921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0542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8040" y="130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1360" y="183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0680" y="25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60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4400" y="304812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866560" y="4807080"/>
            <a:ext cx="2590920" cy="76176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4988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86240" y="5181480"/>
            <a:ext cx="1066680" cy="6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172200" y="5181120"/>
            <a:ext cx="914400" cy="29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086240" y="518760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9500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419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876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40680" y="549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4400" y="59436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42200" y="809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200" y="37339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0040" y="6095880"/>
            <a:ext cx="15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1905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753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07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5562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7880" y="4952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760" y="60948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22480" y="2819520"/>
            <a:ext cx="54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 DE SOLD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094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480" y="18288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5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5760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5934800">
            <a:off x="1746000" y="31068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3708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810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294920" y="2057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0200" y="2057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313000">
            <a:off x="1980720" y="19810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4852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773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8520" y="144792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10666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670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10666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29400" y="106668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29400" y="1066680"/>
            <a:ext cx="4572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5791320" y="1447920"/>
            <a:ext cx="4572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5520" y="2133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7120" y="190512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934320" y="213300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5181840" cy="32576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6249960" y="33526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64360" y="3084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02800" y="36576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·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618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5000" cy="32846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351080" y="4448160"/>
            <a:ext cx="1966680" cy="2028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93800" y="3773520"/>
            <a:ext cx="0" cy="3084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080" y="5508720"/>
            <a:ext cx="367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0600" y="5411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66840" y="35812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4544640"/>
            <a:ext cx="1128600" cy="177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6800" y="444816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5120" y="454500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93800" y="444816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3962520"/>
            <a:ext cx="83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832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36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5120" y="4545000"/>
            <a:ext cx="1539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6800" y="550872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05120" y="560556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93800" y="599112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6800" y="5991120"/>
            <a:ext cx="5983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3920" y="59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7160" y="6280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92480" y="637524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81280" y="589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94160" y="618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79480" y="628020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32200" y="4545000"/>
            <a:ext cx="0" cy="963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34000" y="45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33280" y="4834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32200" y="493092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3160" y="12193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h ·l ·cos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18120" y="5335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rea de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37000" y="25146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08720" y="3124080"/>
            <a:ext cx="7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6436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643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62920" y="34290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68200" y="32004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5508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09920" y="34290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0.707 ·h ·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00100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79840" y="1905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·h ·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14880" y="4038480"/>
            <a:ext cx="90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908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24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43600" y="43434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4000" y="41148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62920" y="441972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40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07000" y="4419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0592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07360" y="396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24480" y="3886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1028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41148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763120" y="41148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15328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708660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734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83404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267160" y="5029200"/>
            <a:ext cx="166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1.6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4876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9080" y="5410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10280" y="5334120"/>
            <a:ext cx="389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81480" y="5959440"/>
            <a:ext cx="11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81480" y="632448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8256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6019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556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6280" y="58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5851440"/>
            <a:ext cx="73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8168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172200" y="601992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104800" y="6019920"/>
            <a:ext cx="75960" cy="609480"/>
          </a:xfrm>
          <a:custGeom>
            <a:avLst/>
            <a:gdLst>
              <a:gd name="textAreaLeft" fmla="*/ -360 w 75960"/>
              <a:gd name="textAreaRight" fmla="*/ 529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24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26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936120" y="6019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23068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229600" y="640080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3104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294200" y="304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ex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120" y="2133720"/>
            <a:ext cx="25905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19320"/>
            <a:ext cx="457200" cy="289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-76320" y="24382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1676520"/>
            <a:ext cx="30456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6680" y="1676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1523880" y="1675800"/>
            <a:ext cx="15264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1523880"/>
            <a:ext cx="15264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2120" y="609480"/>
            <a:ext cx="0" cy="39625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67080" y="2057400"/>
            <a:ext cx="38124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72200" y="25909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72200" y="19051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20574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0574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64832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7220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55308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26668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29400" y="25909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29400" y="19051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198108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23623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373760" y="3699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78880" y="12193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2680" y="3808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3080" y="2286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8520" y="1422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4577760" y="2139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34800">
            <a:off x="6965280" y="2637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867280" y="2286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12952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7680" y="990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6440" y="2133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34800">
            <a:off x="7041240" y="141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7391520" y="26665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7391520" y="1980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6508440" y="2027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9760" y="304812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" y="5334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6320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9520" y="571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8080" y="563868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5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884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3962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3505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 : fuerz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 : área total de garg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0640" y="46483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flex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52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81800" y="5181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1440" y="57150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707 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676520" y="5638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744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8272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41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880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 d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76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02640" y="42670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unitario de inerc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29280" y="473220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37320" y="4572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7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0" y="50292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2280" y="548640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de inercia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249960" y="59515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0.7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75760" y="5791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5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20120" y="6248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294200" y="30492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rs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990720" y="838080"/>
            <a:ext cx="7339680" cy="4584240"/>
            <a:chOff x="990720" y="838080"/>
            <a:chExt cx="7339680" cy="4584240"/>
          </a:xfrm>
        </p:grpSpPr>
        <p:sp>
          <p:nvSpPr>
            <p:cNvPr id="1032" name=""/>
            <p:cNvSpPr/>
            <p:nvPr/>
          </p:nvSpPr>
          <p:spPr>
            <a:xfrm>
              <a:off x="1562040" y="1917720"/>
              <a:ext cx="5144400" cy="159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7080" y="855360"/>
              <a:ext cx="0" cy="106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67080" y="3511080"/>
              <a:ext cx="0" cy="127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0720" y="838080"/>
              <a:ext cx="2376360" cy="3965040"/>
            </a:xfrm>
            <a:custGeom>
              <a:avLst/>
              <a:gdLst/>
              <a:ahLst/>
              <a:rect l="l" t="t" r="r" b="b"/>
              <a:pathLst>
                <a:path w="1264" h="1792">
                  <a:moveTo>
                    <a:pt x="1264" y="8"/>
                  </a:moveTo>
                  <a:cubicBezTo>
                    <a:pt x="1216" y="4"/>
                    <a:pt x="1168" y="0"/>
                    <a:pt x="1120" y="8"/>
                  </a:cubicBezTo>
                  <a:cubicBezTo>
                    <a:pt x="1072" y="16"/>
                    <a:pt x="1008" y="32"/>
                    <a:pt x="976" y="56"/>
                  </a:cubicBezTo>
                  <a:cubicBezTo>
                    <a:pt x="944" y="80"/>
                    <a:pt x="952" y="136"/>
                    <a:pt x="928" y="152"/>
                  </a:cubicBezTo>
                  <a:cubicBezTo>
                    <a:pt x="904" y="168"/>
                    <a:pt x="864" y="152"/>
                    <a:pt x="832" y="152"/>
                  </a:cubicBezTo>
                  <a:cubicBezTo>
                    <a:pt x="800" y="152"/>
                    <a:pt x="776" y="152"/>
                    <a:pt x="736" y="152"/>
                  </a:cubicBezTo>
                  <a:cubicBezTo>
                    <a:pt x="696" y="152"/>
                    <a:pt x="648" y="168"/>
                    <a:pt x="592" y="152"/>
                  </a:cubicBezTo>
                  <a:cubicBezTo>
                    <a:pt x="536" y="136"/>
                    <a:pt x="464" y="64"/>
                    <a:pt x="400" y="56"/>
                  </a:cubicBezTo>
                  <a:cubicBezTo>
                    <a:pt x="336" y="48"/>
                    <a:pt x="256" y="56"/>
                    <a:pt x="208" y="104"/>
                  </a:cubicBezTo>
                  <a:cubicBezTo>
                    <a:pt x="160" y="152"/>
                    <a:pt x="136" y="264"/>
                    <a:pt x="112" y="344"/>
                  </a:cubicBezTo>
                  <a:cubicBezTo>
                    <a:pt x="88" y="424"/>
                    <a:pt x="72" y="520"/>
                    <a:pt x="64" y="584"/>
                  </a:cubicBezTo>
                  <a:cubicBezTo>
                    <a:pt x="56" y="648"/>
                    <a:pt x="56" y="680"/>
                    <a:pt x="64" y="728"/>
                  </a:cubicBezTo>
                  <a:cubicBezTo>
                    <a:pt x="72" y="776"/>
                    <a:pt x="112" y="824"/>
                    <a:pt x="112" y="872"/>
                  </a:cubicBezTo>
                  <a:cubicBezTo>
                    <a:pt x="112" y="920"/>
                    <a:pt x="72" y="976"/>
                    <a:pt x="64" y="1016"/>
                  </a:cubicBezTo>
                  <a:cubicBezTo>
                    <a:pt x="56" y="1056"/>
                    <a:pt x="72" y="1064"/>
                    <a:pt x="64" y="1112"/>
                  </a:cubicBezTo>
                  <a:cubicBezTo>
                    <a:pt x="56" y="1160"/>
                    <a:pt x="24" y="1248"/>
                    <a:pt x="16" y="1304"/>
                  </a:cubicBezTo>
                  <a:cubicBezTo>
                    <a:pt x="8" y="1360"/>
                    <a:pt x="0" y="1416"/>
                    <a:pt x="16" y="1448"/>
                  </a:cubicBezTo>
                  <a:cubicBezTo>
                    <a:pt x="32" y="1480"/>
                    <a:pt x="72" y="1464"/>
                    <a:pt x="112" y="1496"/>
                  </a:cubicBezTo>
                  <a:cubicBezTo>
                    <a:pt x="152" y="1528"/>
                    <a:pt x="216" y="1616"/>
                    <a:pt x="256" y="1640"/>
                  </a:cubicBezTo>
                  <a:cubicBezTo>
                    <a:pt x="296" y="1664"/>
                    <a:pt x="296" y="1640"/>
                    <a:pt x="352" y="1640"/>
                  </a:cubicBezTo>
                  <a:cubicBezTo>
                    <a:pt x="408" y="1640"/>
                    <a:pt x="528" y="1632"/>
                    <a:pt x="592" y="1640"/>
                  </a:cubicBezTo>
                  <a:cubicBezTo>
                    <a:pt x="656" y="1648"/>
                    <a:pt x="696" y="1672"/>
                    <a:pt x="736" y="1688"/>
                  </a:cubicBezTo>
                  <a:cubicBezTo>
                    <a:pt x="776" y="1704"/>
                    <a:pt x="792" y="1720"/>
                    <a:pt x="832" y="1736"/>
                  </a:cubicBezTo>
                  <a:cubicBezTo>
                    <a:pt x="872" y="1752"/>
                    <a:pt x="936" y="1776"/>
                    <a:pt x="976" y="1784"/>
                  </a:cubicBezTo>
                  <a:cubicBezTo>
                    <a:pt x="1016" y="1792"/>
                    <a:pt x="1032" y="1784"/>
                    <a:pt x="1072" y="1784"/>
                  </a:cubicBezTo>
                  <a:cubicBezTo>
                    <a:pt x="1112" y="1784"/>
                    <a:pt x="1184" y="1784"/>
                    <a:pt x="1216" y="17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2040" y="351108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06440" y="961920"/>
              <a:ext cx="0" cy="95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20240" y="2661480"/>
              <a:ext cx="731016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64560" y="855360"/>
              <a:ext cx="0" cy="456696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67080" y="1811520"/>
              <a:ext cx="0" cy="531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67080" y="1811520"/>
              <a:ext cx="631440" cy="849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98880" y="2661480"/>
              <a:ext cx="0" cy="5306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67080" y="2342880"/>
              <a:ext cx="0" cy="11678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67080" y="1811520"/>
              <a:ext cx="631440" cy="1380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7080" y="2342880"/>
              <a:ext cx="631440" cy="849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3840" y="2554920"/>
              <a:ext cx="3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44920" y="1811520"/>
              <a:ext cx="3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3480" y="2024280"/>
              <a:ext cx="63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06440" y="961920"/>
              <a:ext cx="5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08880" y="28735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5640" y="191772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8880" y="2024280"/>
              <a:ext cx="81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464560" y="1811160"/>
              <a:ext cx="90252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62040" y="170532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464560" y="1811160"/>
              <a:ext cx="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4200" y="18115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6456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76720" y="1811520"/>
              <a:ext cx="18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6708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03480" y="1280520"/>
              <a:ext cx="5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`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3600" y="3886200"/>
            <a:ext cx="9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7836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006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416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468920" y="37339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4689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72880" y="4932360"/>
            <a:ext cx="486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 área de garganta de todas las soldad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 :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 : momento polar de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300400" y="-46080"/>
            <a:ext cx="516708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1676520" y="-22320"/>
            <a:ext cx="5427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96000" y="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2120" y="1523880"/>
            <a:ext cx="19047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94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27432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44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09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3808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6176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9072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14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120" y="1219320"/>
            <a:ext cx="19047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819520" y="12193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52280" y="121932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6252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812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52680" y="34290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05520" y="1523880"/>
            <a:ext cx="304560" cy="3049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76920" y="1371600"/>
            <a:ext cx="76176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57164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3868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36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4360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0" y="2743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505320" y="2819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3828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98108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213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00800" y="1676520"/>
            <a:ext cx="0" cy="10666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008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20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2743200"/>
            <a:ext cx="24156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743200"/>
            <a:ext cx="24120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16765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76920" y="1676520"/>
            <a:ext cx="75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1752480"/>
            <a:ext cx="152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17524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05520" y="190512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1480" y="19051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167652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57800" y="609480"/>
            <a:ext cx="0" cy="243864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732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525320" y="914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00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0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54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300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114800" y="3124080"/>
            <a:ext cx="4572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52680" y="37339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657600" y="373320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657600" y="3581280"/>
            <a:ext cx="15228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6018120" y="1984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30640" y="3505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35000" y="1295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5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60753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59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86760" y="426708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Ubicación del centroide del grupo de soldadu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2160" y="495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90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82160" y="5380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57400" y="538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33880" y="49831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08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95680" y="5208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63320" y="54100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56+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27432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9154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9154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3733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00244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152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69897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162920" y="34290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107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14600" y="50054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2360" y="541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5386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4360" y="5181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5257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10.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523880" y="13716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95480" y="19810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3880" y="23623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82520" y="2057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13716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142640" y="13716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142640" y="20574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893880" y="147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0"/>
            <a:ext cx="0" cy="31240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480" y="1523880"/>
            <a:ext cx="3505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95280" y="2286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228600"/>
            <a:ext cx="1752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13716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00400" y="22860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200400" y="15238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28600"/>
            <a:ext cx="0" cy="12952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09680" y="28195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1676160" y="1523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3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7800" y="1676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302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6360" y="2286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25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7774800">
            <a:off x="1794960" y="112752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41520" y="622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2788920" y="1631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2741760" y="536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75440" y="609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25 ·110.4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50800" y="1270080"/>
            <a:ext cx="17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8b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6b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7480" y="14986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1644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1746360"/>
            <a:ext cx="1676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0" y="1523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1629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88400" y="1752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b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62920" y="1752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53720" y="2362320"/>
            <a:ext cx="35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6(56)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01840" y="2590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592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629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960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392960" y="2819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(56)+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8195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60160" y="3429000"/>
            <a:ext cx="22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1.6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9840" y="38862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h(2b+d)=0.707 ·6 ·(2 ·56+1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57680" y="44956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1280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19040" y="87624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90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906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1066680"/>
            <a:ext cx="26668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066680" y="2286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14479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95960" y="3973680"/>
            <a:ext cx="1625760" cy="1498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7086600" y="3965040"/>
            <a:ext cx="9360" cy="1506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095960" y="3973680"/>
            <a:ext cx="1625760" cy="1498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095960" y="5472000"/>
            <a:ext cx="843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95960" y="5472000"/>
            <a:ext cx="1625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661240" y="366084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380988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09160" y="547200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84240" y="5410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4440" y="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63400" y="990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25400" y="2491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ortan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38000" y="858960"/>
            <a:ext cx="83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8880" y="78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8880" y="123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123984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72720" y="1011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028480" y="7826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5160" y="1239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05520" y="12398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69080" y="914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.5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4280" y="213372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cortantes secundar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1800" y="274320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52240" y="266688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02000" y="3124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00200" y="312408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800" y="2895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388240" y="26668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3828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38280" y="3124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40280" y="28195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7.1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373392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52240" y="365760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200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41148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81800" y="3886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87520" y="36576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38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40280" y="38098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7.8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9800" y="47242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máxi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77960" y="5389560"/>
            <a:ext cx="61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37.1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(19.5+17.8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5160" y="5465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54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73880" y="5334120"/>
            <a:ext cx="650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24080" y="5486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35640" y="6019920"/>
            <a:ext cx="21405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52.6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8400" y="228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4800" y="1143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080" y="838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040" y="1371600"/>
            <a:ext cx="20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4560" y="35812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680" y="4419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320" y="411480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7840" y="11430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4840" y="83808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2360" y="1371600"/>
            <a:ext cx="196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9760" y="4114800"/>
            <a:ext cx="24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7280" y="4648320"/>
            <a:ext cx="20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2400" y="44197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744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9152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720" y="2133720"/>
            <a:ext cx="16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6400" y="266688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6668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286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286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6040" y="5791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549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602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2760" y="548640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85720" y="601992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56386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7600" y="2286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utorreten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129528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1336680"/>
            <a:ext cx="144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720" y="19810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0240" y="28954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240" y="2597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272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685800"/>
            <a:ext cx="14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jada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4880" y="2819520"/>
            <a:ext cx="79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2760" y="252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3048120"/>
            <a:ext cx="584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4680" y="2813040"/>
            <a:ext cx="193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T (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971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6760" y="4473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2560" y="41752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800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8006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962520"/>
            <a:ext cx="28191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4197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7520" y="15228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TRAPEZOIDAL O UN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54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81480" y="609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400" y="1066680"/>
            <a:ext cx="8380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447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182880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43400" y="2514600"/>
            <a:ext cx="8380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27672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20932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50532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2040" y="2441520"/>
            <a:ext cx="1218960" cy="21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999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999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438280"/>
            <a:ext cx="330480" cy="1219320"/>
          </a:xfrm>
          <a:custGeom>
            <a:avLst/>
            <a:gdLst/>
            <a:ahLst/>
            <a:rect l="l" t="t" r="r" b="b"/>
            <a:pathLst>
              <a:path w="208" h="768">
                <a:moveTo>
                  <a:pt x="0" y="0"/>
                </a:moveTo>
                <a:cubicBezTo>
                  <a:pt x="32" y="20"/>
                  <a:pt x="64" y="40"/>
                  <a:pt x="96" y="96"/>
                </a:cubicBezTo>
                <a:cubicBezTo>
                  <a:pt x="128" y="152"/>
                  <a:pt x="176" y="264"/>
                  <a:pt x="192" y="336"/>
                </a:cubicBezTo>
                <a:cubicBezTo>
                  <a:pt x="208" y="408"/>
                  <a:pt x="200" y="456"/>
                  <a:pt x="192" y="528"/>
                </a:cubicBezTo>
                <a:cubicBezTo>
                  <a:pt x="184" y="600"/>
                  <a:pt x="152" y="728"/>
                  <a:pt x="144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909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762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8320" y="838080"/>
            <a:ext cx="4572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359000"/>
            <a:ext cx="22860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8"/>
                </a:moveTo>
                <a:cubicBezTo>
                  <a:pt x="12" y="4"/>
                  <a:pt x="24" y="0"/>
                  <a:pt x="48" y="8"/>
                </a:cubicBezTo>
                <a:cubicBezTo>
                  <a:pt x="72" y="16"/>
                  <a:pt x="128" y="48"/>
                  <a:pt x="144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3716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1066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371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23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880" y="68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162080"/>
            <a:ext cx="12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7480" y="4495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01200" y="41972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52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7440" y="4191120"/>
            <a:ext cx="201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66080" y="4724280"/>
            <a:ext cx="191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7307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3434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4349880"/>
            <a:ext cx="75960" cy="76176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6600" y="45720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subir (o apre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8920" y="288936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86800" y="245736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30481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6400" y="198108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en el collar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5600" y="44956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39080" y="41338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5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9760" y="5867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3840" y="5568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610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99360" y="556272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8720" y="6095880"/>
            <a:ext cx="20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6102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5715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572148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2840" y="5943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bajar (o sol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8240" y="5867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1720" y="55054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77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0958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7080" y="304920"/>
            <a:ext cx="41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SOBRE LA RO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4080" y="121932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l tor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560" y="19447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9920" y="16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2240" y="22860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2096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7400" y="297180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 la tuer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4120" y="37735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484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71400" y="4114800"/>
            <a:ext cx="7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0384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320" y="457200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(de aplastamiento) en las ros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4120" y="541008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4840" y="5141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0440" y="5715000"/>
            <a:ext cx="17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(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5638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" y="22860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P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09880" cy="3282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17880" y="312408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3120" y="44956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2000" y="419112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45120" y="480060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664240"/>
            <a:ext cx="227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8600" y="541008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60199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589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1440" y="563868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5359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12320" y="60181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89284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3520" y="563868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0600" y="563868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7240" y="304920"/>
            <a:ext cx="46670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 : Carg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Carga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480" y="4565520"/>
            <a:ext cx="96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988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7360" y="480060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58560" y="4572000"/>
            <a:ext cx="92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72960" y="42735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0440" y="48070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480708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8400" y="311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2080" y="281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0" y="3352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335268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00" y="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EN UNIONES APER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038480" cy="222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2934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54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60840" y="76032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3596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316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9712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75564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7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1680" y="7603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755640"/>
            <a:ext cx="40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5888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531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404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36520" y="5335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..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18986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3960" y="1606680"/>
            <a:ext cx="10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592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172200" y="212724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757520"/>
            <a:ext cx="76320" cy="750600"/>
          </a:xfrm>
          <a:custGeom>
            <a:avLst/>
            <a:gdLst>
              <a:gd name="textAreaLeft" fmla="*/ 0 w 76320"/>
              <a:gd name="textAreaRight" fmla="*/ 5364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682640"/>
            <a:ext cx="152280" cy="90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84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86080" y="1606680"/>
            <a:ext cx="90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876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924680" y="2127240"/>
            <a:ext cx="83844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63120" y="1757520"/>
            <a:ext cx="75960" cy="750600"/>
          </a:xfrm>
          <a:custGeom>
            <a:avLst/>
            <a:gdLst>
              <a:gd name="textAreaLeft" fmla="*/ 0 w 75960"/>
              <a:gd name="textAreaRight" fmla="*/ 53280 w 7596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068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1682640"/>
            <a:ext cx="76320" cy="90180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55120" y="2971800"/>
            <a:ext cx="157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1.5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0520" y="12175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o de presión (Rotsh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8720" y="433692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4114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3440" y="457200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9280" y="4032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3320" y="4572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91520" y="45655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1846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39080" y="41846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43434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208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108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67680" y="41083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30640" y="53341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105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7680" y="53341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55627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5632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3320" y="61722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61657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57848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7848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59436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080" y="5937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5708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67680" y="57085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2440" y="30416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dx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520" y="32828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08T12:26:04Z</dcterms:modified>
  <cp:revision>81</cp:revision>
  <dc:subject/>
  <dc:title>Sin título de diapositiva</dc:title>
</cp:coreProperties>
</file>