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ED3-AB1D-41C1-8F19-84F6DABA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D2D-7D40-4C82-A483-002C29C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87C-232D-4107-9E3A-7F8C36C1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5B4-CC14-4FB6-91A3-B7540067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DB55-9D45-43F7-9F67-304C7A45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9816-004D-4EAE-985B-F3F12D82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C5F4-BCE8-4981-AD3B-8B4D694B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F740-86A5-4029-8E3D-B6D530AD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A821-F0AB-4EBC-86A1-0E9D32BD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BAD6-6E67-49C2-AD16-59964317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7710-BA5E-425E-893B-19719D2C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F27-ECAB-4AA0-AC34-1CC443D4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3E86-6600-4AED-90BA-351640F7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1407-297F-4458-8DA5-0E6F9EB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E4AA-0EC9-4071-A010-DB4AA4FD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195-9C83-4CE9-917A-FDFC9EB1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2FBB-980E-42B4-A11E-1CA37F74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9CB-D813-476F-8A27-160F6E19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2D9-FFC5-42C0-9218-1AF5D1E7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DF2-3E2D-4E2F-BCEB-3949B74C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515-F363-4EE9-B556-02037041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F8F-7AB0-470E-9075-FB175C29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31F-D4B3-4F81-BB9C-868E2014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307-3C60-429E-B058-CCCA2663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A886-13DE-4E5C-9B8F-7EE9ED6163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CE9E-B07A-417B-960A-DEFEE206DA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básica Dinámica C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te factor es un dato del rodamiento, se encuentra en tabl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dinámica equivalente P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ende de cada rodamiento y está en función de las fuerzas que actúan sobre el rod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3581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62120" y="4952880"/>
            <a:ext cx="7848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Carga Dinámica Equivalente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 = Carga Rad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 = Carga ax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=  Coeficiente Rad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Coeficiente Ax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locidad de rotación afecta la vida del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bricación y temperatura son relevantes al momento de definir la velocidad máxima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aplicaciones pesadas se debe ponderar la velocidad máxima especificada por un factor de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1503360"/>
            <a:ext cx="6019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jemplo de Catálo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724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ecomendaciones para el 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Shigley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bastará para resolver el 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alá tengan el catálogo SKF de la 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copias del catálogo NO SON SUFICIENTES para todos los alumnos del curso. Por esto, se subirá a U-Cursos un extracto del catálogo para que tengan las tablas de rodamientos de b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nomenclatura del catálogo es diferente a la del Shigley. Se utilizará la del cat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de máquina que permiten el giro de una pieza móvil en torno a una pieza fija con el menor roce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s comunes: ejes, masas, elementos oscilantes, pol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959280"/>
            <a:ext cx="1428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rodamientos de diversos tipos, según sea la aplicación en la cual serán uti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olas (Ball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(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Cónicos (Tapered 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a forma de Clasific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Rad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Ax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62920" y="1617840"/>
            <a:ext cx="142848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520" y="3941640"/>
            <a:ext cx="133020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11880" y="3941640"/>
            <a:ext cx="13305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209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58460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 D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axiales soportan cargas puramente ax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radiales soportan cargas puramente rad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amientos de ambos tipos pueden soportar un cierto grado de cargas combinadas, pero se favorece el uso de uno u otro tipo según la magnitud de las 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iversos parámetros a considerar al seleccionar un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basta con conocer las dimensiones de la pieza sobre la cual se monta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conocer condiciones de operación, tanto las fuerzas que actúan como factores tales como temperatura, tolerancias, lubric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factor primario, se debe imponer una determinada ventana de uso del ro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iempo de uso se puede definir en horas como en millones de revoluciones, según sea el ca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Princip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464832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Duración nominal, millones de rev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h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ración nominal, hora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elocidad de rotación, [rp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arga básica dinámica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equivalente sobre el rodamiento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/P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guridad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te de duración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bolas,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10/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rod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0" y="164304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uracione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drawingml/2006/table">
            <a:tbl>
              <a:tblPr/>
              <a:tblGrid>
                <a:gridCol w="7162920"/>
                <a:gridCol w="1981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: horas de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rto o intermitente cuando eventuales fallos no sean de graves consecuencias: Máquinas-herramienta manuales, máquinas domésticas, máquinas agrícolas, polipastos elevadores en talleres y grúas de fundi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a 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intermitente, cuando eventuales  fallos sean de graves consecuenc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para equipo agrícola y para aparatos electrodomésticos de calefacción y refrigeración,  maquinaria auxiliar en centrales eléctricas, correas  transportadoras, ascensores, grúas de talleres  y máquinas-herramienta de poco u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 a 1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ores de velocidad para uso gener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estacionar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 a 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 a 2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-herramienta, máquinas para trabajar la madera,  máquinas para la industria mecánica en general, grúas para  materiales a granel y ventilador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 a 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ntinuo funcionando 24 horas al día: Compresores, bombas, motores eléctricos estacionarios y máquinas de extracción para mi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 a 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amientos axiales en los ejes de las hélices en los buques, máquinas eléctricas estacionarias marinas, rodamientos para los ejes de transmisión en los bu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 a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24 horas de servicio con gran seguridad de funciona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la fabricación de papel y pasta de papel, máquinas para centrales eléctricas, máquinas para abastecimiento de aguas, bombas para min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5-04T02:20:33Z</dcterms:modified>
  <cp:revision>20</cp:revision>
  <dc:subject/>
  <dc:title>ME56A - Diseño de Elementos de Máquinas</dc:title>
</cp:coreProperties>
</file>