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78A-8154-4A24-A67F-216C0D86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6E7-B38D-4BB2-A9E5-748EB4DA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5E8-27F8-4AE5-AD88-8B875A144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DA0-961D-4854-A4BA-9675DA93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FA12-D910-4552-B207-A67698D7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D29C-695B-4742-A377-D8B647A1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4EF1-44C9-4D4C-95A2-26BC0E45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2B00-198D-4457-ACB8-AB4A675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7289-B2A2-4145-B0E7-BD8DA9CB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E70C-D71E-4333-A056-30819CFC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4587-A975-4EBD-8AFB-1223FC89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FDC-4428-4DF5-B3E3-D75D2E48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56C8-2DBC-4458-B4E1-45BD76B7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7295-A8AF-4F75-BFD2-E3CABC72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9F4-9EF9-4454-AD8B-FC9474D3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B0AA-CEF6-4134-9B63-937D600D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A4A1-6961-4023-8C1E-DE20FACC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040-B724-4F0F-99C7-58A01DBD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A19-82AA-4D35-AE1F-9B146508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5BA-D25E-4786-B164-BCE7210A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2BA-5C21-483C-B38A-A0ABB727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1C6-0B51-438F-B7DB-F67BCA8C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AD0-45E7-44C8-8FE9-6A9BB036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98C-4317-4CA9-BF1B-402E6152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D216-9D72-4DCB-8E2D-94D7096851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D3D0-0EBE-4F5B-B334-4C5C3FE0EB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básica Dinámica C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ste factor es un dato del rodamiento, se encuentra en tabla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rga dinámica equivalente P: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pende de cada rodamiento y está en función de las fuerzas que actúan sobre el rodami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743200" y="4038480"/>
                <a:ext cx="3581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62120" y="4952880"/>
            <a:ext cx="7848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 = Carga Dinámica Equivalente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r = Carga Rad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 = Carga axial constante, real,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 =  Coeficiente Rad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 = Coeficiente Axial del rod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locidad de rotación afecta la vida del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bricación y temperatura son relevantes al momento de definir la velocidad máxima de o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aplicaciones pesadas se debe ponderar la velocidad máxima especificada por un factor de corr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Límites de Veloc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1503360"/>
            <a:ext cx="60199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jemplo de Catálog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7543800" cy="6259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4724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ecomendaciones para el Ejercici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Shigley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bastará para resolver el ejerc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jalá tengan el catálogo SKF de la bibl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copias del catálogo NO SON SUFICIENTES para todos los alumnos del curso. Por esto, se subirá a U-Cursos un extracto del catálogo para que tengan las tablas de rodamientos de b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nomenclatura del catálogo es diferente a la del Shigley. Se utilizará la del catá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de máquina que permiten el giro de una pieza móvil en torno a una pieza fija con el menor roce po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s comunes: ejes, masas, elementos oscilantes, pol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3959280"/>
            <a:ext cx="14288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isten rodamientos de diversos tipos, según sea la aplicación en la cual serán utiliz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olas (Ball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(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illos Cónicos (Tapered Roller Bearing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tra forma de Clasificar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Rad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Rodamientos Axi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17840"/>
            <a:ext cx="1428840" cy="2152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162920" y="1617840"/>
            <a:ext cx="1428480" cy="21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520" y="3941640"/>
            <a:ext cx="1330200" cy="2189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211880" y="3941640"/>
            <a:ext cx="1330560" cy="218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57400" y="22096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57200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2209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Rad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58460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damiento de Rodillos Cónicos Do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Ax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ipo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axiales soportan cargas puramente ax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rodamientos radiales soportan cargas puramente rad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amientos de ambos tipos pueden soportar un cierto grado de cargas combinadas, pero se favorece el uso de uno u otro tipo según la magnitud de las 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iversos parámetros a considerar al seleccionar un rod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basta con conocer las dimensiones de la pieza sobre la cual se montar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conocer condiciones de operación, tanto las fuerzas que actúan como factores tales como temperatura, tolerancias, lubricació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mo factor primario, se debe imponer una determinada ventana de uso del rod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iempo de uso se puede definir en horas como en millones de revoluciones, según sea el ca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cuación Princip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0" y="464832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elección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6868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Duración nominal, millones de rev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Lh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ración nominal, hora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elocidad de rotación, [rp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Carga básica dinámica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equivalente sobre el rodamiento, [k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C/P =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guridad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onente de duración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bolas,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p = 10/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para rodamientos de rod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86000" y="1643040"/>
                <a:ext cx="43434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uraciones de Rodamien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drawingml/2006/table">
            <a:tbl>
              <a:tblPr/>
              <a:tblGrid>
                <a:gridCol w="7162920"/>
                <a:gridCol w="1981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máqu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h: horas de funcionami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rto o intermitente cuando eventuales fallos no sean de graves consecuencias: Máquinas-herramienta manuales, máquinas domésticas, máquinas agrícolas, polipastos elevadores en talleres y grúas de fundicion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 a 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intermitente, cuando eventuales  fallos sean de graves consecuenci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para equipo agrícola y para aparatos electrodomésticos de calefacción y refrigeración,  maquinaria auxiliar en centrales eléctricas, correas  transportadoras, ascensores, grúas de talleres  y máquinas-herramienta de poco u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 a 1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ores de velocidad para uso general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es eléctricos estacionario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 a 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0 a 24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revistas para 8 horas de servicio diario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mente utilizad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-herramienta, máquinas para trabajar la madera,  máquinas para la industria mecánica en general, grúas para  materiales a granel y ventiladore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 a 3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servicio continuo funcionando 24 horas al día: Compresores, bombas, motores eléctricos estacionarios y máquinas de extracción para mi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 a 6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damientos axiales en los ejes de las hélices en los buques, máquinas eléctricas estacionarias marinas, rodamientos para los ejes de transmisión en los buqu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 a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24 horas de servicio con gran seguridad de funcionamien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quinas para la fabricación de papel y pasta de papel, máquinas para centrales eléctricas, máquinas para abastecimiento de aguas, bombas para min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5-04T02:20:33Z</dcterms:modified>
  <cp:revision>20</cp:revision>
  <dc:subject/>
  <dc:title>ME56A - Diseño de Elementos de Máquinas</dc:title>
</cp:coreProperties>
</file>