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474-89BA-4962-87ED-E8C20CB2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D93-56F7-4C1D-A99C-67EA1696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5E7-8F59-442D-95AA-85277CB8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FAF-5062-465A-9594-0A0E1DDD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BCD9-DEBB-4EEA-B9B7-9E48ACC1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634A-9956-4964-B5A8-1E1C0D0C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85AC-2E86-4266-A58D-6ECF2B06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8ED2-8D5C-443C-9778-874F5747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3BCD-9B0A-4FEF-9159-29C69A79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1846-E850-4548-B3A9-E5D94A74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BA97-4C3F-49EF-9506-158B7471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489-879D-414A-80CF-87630A4C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C2D9-F45F-4CA2-B1C8-7ECC6ECB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EA0B-8C16-4334-9D5C-ED56EBEE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933A-96EA-416E-B8F6-480FA852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F9DB-8DF7-4F2F-ABFC-7298DAD3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2E66-B1C7-4B95-AB5E-CB014B11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332-E9D4-4CEA-BFD4-F07865C6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EC8-FE49-4684-85F3-B293B1B8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9C9-E518-445A-ACC0-56FED7DF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0A2-99F9-4FB0-995A-19728AA0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D62-CD80-49E2-A95A-77DBE3E7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FE1-8E1D-4B41-B63B-70A899FA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3B0-176B-417F-BB71-6858E658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8963-76EA-42FF-BCFF-C79E06D8C0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8AC3-D3D5-4864-9315-60D4A9C221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básica Dinámica C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te factor es un dato del rodamiento, se encuentra en tabl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dinámica equivalente P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ende de cada rodamiento y está en función de las fuerzas que actúan sobre el roda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3581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62120" y="4952880"/>
            <a:ext cx="7848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Carga Dinámica Equivalente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 = Carga Rad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 = Carga ax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=  Coeficiente Rad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Coeficiente Ax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locidad de rotación afecta la vida del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bricación y temperatura son relevantes al momento de definir la velocidad máxima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aplicaciones pesadas se debe ponderar la velocidad máxima especificada por un factor de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1503360"/>
            <a:ext cx="6019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jemplo de Catálo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625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724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ecomendaciones para el 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Shigley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bastará para resolver el ejerc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alá tengan el catálogo SKF de la bibl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copias del catálogo NO SON SUFICIENTES para todos los alumnos del curso. Por esto, se subirá a U-Cursos un extracto del catálogo para que tengan las tablas de rodamientos de b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nomenclatura del catálogo es diferente a la del Shigley. Se utilizará la del cat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de máquina que permiten el giro de una pieza móvil en torno a una pieza fija con el menor roce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s comunes: ejes, masas, elementos oscilantes, pol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959280"/>
            <a:ext cx="1428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rodamientos de diversos tipos, según sea la aplicación en la cual serán uti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olas (Ball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(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Cónicos (Tapered 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a forma de Clasific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Rad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Ax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62920" y="1617840"/>
            <a:ext cx="142848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520" y="3941640"/>
            <a:ext cx="133020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211880" y="3941640"/>
            <a:ext cx="13305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209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209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58460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 Do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axiales soportan cargas puramente ax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radiales soportan cargas puramente rad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amientos de ambos tipos pueden soportar un cierto grado de cargas combinadas, pero se favorece el uso de uno u otro tipo según la magnitud de las 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iversos parámetros a considerar al seleccionar un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basta con conocer las dimensiones de la pieza sobre la cual se monta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conocer condiciones de operación, tanto las fuerzas que actúan como factores tales como temperatura, tolerancias, lubric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factor primario, se debe imponer una determinada ventana de uso del ro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iempo de uso se puede definir en horas como en millones de revoluciones, según sea el ca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Princip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0" y="464832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Duración nominal, millones de rev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h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ración nominal, hora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elocidad de rotación, [rp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arga básica dinámica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equivalente sobre el rodamiento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/P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guridad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te de duración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bolas,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10/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rod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0" y="164304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uracione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drawingml/2006/table">
            <a:tbl>
              <a:tblPr/>
              <a:tblGrid>
                <a:gridCol w="7162920"/>
                <a:gridCol w="1981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má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: horas de funcio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rto o intermitente cuando eventuales fallos no sean de graves consecuencias: Máquinas-herramienta manuales, máquinas domésticas, máquinas agrícolas, polipastos elevadores en talleres y grúas de fundicio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a 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intermitente, cuando eventuales  fallos sean de graves consecuenc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para equipo agrícola y para aparatos electrodomésticos de calefacción y refrigeración,  maquinaria auxiliar en centrales eléctricas, correas  transportadoras, ascensores, grúas de talleres  y máquinas-herramienta de poco u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 a 1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ores de velocidad para uso gener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estacionari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 a 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 a 2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-herramienta, máquinas para trabajar la madera,  máquinas para la industria mecánica en general, grúas para  materiales a granel y ventilador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 a 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ntinuo funcionando 24 horas al día: Compresores, bombas, motores eléctricos estacionarios y máquinas de extracción para mi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 a 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amientos axiales en los ejes de las hélices en los buques, máquinas eléctricas estacionarias marinas, rodamientos para los ejes de transmisión en los buqu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 a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24 horas de servicio con gran seguridad de funciona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la fabricación de papel y pasta de papel, máquinas para centrales eléctricas, máquinas para abastecimiento de aguas, bombas para min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5-04T02:20:33Z</dcterms:modified>
  <cp:revision>20</cp:revision>
  <dc:subject/>
  <dc:title>ME56A - Diseño de Elementos de Máquinas</dc:title>
</cp:coreProperties>
</file>