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11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7.wmf" ContentType="image/x-wmf"/>
  <Override PartName="/ppt/media/image8.png" ContentType="image/png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F270-4312-42E8-8450-41A2D79BD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A0D3-4987-464E-97B2-3C71A524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5D2E-C6E7-4441-9395-B0706452B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88B9-4792-4F26-80D7-268849DA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C672-ABC5-4FCA-99D3-17EC7662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302C-074C-463B-9DD4-1257DBE9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8089-4D8D-46DF-95AC-0D3705CD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5337-27C0-458F-8E8D-03E380C9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8868-9328-49A0-978B-62C28EED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C551-8B85-4FC2-9C5E-0CE0F08E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32AA-78D2-49E7-B362-88493BE6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64E5-ED91-4778-8829-7B3702A5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1442-3F11-4414-8782-D7A086AEB42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ciones martensí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as TTT de ac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03640" y="1620720"/>
            <a:ext cx="5940360" cy="5237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33321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formaciones martensíticas (“displacive”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sin cambio de composició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no ocurre difusió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en el caso de acero, fuerte influencia en las propiedades mecán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914400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3106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martensita nuclea en un límite de grano de la austenita y crece rápidamente hasta interceptar otro límite de grano u otra aguja de martensi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492360" y="620640"/>
            <a:ext cx="46515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4480" y="662040"/>
            <a:ext cx="89136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87280" y="927000"/>
            <a:ext cx="8567640" cy="50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70040" y="136440"/>
            <a:ext cx="5803920" cy="65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30040" y="1517760"/>
            <a:ext cx="8683920" cy="38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30040" y="654120"/>
            <a:ext cx="868392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5680" y="985680"/>
            <a:ext cx="89708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sin cambio de composició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 no ocurre difusió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 en el caso de acero, fuerte influencia en las propiedades mecán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3284640"/>
            <a:ext cx="914400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mero veamos la transformación difusional FCC a BCC del Fe sin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978200"/>
            <a:ext cx="9144000" cy="41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né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= velocidad de transformación; volumen transformado /unidad de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 (volumen/s) </a:t>
            </a:r>
            <a:r>
              <a:rPr b="0" lang="es-ES" sz="4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nº de núcleos * velocidad de la interf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16080" y="-36360"/>
            <a:ext cx="8510400" cy="69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ecto del sobreenfriamiento en el número de átomos en un núcleo crí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ordemos q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 910ºC , r*=2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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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x 2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 900ºC, r*=2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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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x 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sí, (r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910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/r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)= 3,5 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V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910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/V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)=(3,5)^3=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00720" y="1484280"/>
            <a:ext cx="251928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luctuaciones de energía de 100 átomos es el número máximo que se espera en la prác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910ºC, sólo podría haber nucleación si 100 átomos tiene la energía suficiente para pasar del Líquido al Sól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900ºC, sólo bastaría que 100/43 átomos tuvieran esa energía: 2 átomo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24591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radio crítico depende del sobreenfri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probabilidad de que un pequeño número de átomos forme un núcleo crítico es mayor a 900ºC que a 910º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633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ajas temperaturas, la difusión de átomos decrece y por ello, la velocidad de nucleació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ndo el comportamiento de la velocidad de nucleación con la velocidad de la interfase, obtenemos la velocidad de transformación (volumen/tiem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874080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3T15:40:45Z</dcterms:created>
  <dc:creator>Rodrigo Pascual</dc:creator>
  <dc:description/>
  <dc:language>en-US</dc:language>
  <cp:lastModifiedBy>Rodrigo Pascual</cp:lastModifiedBy>
  <dcterms:modified xsi:type="dcterms:W3CDTF">2006-08-28T20:32:52Z</dcterms:modified>
  <cp:revision>4</cp:revision>
  <dc:subject/>
  <dc:title>Transformaciones martensíticas</dc:title>
</cp:coreProperties>
</file>