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520-29BC-4CA8-B579-023AE249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3D4-074C-46D2-9F86-CF12FD2C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54B-0FD9-4A3C-870C-15C04580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01A-298A-43B6-86D8-F6994848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BE0-E265-47CE-98D5-8C0DABB9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D4F-9499-42B9-9A21-E85752F7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D79-6ADC-4F18-85B3-A00072F3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71E-6647-472C-911C-991F0276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E5B-ED90-4897-94F9-D0EC21E0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61C9-68C1-42A2-A325-8A0E2608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B7E-F757-49EC-A506-79DA92D6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CD3-B213-4924-8ACF-4E0892CF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D05C-06B0-4AC0-8C77-084E1EEA91B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ciones martensí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s TTT de ac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3640" y="1620720"/>
            <a:ext cx="5940360" cy="5237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3321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ormaciones martensíticas (“displacive”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sin cambio de composi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no ocurre difusió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n el caso de acero, fuerte influencia en las propiedade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310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artensita nuclea en un límite de grano de la austenita y crece rápidamente hasta interceptar otro límite de grano u otra aguja de martens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46515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480" y="662040"/>
            <a:ext cx="89136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7280" y="927000"/>
            <a:ext cx="856764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70040" y="136440"/>
            <a:ext cx="580392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0040" y="1517760"/>
            <a:ext cx="868392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0040" y="654120"/>
            <a:ext cx="86839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5680" y="985680"/>
            <a:ext cx="8970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sin cambio de composició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 no ocurre difusió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 en el caso de acero, fuerte influencia en las propiedades mecán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9144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ero veamos la transformación difusional FCC a BCC del Fe sin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914400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é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= velocidad de transformación; volumen transformado /unidad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 (volumen/s) </a:t>
            </a:r>
            <a:r>
              <a:rPr b="0" lang="es-ES" sz="4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nº de núcleos * velocidad de la interf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6080" y="-36360"/>
            <a:ext cx="85104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ecto del sobreenfriamiento en el número de átomos en un núcleo cr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rdemos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910ºC , r*=2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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2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900ºC, r*=2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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í, (r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1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/r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= 3,5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V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1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/V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=(3,5)^3=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25192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ctuaciones de energía de 100 átomos es el número máximo que se espera en la prác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910ºC, sólo podría haber nucleación si 100 átomos tiene la energía suficiente para pasar del Líquido al Sól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900ºC, sólo bastaría que 100/43 átomos tuvieran esa energía: 2 átom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2459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radio crítico depende del sobreenfr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obabilidad de que un pequeño número de átomos forme un núcleo crítico es mayor a 900ºC que a 910º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633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jas temperaturas, la difusión de átomos decrece y por ello, la velocidad de nucleació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ndo el comportamiento de la velocidad de nucleación con la velocidad de la interfase, obtenemos la velocidad de transformación (volumen/tiem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874080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5:40:45Z</dcterms:created>
  <dc:creator>Rodrigo Pascual</dc:creator>
  <dc:description/>
  <dc:language>en-US</dc:language>
  <cp:lastModifiedBy>Rodrigo Pascual</cp:lastModifiedBy>
  <dcterms:modified xsi:type="dcterms:W3CDTF">2006-08-28T20:32:52Z</dcterms:modified>
  <cp:revision>4</cp:revision>
  <dc:subject/>
  <dc:title>Transformaciones martensíticas</dc:title>
</cp:coreProperties>
</file>