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2C9-AE78-43FC-B458-9738A59F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835-0F43-4D21-B286-B88BA911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D79-4E77-424C-A9C9-575D9678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27A-F962-477D-A183-2BA84CAD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DF2-F656-4056-9DEA-983864A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202-A224-4436-9765-F7A49B1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173-72D9-4FB2-AE6F-BD72AFC0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BEF-9AE6-4484-B442-1344D619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9D1-3741-4538-A446-520C0D1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CD7-31D1-4C70-BF7C-12164B0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692-3D08-4E83-8D83-D044B9E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D35-F59E-425D-A64F-3C29359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DA76-073B-4490-9FC2-AD35C4AA3D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martensí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s TTT de ac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1620720"/>
            <a:ext cx="5940360" cy="523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332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ciones martensíticas (“displaciv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10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rtensita nuclea en un límite de grano de la austenita y crece rápidamente hasta interceptar otro límite de grano u otra aguja de martens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465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480" y="662040"/>
            <a:ext cx="8913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280" y="927000"/>
            <a:ext cx="8567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0040" y="1517760"/>
            <a:ext cx="8683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0040" y="654120"/>
            <a:ext cx="8683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5680" y="985680"/>
            <a:ext cx="897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ro veamos la transformación difusional FCC a BCC del Fe sin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= velocidad de transformación; volumen transformado /unidad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(volumen/s) </a:t>
            </a:r>
            <a:r>
              <a:rPr b="0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º de núcleos * velocidad de la inter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080" y="-36360"/>
            <a:ext cx="85104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obreenfriamiento en el número de átomos en un núcleo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rdemos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10ºC 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2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00ºC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(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 3,5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(3,5)^3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19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ctuaciones de energía de 100 átomos es el número máximo que se espera en la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10ºC, sólo podría haber nucleación si 100 átomos tiene la energía suficiente para pasar del Líquido al Só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00ºC, sólo bastaría que 100/43 átomos tuvieran esa energía: 2 áto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2459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 crítico depende del sobreenfr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de que un pequeño número de átomos forme un núcleo crítico es mayor a 900ºC que a 910º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63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jas temperaturas, la difusión de átomos decrece y por ello, la velocidad de nucleació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ndo el comportamiento de la velocidad de nucleación con la velocidad de la interfase, obtenemos la velocidad de transformación (volumen/ti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7408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40:45Z</dcterms:created>
  <dc:creator>Rodrigo Pascual</dc:creator>
  <dc:description/>
  <dc:language>en-US</dc:language>
  <cp:lastModifiedBy>Rodrigo Pascual</cp:lastModifiedBy>
  <dcterms:modified xsi:type="dcterms:W3CDTF">2006-08-28T20:32:52Z</dcterms:modified>
  <cp:revision>4</cp:revision>
  <dc:subject/>
  <dc:title>Transformaciones martensíticas</dc:title>
</cp:coreProperties>
</file>