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F54-61DB-4407-9F55-A252D1CB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A3C-F1A9-44F3-890F-1583CD7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38E-24FE-4247-8F52-3BE0A2A0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C58-8035-4E09-AEEA-9ABD4D6B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427-75E2-4E90-AB03-900558C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9DE-27D5-445F-B926-4EADFA1D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3DA-4526-4DBB-8BD3-9C3D2C3E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72A-077B-45C3-84DD-6C947B20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499-A208-4435-9994-685F8F75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3D0-FD80-4EBF-AD64-C72CF15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680-6F38-4C0D-A633-936859DB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5C7-8A86-4380-BB46-5B88340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7406-636D-4D8C-ADD7-888F9D24E3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martensí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s TTT de ac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1620720"/>
            <a:ext cx="5940360" cy="523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332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ciones martensíticas (“displaciv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10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rtensita nuclea en un límite de grano de la austenita y crece rápidamente hasta interceptar otro límite de grano u otra aguja de martens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465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480" y="662040"/>
            <a:ext cx="8913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280" y="927000"/>
            <a:ext cx="8567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0040" y="1517760"/>
            <a:ext cx="8683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0040" y="654120"/>
            <a:ext cx="8683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5680" y="985680"/>
            <a:ext cx="897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ro veamos la transformación difusional FCC a BCC del Fe sin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= velocidad de transformación; volumen transformado /unidad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(volumen/s) </a:t>
            </a:r>
            <a:r>
              <a:rPr b="0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º de núcleos * velocidad de la inter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080" y="-36360"/>
            <a:ext cx="85104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obreenfriamiento en el número de átomos en un núcleo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rdemos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10ºC 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2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00ºC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(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 3,5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(3,5)^3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19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ctuaciones de energía de 100 átomos es el número máximo que se espera en la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10ºC, sólo podría haber nucleación si 100 átomos tiene la energía suficiente para pasar del Líquido al Só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00ºC, sólo bastaría que 100/43 átomos tuvieran esa energía: 2 áto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2459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 crítico depende del sobreenfr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de que un pequeño número de átomos forme un núcleo crítico es mayor a 900ºC que a 910º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63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jas temperaturas, la difusión de átomos decrece y por ello, la velocidad de nucleació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ndo el comportamiento de la velocidad de nucleación con la velocidad de la interfase, obtenemos la velocidad de transformación (volumen/ti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7408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40:45Z</dcterms:created>
  <dc:creator>Rodrigo Pascual</dc:creator>
  <dc:description/>
  <dc:language>en-US</dc:language>
  <cp:lastModifiedBy>Rodrigo Pascual</cp:lastModifiedBy>
  <dcterms:modified xsi:type="dcterms:W3CDTF">2006-08-28T20:32:52Z</dcterms:modified>
  <cp:revision>4</cp:revision>
  <dc:subject/>
  <dc:title>Transformaciones martensíticas</dc:title>
</cp:coreProperties>
</file>