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8DC-69A4-4909-B4C3-DA75C935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066-2392-4536-AF7A-8082E41F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5D3-7CFA-48BB-80B3-40747A10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39C3-DAD2-4430-80D3-C0D2EEA10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E4A-B469-4534-80D3-D4F508F8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8F6-42F4-45D5-80AD-554B01EE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D232-FD6F-494B-8C3F-EE009CF2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704-14B7-41CD-82A7-B3328C43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C6D4-BFDF-474F-A30A-63E715CD6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053-0BCE-4336-8E32-2816132F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4D8-42D5-453F-ACD6-E2760AD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674-F258-47F2-860B-AB0EEEE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3671-60B8-48F9-9963-F42053CEC6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martensí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s TTT de ac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03640" y="1620720"/>
            <a:ext cx="5940360" cy="5237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3321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ormaciones martensíticas (“displacive”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31068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martensita nuclea en un límite de grano de la austenita y crece rápidamente hasta interceptar otro límite de grano u otra aguja de martens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92360" y="620640"/>
            <a:ext cx="46515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480" y="662040"/>
            <a:ext cx="89136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7280" y="927000"/>
            <a:ext cx="856764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70040" y="136440"/>
            <a:ext cx="5803920" cy="65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0040" y="1517760"/>
            <a:ext cx="86839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0040" y="654120"/>
            <a:ext cx="86839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5680" y="985680"/>
            <a:ext cx="8970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sin cambio de composició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no ocurre difusió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 en el caso de acero, fuerte influencia en las propiedades mecán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imero veamos la transformación difusional FCC a BCC del Fe sin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78200"/>
            <a:ext cx="914400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n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= velocidad de transformación; volumen transformado /unidad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 (volumen/s) </a:t>
            </a:r>
            <a:r>
              <a:rPr b="0" lang="es-ES" sz="4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nº de núcleos * velocidad de la interf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6080" y="-36360"/>
            <a:ext cx="851040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ecto del sobreenfriamiento en el número de átomos en un núcleo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ordemos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10ºC 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2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900ºC, r*=2</a:t>
            </a:r>
            <a:r>
              <a:rPr b="0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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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 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í, (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r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 3,5 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1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/V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)=(3,5)^3=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0720" y="1484280"/>
            <a:ext cx="251928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ctuaciones de energía de 100 átomos es el número máximo que se espera en la prác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10ºC, sólo podría haber nucleación si 100 átomos tiene la energía suficiente para pasar del Líquido al Sól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900ºC, sólo bastaría que 100/43 átomos tuvieran esa energía: 2 átomo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981000"/>
            <a:ext cx="2459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radio crítico depende del sobreenfr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obabilidad de que un pequeño número de átomos forme un núcleo crítico es mayor a 900ºC que a 910º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63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jas temperaturas, la difusión de átomos decrece y por ello, la velocidad de nucleació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ndo el comportamiento de la velocidad de nucleación con la velocidad de la interfase, obtenemos la velocidad de transformación (volumen/tiem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74080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3T15:40:45Z</dcterms:created>
  <dc:creator>Rodrigo Pascual</dc:creator>
  <dc:description/>
  <dc:language>en-US</dc:language>
  <cp:lastModifiedBy>Rodrigo Pascual</cp:lastModifiedBy>
  <dcterms:modified xsi:type="dcterms:W3CDTF">2006-08-28T20:32:52Z</dcterms:modified>
  <cp:revision>4</cp:revision>
  <dc:subject/>
  <dc:title>Transformaciones martensíticas</dc:title>
</cp:coreProperties>
</file>