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AFE-CD77-4AF9-B242-E41102C9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79A-8D61-43E9-98EA-2A14F945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093-52B0-48AE-81B1-193CB640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C6A-059B-49A5-A667-00F87C9E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336-D635-4D7D-B378-FC70A13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252-38A7-44CB-B180-D801614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385-4032-4723-A89C-1EF711F9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EBE-48BA-4B14-A427-230C0F3E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7E2-ADE2-4DCC-B62D-473356A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300-6C64-40DC-983C-390904A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94A-CAFB-4AC7-A0AA-E21C976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37C-A7D2-4E0C-8CE7-F0D2386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8B23-D2F0-45E2-AA18-343E06ABED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ecimiento por precip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1600" y="690480"/>
            <a:ext cx="874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92080" y="1065240"/>
            <a:ext cx="73580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3240" y="1654200"/>
            <a:ext cx="7875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3200" y="1863720"/>
            <a:ext cx="8337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9320" y="898560"/>
            <a:ext cx="72439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1760" y="826920"/>
            <a:ext cx="83390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5720" y="1841400"/>
            <a:ext cx="56307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2480" y="1301760"/>
            <a:ext cx="6897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480" y="495360"/>
            <a:ext cx="8913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2760" y="-187200"/>
            <a:ext cx="6378480" cy="72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09600" y="-201600"/>
            <a:ext cx="6724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11200" y="-576360"/>
            <a:ext cx="6321600" cy="80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8:29:31Z</dcterms:created>
  <dc:creator>Rodrigo Pascual</dc:creator>
  <dc:description/>
  <dc:language>en-US</dc:language>
  <cp:lastModifiedBy>Rodrigo Pascual</cp:lastModifiedBy>
  <dcterms:modified xsi:type="dcterms:W3CDTF">2006-08-28T20:36:34Z</dcterms:modified>
  <cp:revision>2</cp:revision>
  <dc:subject/>
  <dc:title>Endurecimiento por precipitación</dc:title>
</cp:coreProperties>
</file>