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B62-C1E9-4802-96A6-FDCBB925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51D0-2C84-4732-8C79-B3881293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17E4-4A64-47B7-8736-D15C95F88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A93-A972-4E93-9EA5-7487F1FF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3216-5235-4F23-800E-78D2D4F2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4D5-1ECD-46CE-901B-0E1C304E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10BF-A7E9-4FC0-8E53-262CFE29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404E-62DB-4237-B6B2-86006F34B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FBC4-E3AD-4F8E-8284-5C102DF8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162-C744-4DC2-A17E-BF66D931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F2F2-B110-4662-9570-D97F7567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2C8-3BE6-40C4-9FF4-704E5700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CD06-17E9-438A-A3BC-6D5168B0BD7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durecimiento por precipi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1600" y="690480"/>
            <a:ext cx="8740800" cy="54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92080" y="1065240"/>
            <a:ext cx="735804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33240" y="1654200"/>
            <a:ext cx="787572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03200" y="1863720"/>
            <a:ext cx="833760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49320" y="898560"/>
            <a:ext cx="72439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01760" y="826920"/>
            <a:ext cx="833904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55720" y="1841400"/>
            <a:ext cx="563076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22480" y="1301760"/>
            <a:ext cx="6897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14480" y="495360"/>
            <a:ext cx="891360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82760" y="-187200"/>
            <a:ext cx="6378480" cy="72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09600" y="-201600"/>
            <a:ext cx="6724800" cy="72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11200" y="-576360"/>
            <a:ext cx="6321600" cy="802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18:29:31Z</dcterms:created>
  <dc:creator>Rodrigo Pascual</dc:creator>
  <dc:description/>
  <dc:language>en-US</dc:language>
  <cp:lastModifiedBy>Rodrigo Pascual</cp:lastModifiedBy>
  <dcterms:modified xsi:type="dcterms:W3CDTF">2006-08-28T20:36:34Z</dcterms:modified>
  <cp:revision>2</cp:revision>
  <dc:subject/>
  <dc:title>Endurecimiento por precipitación</dc:title>
</cp:coreProperties>
</file>