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2F12-9F73-4289-B2B2-85DC887E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DE3-ADFA-4C82-B429-122BBA97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416-156B-4D4B-98F4-95F0A365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DBD-09E0-49B9-ABC0-A6F4D101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DC4A-8BAA-461C-BF43-4A89DA8E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6A66-8174-4931-9AE7-7643AF35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58F-FC8E-4C3B-B106-3E88B5D8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BC69-F7BA-4B65-8094-8B199287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CB4-A647-4ECA-8016-C5AD134A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380-1EFC-4C68-9448-C8EC7AD1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017-340A-442C-A331-D91E7BE7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BAD-0933-4E3E-9C20-FA99A609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D757-85E0-4119-9145-73B2F72C994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urecimiento por precip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1600" y="690480"/>
            <a:ext cx="87408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92080" y="1065240"/>
            <a:ext cx="73580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33240" y="1654200"/>
            <a:ext cx="787572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03200" y="1863720"/>
            <a:ext cx="83376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49320" y="898560"/>
            <a:ext cx="72439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1760" y="826920"/>
            <a:ext cx="833904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5720" y="1841400"/>
            <a:ext cx="563076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22480" y="1301760"/>
            <a:ext cx="6897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480" y="495360"/>
            <a:ext cx="891360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82760" y="-187200"/>
            <a:ext cx="6378480" cy="72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09600" y="-201600"/>
            <a:ext cx="67248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11200" y="-576360"/>
            <a:ext cx="6321600" cy="80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8:29:31Z</dcterms:created>
  <dc:creator>Rodrigo Pascual</dc:creator>
  <dc:description/>
  <dc:language>en-US</dc:language>
  <cp:lastModifiedBy>Rodrigo Pascual</cp:lastModifiedBy>
  <dcterms:modified xsi:type="dcterms:W3CDTF">2006-08-28T20:36:34Z</dcterms:modified>
  <cp:revision>2</cp:revision>
  <dc:subject/>
  <dc:title>Endurecimiento por precipitación</dc:title>
</cp:coreProperties>
</file>