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455-5872-4BCA-88D4-55E77129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C92-845F-4D0F-A841-EFCD1BCB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3B4-D693-47E3-A639-57B1E80E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F85-5225-4AA3-9582-DAD97916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CDB3-68B7-4FF8-A340-1E30D876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2DA-A531-4F48-BE9D-A30919D1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867-CD0F-4FFB-A13B-3BA69AD6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823-8073-446F-9906-36AAB2C0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E1F-507B-4BA0-BFF4-A7E0FD56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956-1696-46EE-91DA-710755C6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508-9E3F-4004-B914-6453EBF1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2B7-1B5F-4F3B-8AEC-FED704A6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A8E8-3569-44C9-ABA3-D9F4ECB098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urecimiento por precip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1600" y="690480"/>
            <a:ext cx="87408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92080" y="1065240"/>
            <a:ext cx="73580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33240" y="1654200"/>
            <a:ext cx="787572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3200" y="1863720"/>
            <a:ext cx="83376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49320" y="898560"/>
            <a:ext cx="72439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1760" y="826920"/>
            <a:ext cx="833904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5720" y="1841400"/>
            <a:ext cx="563076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22480" y="1301760"/>
            <a:ext cx="6897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480" y="495360"/>
            <a:ext cx="891360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82760" y="-187200"/>
            <a:ext cx="6378480" cy="72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09600" y="-201600"/>
            <a:ext cx="67248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11200" y="-576360"/>
            <a:ext cx="6321600" cy="80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8:29:31Z</dcterms:created>
  <dc:creator>Rodrigo Pascual</dc:creator>
  <dc:description/>
  <dc:language>en-US</dc:language>
  <cp:lastModifiedBy>Rodrigo Pascual</cp:lastModifiedBy>
  <dcterms:modified xsi:type="dcterms:W3CDTF">2006-08-28T20:36:34Z</dcterms:modified>
  <cp:revision>2</cp:revision>
  <dc:subject/>
  <dc:title>Endurecimiento por precipitación</dc:title>
</cp:coreProperties>
</file>