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9.png" ContentType="image/png"/>
  <Override PartName="/ppt/media/image20.jpeg" ContentType="image/jpeg"/>
  <Override PartName="/ppt/media/image7.png" ContentType="image/png"/>
  <Override PartName="/ppt/media/image32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30.jpeg" ContentType="image/jpeg"/>
  <Override PartName="/ppt/media/image31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5.jpeg" ContentType="image/jpeg"/>
  <Override PartName="/ppt/media/image2.jpeg" ContentType="image/jpeg"/>
  <Override PartName="/ppt/media/image1.jpeg" ContentType="image/jpeg"/>
  <Override PartName="/ppt/media/image10.png" ContentType="image/png"/>
  <Override PartName="/ppt/media/image35.png" ContentType="image/png"/>
  <Override PartName="/ppt/media/image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8.png" ContentType="image/png"/>
  <Override PartName="/ppt/media/image2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9A99-5D75-4AEC-9C1A-3307FBDE7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D963-7A9F-4A6B-8E6C-3D1C3FCB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2049-A30A-475E-BDE3-5BC59A663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BC1-5DC7-4BF6-9AC1-7B737E2C4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5B0-52AE-4968-9EA9-4AD5F929D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CF76-009C-403D-BADD-F0E2844F2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32E-F045-4909-97B3-49D32375C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861C-92C8-4FD2-86D9-9F55EEF89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69E-5FCC-43ED-AEF7-02A26E0C9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4BFD-CC9F-4742-B6A1-5252A0CEF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1AB-D286-4B7B-BAEF-D59BABFA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F5C5-FC25-4942-B143-29B23F8F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035A-E7D5-4A4B-B5F9-00488431F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0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Operaciones de Refinamiento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580000" y="4005360"/>
            <a:ext cx="1582920" cy="2286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403280" y="3933720"/>
            <a:ext cx="2319480" cy="2438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284720" y="476280"/>
            <a:ext cx="4394160" cy="59338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47628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squema de formación de agregación, aglomeración y rompimiento de crist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24000" y="3645000"/>
            <a:ext cx="3708360" cy="29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lgunos tipos de dependencia de la solubilidad con la temperatura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736040" cy="3795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961080" cy="3209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292720" y="2276640"/>
            <a:ext cx="3340080" cy="32083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08000" y="404640"/>
            <a:ext cx="61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quemas básicos de crista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58920" y="566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5661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457200" y="609480"/>
            <a:ext cx="8496000" cy="6037560"/>
            <a:chOff x="457200" y="609480"/>
            <a:chExt cx="8496000" cy="6037560"/>
          </a:xfrm>
        </p:grpSpPr>
        <p:grpSp>
          <p:nvGrpSpPr>
            <p:cNvPr id="82" name=""/>
            <p:cNvGrpSpPr/>
            <p:nvPr/>
          </p:nvGrpSpPr>
          <p:grpSpPr>
            <a:xfrm>
              <a:off x="463320" y="613800"/>
              <a:ext cx="8482680" cy="6028200"/>
              <a:chOff x="463320" y="613800"/>
              <a:chExt cx="8482680" cy="60282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463320" y="613800"/>
                <a:ext cx="1719000" cy="764280"/>
                <a:chOff x="463320" y="613800"/>
                <a:chExt cx="1719000" cy="7642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521640" y="613800"/>
                  <a:ext cx="160236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de dependenc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463320" y="613800"/>
                  <a:ext cx="1719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182680" y="613800"/>
                <a:ext cx="3087000" cy="764280"/>
                <a:chOff x="2182680" y="613800"/>
                <a:chExt cx="3087000" cy="7642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241360" y="613800"/>
                  <a:ext cx="29696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odo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182680" y="613800"/>
                  <a:ext cx="30870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5270400" y="613800"/>
                <a:ext cx="3675600" cy="764280"/>
                <a:chOff x="5270400" y="613800"/>
                <a:chExt cx="3675600" cy="7642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5329080" y="613800"/>
                  <a:ext cx="3558240" cy="764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5270400" y="613800"/>
                  <a:ext cx="3675600" cy="764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63320" y="1378080"/>
                <a:ext cx="1719000" cy="2886480"/>
                <a:chOff x="463320" y="1378080"/>
                <a:chExt cx="1719000" cy="28864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21640" y="1378080"/>
                  <a:ext cx="1602360" cy="288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3320" y="1378080"/>
                  <a:ext cx="1719000" cy="2886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182680" y="1378080"/>
                <a:ext cx="3087000" cy="1782720"/>
                <a:chOff x="2182680" y="1378080"/>
                <a:chExt cx="3087000" cy="1782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241360" y="1378080"/>
                  <a:ext cx="29696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182680" y="1378080"/>
                  <a:ext cx="30870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5270400" y="1378080"/>
                <a:ext cx="3675600" cy="1782720"/>
                <a:chOff x="5270400" y="1378080"/>
                <a:chExt cx="3675600" cy="1782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5329080" y="1378080"/>
                  <a:ext cx="3558240" cy="178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s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o de cal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íquido refrigerante inmiscible en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rendimien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consumo de energí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270400" y="1378080"/>
                  <a:ext cx="3675600" cy="178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182680" y="3160800"/>
                <a:ext cx="3087000" cy="1103760"/>
                <a:chOff x="2182680" y="3160800"/>
                <a:chExt cx="3087000" cy="11037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241360" y="3160800"/>
                  <a:ext cx="29696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nfriamiento evaporativ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182680" y="3160800"/>
                  <a:ext cx="30870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5270400" y="3160800"/>
                <a:ext cx="3675600" cy="1103760"/>
                <a:chOff x="5270400" y="3160800"/>
                <a:chExt cx="3675600" cy="11037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5329080" y="3160800"/>
                  <a:ext cx="3558240" cy="110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friamiento adiabático por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5270400" y="3160800"/>
                  <a:ext cx="3675600" cy="1103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463320" y="4264920"/>
                <a:ext cx="1719000" cy="933840"/>
                <a:chOff x="463320" y="4264920"/>
                <a:chExt cx="1719000" cy="93384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21640" y="4264920"/>
                  <a:ext cx="160236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insensible a la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463320" y="4264920"/>
                  <a:ext cx="1719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182680" y="4264920"/>
                <a:ext cx="3087000" cy="933840"/>
                <a:chOff x="2182680" y="4264920"/>
                <a:chExt cx="3087000" cy="93384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241360" y="4264920"/>
                  <a:ext cx="29696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obresaturación por evaporación térmic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82680" y="4264920"/>
                  <a:ext cx="30870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5270400" y="4264920"/>
                <a:ext cx="3675600" cy="933840"/>
                <a:chOff x="5270400" y="4264920"/>
                <a:chExt cx="3675600" cy="9338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5329080" y="4264920"/>
                  <a:ext cx="3558240" cy="93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evapora el solv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tercambiador con vap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5270400" y="4264920"/>
                  <a:ext cx="3675600" cy="93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463320" y="5198760"/>
                <a:ext cx="1719000" cy="1443240"/>
                <a:chOff x="463320" y="5198760"/>
                <a:chExt cx="1719000" cy="144324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521640" y="5198760"/>
                  <a:ext cx="160236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con solubilidad que depende en forma intermedia con la  temperatur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63320" y="5198760"/>
                  <a:ext cx="1719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182680" y="5198760"/>
                <a:ext cx="3087000" cy="1443240"/>
                <a:chOff x="2182680" y="5198760"/>
                <a:chExt cx="3087000" cy="1443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241360" y="5198760"/>
                  <a:ext cx="29696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térmic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182680" y="5198760"/>
                  <a:ext cx="30870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5270400" y="5198760"/>
                <a:ext cx="3675600" cy="1443240"/>
                <a:chOff x="5270400" y="5198760"/>
                <a:chExt cx="3675600" cy="144324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5329080" y="5198760"/>
                  <a:ext cx="3558240" cy="144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orma de Operació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alimentación se encuentra a mayor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	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      temperatura que en el evaporad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</a:t>
                  </a:r>
                  <a:r>
                    <a:rPr b="0" lang="es-ES_tradnl" sz="7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       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vaporación en presencia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270400" y="5198760"/>
                  <a:ext cx="3675600" cy="144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457200" y="609480"/>
              <a:ext cx="8496000" cy="60375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533520" y="0"/>
            <a:ext cx="731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odos de operación de Cristalizadores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228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sensible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438280" y="3879720"/>
            <a:ext cx="4419720" cy="2977920"/>
            <a:chOff x="2438280" y="3879720"/>
            <a:chExt cx="4419720" cy="2977920"/>
          </a:xfrm>
        </p:grpSpPr>
        <p:sp>
          <p:nvSpPr>
            <p:cNvPr id="129" name=""/>
            <p:cNvSpPr/>
            <p:nvPr/>
          </p:nvSpPr>
          <p:spPr>
            <a:xfrm>
              <a:off x="2438280" y="38797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990033"/>
                  </a:solidFill>
                  <a:latin typeface="Comic Sans MS"/>
                  <a:ea typeface="Times New Roman"/>
                </a:rPr>
                <a:t>Productos insensible a la temperatu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2743200" y="4412880"/>
            <a:ext cx="2530440" cy="24447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4412880"/>
                      <a:ext cx="2530440" cy="244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32" name=""/>
          <p:cNvGraphicFramePr/>
          <p:nvPr/>
        </p:nvGraphicFramePr>
        <p:xfrm>
          <a:off x="2484360" y="836640"/>
          <a:ext cx="3724200" cy="2952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836640"/>
                    <a:ext cx="372420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371600" y="30492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con solubilidad que depende en forma intermedia con la 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124000" y="1498680"/>
          <a:ext cx="4000680" cy="315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498680"/>
                    <a:ext cx="4000680" cy="31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85345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os equipos pueden operar en form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·        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Batch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sultando la mayoría de los productos biotecnoló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 tiempos de operación entre 2 a 8 h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835280" y="2209680"/>
          <a:ext cx="525780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9680"/>
                    <a:ext cx="525780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83059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ipos de Equ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tinu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irculación del líquido de manera de recuperar todo el soluto de interés</a:t>
            </a:r>
            <a:r>
              <a:rPr b="1" lang="es-ES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1127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127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852640" y="2085840"/>
            <a:ext cx="3438720" cy="3791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052640"/>
            <a:ext cx="4367160" cy="5616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03280" y="404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Evapor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194440" y="1628640"/>
            <a:ext cx="3949560" cy="48657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04640"/>
            <a:ext cx="36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ristalizador Contacto 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362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Se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ir el contenido de solvente (agua) por evaporación o subli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iliza el produc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eserva la activ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duce el volumen, lo cual lo hace más fácil de traspor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Recupera el solvente, en el caso de no ser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Métodos de se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método de secado a utilizar dependerá 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ipo de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piedades fisicoquímicas del produ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1720" indent="-310680" algn="just">
              <a:lnSpc>
                <a:spcPct val="9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olerancia a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880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151760" y="4495680"/>
            <a:ext cx="1423800" cy="2057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8915400" cy="629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89154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3352680" y="4038480"/>
            <a:ext cx="5791320" cy="2590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1363680" y="1027080"/>
            <a:ext cx="6418080" cy="4805280"/>
            <a:chOff x="1363680" y="1027080"/>
            <a:chExt cx="6418080" cy="4805280"/>
          </a:xfrm>
        </p:grpSpPr>
        <p:grpSp>
          <p:nvGrpSpPr>
            <p:cNvPr id="149" name=""/>
            <p:cNvGrpSpPr/>
            <p:nvPr/>
          </p:nvGrpSpPr>
          <p:grpSpPr>
            <a:xfrm>
              <a:off x="1368360" y="1031760"/>
              <a:ext cx="6408720" cy="4795920"/>
              <a:chOff x="1368360" y="1031760"/>
              <a:chExt cx="6408720" cy="4795920"/>
            </a:xfrm>
          </p:grpSpPr>
          <p:grpSp>
            <p:nvGrpSpPr>
              <p:cNvPr id="150" name=""/>
              <p:cNvGrpSpPr/>
              <p:nvPr/>
            </p:nvGrpSpPr>
            <p:grpSpPr>
              <a:xfrm>
                <a:off x="1368360" y="1031760"/>
                <a:ext cx="1898640" cy="639720"/>
                <a:chOff x="1368360" y="1031760"/>
                <a:chExt cx="1898640" cy="639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412640" y="103176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368360" y="103176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7000" y="1031760"/>
                <a:ext cx="2733840" cy="639720"/>
                <a:chOff x="3267000" y="1031760"/>
                <a:chExt cx="2733840" cy="639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11640" y="1031760"/>
                  <a:ext cx="264456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7000" y="1031760"/>
                  <a:ext cx="27338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6000840" y="1031760"/>
                <a:ext cx="1776240" cy="639720"/>
                <a:chOff x="6000840" y="1031760"/>
                <a:chExt cx="1776240" cy="639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6045120" y="1031760"/>
                  <a:ext cx="16876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000840" y="1031760"/>
                  <a:ext cx="177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1368360" y="1671480"/>
                <a:ext cx="6408720" cy="776160"/>
                <a:chOff x="1368360" y="1671480"/>
                <a:chExt cx="6408720" cy="7761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412640" y="1671480"/>
                  <a:ext cx="6320160" cy="77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990033"/>
                      </a:solidFill>
                      <a:latin typeface="Times New Roman"/>
                      <a:ea typeface="Times New Roman"/>
                    </a:rPr>
                    <a:t>Contacto directo con aire caliente en forma adiabátic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368360" y="1671480"/>
                  <a:ext cx="6408720" cy="77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368360" y="2447640"/>
                <a:ext cx="1897200" cy="1187640"/>
                <a:chOff x="1368360" y="2447640"/>
                <a:chExt cx="1897200" cy="11876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412640" y="244764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cho fluidizad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368360" y="244764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65560" y="2447640"/>
                <a:ext cx="2735280" cy="1187640"/>
                <a:chOff x="3265560" y="2447640"/>
                <a:chExt cx="2735280" cy="11876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09840" y="2447640"/>
                  <a:ext cx="264636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sólido (concentraciones del orden de 30% o más de sólido) se ponen en contacto con aire calien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ratamiento de grandes volúmenes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65560" y="2447640"/>
                  <a:ext cx="273528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000840" y="2447640"/>
                <a:ext cx="1776240" cy="1187640"/>
                <a:chOff x="6000840" y="2447640"/>
                <a:chExt cx="1776240" cy="118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045120" y="2447640"/>
                  <a:ext cx="16876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000840" y="2447640"/>
                  <a:ext cx="177624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1368360" y="3635280"/>
                <a:ext cx="1897200" cy="1187280"/>
                <a:chOff x="1368360" y="3635280"/>
                <a:chExt cx="1897200" cy="1187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1412640" y="3635280"/>
                  <a:ext cx="18082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cado por aspersión o spray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1368360" y="3635280"/>
                  <a:ext cx="189720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5560" y="3635280"/>
                <a:ext cx="2735280" cy="1187280"/>
                <a:chOff x="3265560" y="3635280"/>
                <a:chExt cx="2735280" cy="1187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09840" y="3635280"/>
                  <a:ext cx="264636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 termo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randes Volúme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a solución debe tener más de un 25% de sólidos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5560" y="3635280"/>
                  <a:ext cx="273528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6000840" y="3635280"/>
                <a:ext cx="1776240" cy="1187280"/>
                <a:chOff x="6000840" y="3635280"/>
                <a:chExt cx="1776240" cy="1187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6045120" y="3635280"/>
                  <a:ext cx="168768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evad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unicelula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000840" y="3635280"/>
                  <a:ext cx="1776240" cy="118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1368360" y="4822560"/>
                <a:ext cx="1897200" cy="1005120"/>
                <a:chOff x="1368360" y="4822560"/>
                <a:chExt cx="1897200" cy="10051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412640" y="4822560"/>
                  <a:ext cx="18082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ntáneo o Flash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368360" y="4822560"/>
                  <a:ext cx="189720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65560" y="4822560"/>
                <a:ext cx="2735280" cy="1005120"/>
                <a:chOff x="3265560" y="4822560"/>
                <a:chExt cx="2735280" cy="1005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309840" y="4822560"/>
                  <a:ext cx="26463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ólidos con baja humedad y difíciles de manejar (por tamaño o pegajosos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65560" y="4822560"/>
                  <a:ext cx="273528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000840" y="4822560"/>
                <a:ext cx="1776240" cy="1005120"/>
                <a:chOff x="6000840" y="4822560"/>
                <a:chExt cx="1776240" cy="10051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045120" y="4822560"/>
                  <a:ext cx="16876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que no toleran altas temperatur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000840" y="4822560"/>
                  <a:ext cx="1776240" cy="1005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1363680" y="1027080"/>
              <a:ext cx="6418080" cy="4805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2362320" y="30492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étodos de secado</a:t>
            </a:r>
            <a:r>
              <a:rPr b="0" lang="es-E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105600" cy="49831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54560" y="836640"/>
            <a:ext cx="38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spray o por asp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5925960" cy="48020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4400" y="620640"/>
            <a:ext cx="35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cador flash o instantá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990720"/>
          <a:ext cx="5791320" cy="38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990720"/>
                    <a:ext cx="5791320" cy="38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235160" y="-11160"/>
            <a:ext cx="6673680" cy="6464160"/>
            <a:chOff x="1235160" y="-11160"/>
            <a:chExt cx="6673680" cy="6464160"/>
          </a:xfrm>
        </p:grpSpPr>
        <p:grpSp>
          <p:nvGrpSpPr>
            <p:cNvPr id="201" name=""/>
            <p:cNvGrpSpPr/>
            <p:nvPr/>
          </p:nvGrpSpPr>
          <p:grpSpPr>
            <a:xfrm>
              <a:off x="1239840" y="-6120"/>
              <a:ext cx="6664320" cy="6454800"/>
              <a:chOff x="1239840" y="-6120"/>
              <a:chExt cx="6664320" cy="645480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239840" y="-6120"/>
                <a:ext cx="1898640" cy="639720"/>
                <a:chOff x="1239840" y="-6120"/>
                <a:chExt cx="1898640" cy="63972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284120" y="-6120"/>
                  <a:ext cx="181008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mbr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239840" y="-6120"/>
                  <a:ext cx="18986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3138480" y="-6120"/>
                <a:ext cx="2965320" cy="639720"/>
                <a:chOff x="3138480" y="-6120"/>
                <a:chExt cx="2965320" cy="63972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3183120" y="-6120"/>
                  <a:ext cx="2876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aracterís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138480" y="-6120"/>
                  <a:ext cx="296532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6103800" y="-6120"/>
                <a:ext cx="1800360" cy="639720"/>
                <a:chOff x="6103800" y="-6120"/>
                <a:chExt cx="1800360" cy="6397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148440" y="-6120"/>
                  <a:ext cx="17114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103800" y="-6120"/>
                  <a:ext cx="18003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239840" y="633600"/>
                <a:ext cx="6434280" cy="1704960"/>
                <a:chOff x="1239840" y="633600"/>
                <a:chExt cx="6434280" cy="17049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1284120" y="633600"/>
                  <a:ext cx="6345360" cy="1509480"/>
                  <a:chOff x="1284120" y="633600"/>
                  <a:chExt cx="6345360" cy="15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1284120" y="633600"/>
                    <a:ext cx="6345360" cy="412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2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1284120" y="1227600"/>
                    <a:ext cx="6345360" cy="915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_tradnl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No adiabático por conducción: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900" spc="-1" strike="noStrike">
                        <a:solidFill>
                          <a:srgbClr val="990033"/>
                        </a:solidFill>
                        <a:latin typeface="Times New Roman"/>
                        <a:ea typeface="Times New Roman"/>
                      </a:rPr>
                      <a:t>Método indirecto por conducción a través de paredes metálicas</a:t>
                    </a: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5" name=""/>
                <p:cNvSpPr/>
                <p:nvPr/>
              </p:nvSpPr>
              <p:spPr>
                <a:xfrm>
                  <a:off x="1239840" y="633600"/>
                  <a:ext cx="6434280" cy="1704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239840" y="2338560"/>
                <a:ext cx="1897200" cy="1917720"/>
                <a:chOff x="1239840" y="2338560"/>
                <a:chExt cx="1897200" cy="19177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284120" y="2338560"/>
                  <a:ext cx="180828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Liofilizado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239840" y="2338560"/>
                  <a:ext cx="189720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137040" y="2338560"/>
                <a:ext cx="2968560" cy="1917720"/>
                <a:chOff x="3137040" y="2338560"/>
                <a:chExt cx="2968560" cy="19177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181320" y="2338560"/>
                  <a:ext cx="287964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Poductos muy lábiles, frágiles o muy soluble. Cuenta con varias etapas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tapa de Filtrado, concentración 5-25% p/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Congelado de la 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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eshidratación por calentamiento </a:t>
                  </a:r>
                  <a:r>
                    <a:rPr b="1" lang="es-ES_tradnl" sz="1200" spc="-1" strike="noStrike" u="sng">
                      <a:solidFill>
                        <a:srgbClr val="000000"/>
                      </a:solidFill>
                      <a:uFillTx/>
                      <a:latin typeface="Times New Roman"/>
                      <a:ea typeface="Times New Roman"/>
                    </a:rPr>
                    <a:t>al vacío,</a:t>
                  </a: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el agua siempre se encuentra en forma sólida y su pérdida es sólo por sublimació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137040" y="2338560"/>
                  <a:ext cx="296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105600" y="2338560"/>
                <a:ext cx="1798560" cy="1917720"/>
                <a:chOff x="6105600" y="2338560"/>
                <a:chExt cx="1798560" cy="19177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49880" y="2338560"/>
                  <a:ext cx="1710000" cy="191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nzim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rmon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teínas terapéutic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05600" y="2338560"/>
                  <a:ext cx="1798560" cy="191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39840" y="4256280"/>
                <a:ext cx="1897200" cy="1187640"/>
                <a:chOff x="1239840" y="4256280"/>
                <a:chExt cx="1897200" cy="11876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84120" y="4256280"/>
                  <a:ext cx="1808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al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239840" y="4256280"/>
                  <a:ext cx="189720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3137040" y="4256280"/>
                <a:ext cx="2968560" cy="1187640"/>
                <a:chOff x="3137040" y="4256280"/>
                <a:chExt cx="2968560" cy="1187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3181320" y="4256280"/>
                  <a:ext cx="287964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jo Nivel de produc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lto valor del product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ductos láb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Aplicación de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3137040" y="4256280"/>
                  <a:ext cx="296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105600" y="4256280"/>
                <a:ext cx="1798560" cy="1187640"/>
                <a:chOff x="6105600" y="4256280"/>
                <a:chExt cx="1798560" cy="11876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149880" y="4256280"/>
                  <a:ext cx="171000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105600" y="4256280"/>
                  <a:ext cx="1798560" cy="1187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1239840" y="5443920"/>
                <a:ext cx="1897200" cy="1004760"/>
                <a:chOff x="1239840" y="5443920"/>
                <a:chExt cx="1897200" cy="10047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1284120" y="5443920"/>
                  <a:ext cx="180828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istemas Rotatori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1239840" y="5443920"/>
                  <a:ext cx="189720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37040" y="5443920"/>
                <a:ext cx="2968560" cy="1004760"/>
                <a:chOff x="3137040" y="5443920"/>
                <a:chExt cx="2968560" cy="10047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81320" y="5443920"/>
                  <a:ext cx="287964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stufa giratoria a la cual se le aplica vací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37040" y="5443920"/>
                  <a:ext cx="296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105600" y="5443920"/>
                <a:ext cx="1798560" cy="1004760"/>
                <a:chOff x="6105600" y="5443920"/>
                <a:chExt cx="1798560" cy="10047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49880" y="5443920"/>
                  <a:ext cx="1710000" cy="1004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105600" y="5443920"/>
                  <a:ext cx="1798560" cy="1004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3" name=""/>
            <p:cNvSpPr/>
            <p:nvPr/>
          </p:nvSpPr>
          <p:spPr>
            <a:xfrm>
              <a:off x="1235160" y="-11160"/>
              <a:ext cx="6673680" cy="64641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6232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228600" y="609480"/>
          <a:ext cx="286056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286056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6496200" y="4726080"/>
            <a:ext cx="2468520" cy="194292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2347920" y="1125360"/>
            <a:ext cx="4448160" cy="39625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7470720" cy="33181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2246400" y="1052640"/>
            <a:ext cx="383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Times New Roman"/>
              </a:rPr>
              <a:t>Secadores rotatorios a vací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187280" y="3284640"/>
          <a:ext cx="3124440" cy="23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3284640"/>
                    <a:ext cx="3124440" cy="23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250920" y="333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iofiliz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un liofilizador convencional, el vacío se logra mediante la combinación de bombas extractoras de aire y "trampas frías" que operan a -40 o -50 °C, para congelar el agua extraída del producto y crear, dentro de la cámara, una presión menor a la atmosfér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0920" y="2924280"/>
            <a:ext cx="8381520" cy="2730600"/>
            <a:chOff x="250920" y="2924280"/>
            <a:chExt cx="8381520" cy="2730600"/>
          </a:xfrm>
        </p:grpSpPr>
        <p:graphicFrame>
          <p:nvGraphicFramePr>
            <p:cNvPr id="260" name=""/>
            <p:cNvGraphicFramePr/>
            <p:nvPr/>
          </p:nvGraphicFramePr>
          <p:xfrm>
            <a:off x="4518000" y="3000600"/>
            <a:ext cx="2437920" cy="20318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6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18000" y="3000600"/>
                      <a:ext cx="2437920" cy="203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62" name=""/>
            <p:cNvGraphicFramePr/>
            <p:nvPr/>
          </p:nvGraphicFramePr>
          <p:xfrm>
            <a:off x="1012680" y="3000600"/>
            <a:ext cx="3123720" cy="23018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012680" y="3000600"/>
                      <a:ext cx="3123720" cy="2301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64" name=""/>
            <p:cNvSpPr/>
            <p:nvPr/>
          </p:nvSpPr>
          <p:spPr>
            <a:xfrm>
              <a:off x="860400" y="292428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istema de refrige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920" y="4676760"/>
              <a:ext cx="19047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cí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27680" y="3686400"/>
              <a:ext cx="190476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olución Congel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575400" y="4829400"/>
              <a:ext cx="19044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Placas calefacto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 flipV="1">
              <a:off x="6118200" y="4676400"/>
              <a:ext cx="532800" cy="7621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270480" y="3990960"/>
              <a:ext cx="685440" cy="30492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460600" y="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Equi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6240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381400" cy="221472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3132000" y="1197000"/>
            <a:ext cx="2428920" cy="21272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5724360" y="1700280"/>
            <a:ext cx="3419640" cy="13986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468360" y="47628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5280" y="3933720"/>
            <a:ext cx="33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cala 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2987640" y="4005360"/>
            <a:ext cx="4032360" cy="26542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Técnicas de Refinamiento Final o  Acab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99"/>
                </a:solidFill>
                <a:uFillTx/>
                <a:latin typeface="Comic Sans MS"/>
                <a:ea typeface="Times New Roman"/>
              </a:rPr>
              <a:t>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Incrementar la pureza d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iminar principalmente sales y agua, muy pocas proteínas (no purifica significativamen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Facilitar su mane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 más fácil transportar un sólido que soluciones líqu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 algn="just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Font typeface="Symbol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18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oteínas en estado sólido son más est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jora la apa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Form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uando se tiene una proteína, como producto, requi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1) Form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(2) Estabi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ada una de estas etapas requiere solo de trabajo experi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755280" y="3500280"/>
            <a:ext cx="727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stabilización: se orienta a algunas zonas de la proteína que se deben proteger. Para ello se adicionan excipientes específic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333360"/>
            <a:ext cx="72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Formulación en si indica en que porcentaje se encontrará la proteína de inter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292720" y="1052640"/>
            <a:ext cx="1116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971640" y="3573360"/>
            <a:ext cx="304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9640" y="69228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r ejemplo, en el caso de proteína en solución se pueden adicion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708360" y="2060640"/>
            <a:ext cx="1252440" cy="23050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6372360" y="1773360"/>
            <a:ext cx="309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zúc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olím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urfact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67280" y="1916280"/>
            <a:ext cx="2410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S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Iones metá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gentes quel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33120" y="3860640"/>
            <a:ext cx="23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mino ácid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5076720" y="2133720"/>
            <a:ext cx="790560" cy="71892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 flipV="1">
            <a:off x="5003280" y="3212640"/>
            <a:ext cx="122580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556000" y="3499920"/>
            <a:ext cx="936360" cy="50508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04920" y="833400"/>
            <a:ext cx="8534160" cy="51912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258920" y="189000"/>
            <a:ext cx="66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Estabilizantes formulación en estado líqu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385920" y="1166760"/>
            <a:ext cx="83721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684360" y="189000"/>
            <a:ext cx="770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n el caso de proteínas en estado sólido se debe control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3780000" y="2133720"/>
            <a:ext cx="1644480" cy="237492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611280" y="1773360"/>
            <a:ext cx="187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cip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442920" y="1700280"/>
            <a:ext cx="2410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umedad resi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edios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constit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11280" y="2492280"/>
            <a:ext cx="1008360" cy="64764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5795640" y="2421000"/>
            <a:ext cx="647640" cy="792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28760" y="1552680"/>
            <a:ext cx="8286480" cy="3752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258920" y="189000"/>
            <a:ext cx="662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Comic Sans MS"/>
              </a:rPr>
              <a:t>Factores que afectan las estabilidad de proteína en estado só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442800" y="1662120"/>
            <a:ext cx="82584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732720" y="765000"/>
            <a:ext cx="1582560" cy="228600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42920" y="620640"/>
            <a:ext cx="2319480" cy="243864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3"/>
          <a:stretch/>
        </p:blipFill>
        <p:spPr>
          <a:xfrm>
            <a:off x="5435640" y="4076640"/>
            <a:ext cx="1001520" cy="184320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1158840" cy="2058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Téc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s principales técnicas aplicadas para estas etapas de Acabado s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Symbol"/>
                <a:ea typeface="Symbol"/>
              </a:rPr>
              <a:t></a:t>
            </a:r>
            <a:r>
              <a:rPr b="1" lang="es-ES_tradnl" sz="24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        </a:t>
            </a: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Cristal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siste en la  separación de un soluto desde una solución 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Comic Sans MS"/>
                <a:ea typeface="Times New Roman"/>
              </a:rPr>
              <a:t>sobresaturada,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mediante la formación de cristales en el seno de la solución. La idea es que se formen los cristales y luego crezc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990033"/>
                </a:solidFill>
                <a:uFillTx/>
                <a:latin typeface="Times New Roman"/>
                <a:ea typeface="Times New Roman"/>
              </a:rPr>
              <a:t>Uso Princip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ción de: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Antibiót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Ácidos orgán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Productos terapéuticos, proteí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248520" y="243828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Venta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n una sola etapa se logran purezas superiores al 99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controlar el tamaño de los cristales con tamaño uniforme, por medio de control de las condiciones de ope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La cristalización mejora la apariencia del producto come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 puede trabajar a temperatura moderada</a:t>
            </a:r>
            <a:r>
              <a:rPr b="1" lang="es-ES" sz="24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1968480" cy="2070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73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l proceso global de cristalización involucra a lo menos 3 etap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ristalización : Esta etapa es controlada por la solubilidad que presenta tanto las proteínas como impurezas a diferentes temperatur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xiste una relación del tip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= A +B*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 : Solu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T : Tempera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paración sólido-liquido: adicionalmente se realiza un lavado de los cristales para eliminar impurezas solub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cado: etapa donde se elimina el remanente de agua.</a:t>
            </a:r>
            <a:r>
              <a:rPr b="1" lang="es-ES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0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04920" y="1828800"/>
            <a:ext cx="7848360" cy="3733560"/>
            <a:chOff x="304920" y="1828800"/>
            <a:chExt cx="7848360" cy="3733560"/>
          </a:xfrm>
        </p:grpSpPr>
        <p:sp>
          <p:nvSpPr>
            <p:cNvPr id="55" name=""/>
            <p:cNvSpPr/>
            <p:nvPr/>
          </p:nvSpPr>
          <p:spPr>
            <a:xfrm>
              <a:off x="139464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istaliz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6608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par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-Líqu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37160" y="3136680"/>
              <a:ext cx="1416960" cy="934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cad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8304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31800" y="3510720"/>
              <a:ext cx="7628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19840" y="220248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19840" y="4071240"/>
              <a:ext cx="0" cy="9342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1828800"/>
              <a:ext cx="108972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iment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029760" y="2015640"/>
              <a:ext cx="871920" cy="934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de lav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84720" y="4254480"/>
              <a:ext cx="1362240" cy="1307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ven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luto disuel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urez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954120" y="3510720"/>
              <a:ext cx="6537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66488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ólido Húme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627240" y="2389320"/>
              <a:ext cx="1526040" cy="56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ducto Se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989280" y="457200"/>
            <a:ext cx="704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Diagrama del Proceso de Crist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500280"/>
            <a:ext cx="576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442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Modos de Ope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pendiendo de la relación entre la solubilidad y la temperatura se pueden presentar diferentes modos de operación para llevar a cabo la cristalización. Esto se debe a que las curvas de solubilidad permite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si el sólido que cristaliza sólo contiene el soluto de inte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Seleccionar el solv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Establecer el rango de temperatura y presión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Conocer las concentraciones del líquido de salida del cristaliz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-316080" algn="just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Determinar la recuperación máx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ES_tradnl" sz="2000" spc="-1" strike="noStrike">
                <a:solidFill>
                  <a:srgbClr val="990033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42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5T02:16:40Z</dcterms:created>
  <dc:creator>Maria Elena Lienqueo C.</dc:creator>
  <dc:description/>
  <dc:language>en-US</dc:language>
  <cp:lastModifiedBy>Ing Quimica</cp:lastModifiedBy>
  <dcterms:modified xsi:type="dcterms:W3CDTF">2006-09-29T22:32:23Z</dcterms:modified>
  <cp:revision>11</cp:revision>
  <dc:subject/>
  <dc:title>Operaciones de Refinamiento Final</dc:title>
</cp:coreProperties>
</file>