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2B0-6C83-43DB-8F83-7303AEBF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8E2-D88A-4571-A39E-1319A921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A1C-3D06-492A-937A-0138DFA2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7C6-A80C-430B-B22F-1D37C27E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251-ED72-43F0-82FB-2F1DA93E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761-754A-4D71-824C-A8DF1518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895-468A-4704-9C9A-CC6EED72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2F5-5320-475A-9FFF-54B16C73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BCE-1C94-4588-9656-D0BA3FC7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B30-33BF-4D21-8656-078BD1C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D31-F95C-45AE-ACD8-E4A79983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2FF-7DB6-46B2-B8D8-8D22165B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1EAC-C6FD-416D-88AD-6E42212D7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58920" y="18900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6-09-29T22:32:23Z</dcterms:modified>
  <cp:revision>11</cp:revision>
  <dc:subject/>
  <dc:title>Operaciones de Refinamiento Final</dc:title>
</cp:coreProperties>
</file>