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60C2B-084B-40B2-92E9-5D17DB813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C3EB4-F28F-4F25-AB27-6405B81DA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F192D-4697-4626-8467-9F8E8CB12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A42DC-8FC6-4092-989D-03EC61554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DC49B-F85E-4ED5-9ABC-BE66829F6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1AA78-1A12-49A9-B9A3-82951168E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7D8AF-B837-45AC-95F8-70405D147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AB3D0-C4C1-4291-85B0-0111E68CF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0C4DD-3EF7-4A22-A6A7-A03BF6883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6E288-4AAB-431E-92D6-78ECC5315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4EC0D-94C3-4E6A-B626-511D1073A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2A5C6-5096-49CD-BAB3-5F8353B2A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E45B-D1F6-4803-BF7E-CCF83966C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duction of stages due to affinity adsorption</a:t>
            </a:r>
            <a:endParaRPr b="0" lang="en-US" sz="44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00 psi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01T21:22:22Z</dcterms:modified>
  <cp:revision>48</cp:revision>
  <dc:subject/>
  <dc:title>Cromatografía en Lecho Fijo</dc:title>
</cp:coreProperties>
</file>