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405-0A22-4790-9119-52D328FC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6E3-FF1D-4F04-8102-2CF376C1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432-73D7-4CCC-8383-54D66FB9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864-3554-40AE-B62F-560832A3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786-B097-49AB-9581-17E2B99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CFD-7DDC-4997-BD20-DB420C0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F1A-9BE3-4977-925E-2580905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63A6-67A1-496F-AFA1-73A1BF94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49C-FEAB-4BA3-89B8-00F6498C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0B1-9C68-4AB1-A7AF-A4BD9A8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64B-3DC9-470D-BE31-F119CE97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923-4F83-440C-B9F8-1C0498F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D27-E671-4D97-8DBD-0C1F2D35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48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99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76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18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24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33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290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o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32000" y="189000"/>
                <a:ext cx="274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6-08-31T19:42:45Z</dcterms:modified>
  <cp:revision>9</cp:revision>
  <dc:subject/>
  <dc:title>Perfiles Cromatográficos</dc:title>
</cp:coreProperties>
</file>