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wmf" ContentType="image/x-wmf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C3D-B1B0-451C-AE93-689492DF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179-6904-4DE8-8709-63F7ADAB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175-D8B8-4320-8827-B9609FA0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D8E-3142-4BBF-9B42-36373893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481-EEB9-48DC-9997-985B270A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35B9-F4EC-4C60-9C10-F700BAE8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9C8-6E1E-459F-B564-7E84D84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937-1643-448C-AEAE-12C9666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5F7-DF16-4AD6-A2C5-9FB84D8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D7A-A01E-43B4-91D7-967CCD11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B2C-F6AB-448B-B09C-4CEECD6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A3E-70B9-4E57-8297-01CFC2C8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B74A-B860-47BB-AB90-53E35F92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48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99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5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99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76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18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24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25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33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9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290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o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32000" y="189000"/>
                <a:ext cx="27432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6-08-31T19:42:45Z</dcterms:modified>
  <cp:revision>9</cp:revision>
  <dc:subject/>
  <dc:title>Perfiles Cromatográficos</dc:title>
</cp:coreProperties>
</file>