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8.png" ContentType="image/png"/>
  <Override PartName="/ppt/media/image36.wmf" ContentType="image/x-wmf"/>
  <Override PartName="/ppt/media/image35.wmf" ContentType="image/x-wmf"/>
  <Override PartName="/ppt/media/image1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9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49CD-AF4B-4090-B534-B7530C8591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the last theory that I will p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rate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heor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 also 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Balance or Dispers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ory u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realistic description of the proc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work inside A column, THEN 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t can be used for testing different chromatographic condition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nd also for simulating the more complex ways for operating a chromatographic process, that is,  the simul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d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ing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theory 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ke</a:t>
            </a:r>
            <a:r>
              <a:rPr b="1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nto accou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nd BRO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fect of elution rate on band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vailability of different paths for different solute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rate model usually consistS of two setS of differential mass balance equations, one for the mobile phase, and the other for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ass balance in a small element in the column for the mobile phase is given by this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a solute in the mobil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ransport of the solute by longitudinal dispersion by convection and by volume-averaGED accumulation of the solute in the ge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ditionally, the </a:t>
            </a: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fusion inside A spherical porous particle is given by this equ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 the </a:t>
            </a: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Transport of the solute in the  film around the particl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idering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ss bala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, Shene and co-workers simul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e-prote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ixture using the Rate Model at different opera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ith very goo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, shown as in this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, these last two theories, Modified Plate Model and Rate theory, are very good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ul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mixtures of 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I will talk about the plat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one of the most widely used models for simul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is model, 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olumn is divided into a series of small artificial cells, each with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x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mass balance, this giv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t of first order Ordinary Differential Equations that describe the adsorption and INTERFACIAL mass TRANS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dditionally, this model assume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at the chromatographic column contain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 LARGE number of 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yer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called </a:t>
            </a:r>
            <a:r>
              <a:rPr b="0" i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oretical plat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ation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f the sample between the stationary and mobil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as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ccur in these "plates". Th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ALYT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es down the column by transfer of the equilibrated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bil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phase from one plate to the n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 disadvantage of this model is that it is not generally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I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E for multicom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ent chroma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raphy, since the equilibrium STA</a:t>
            </a:r>
            <a:r>
              <a:rPr b="1" lang="en-GB" sz="1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ay not b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ssumed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s equal for diffe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sing a linear relationship for the equilibriu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ng a new variable t, the mass balanc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de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ERE condition 1 is before the injection, the protein concentration in all column is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injection, the concentration in the first plate is Cf, which is the concentration of the pulse f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ng this equation,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ression obtained is a Poiss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isson function for a number of plateS under 30 is an asymmetric distribution, but If the number of plates is over 30, IT is similar to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Like in this equation, where C0 is the Maximum Concentration, and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sigma is the standard deviatio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the elution curve is well repres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only for a si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3E1-4C27-45F3-9176-BB326491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641-2FA1-4D9E-A587-12126376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CA2-D955-4EEB-99C8-27783269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214-AC36-4E6A-9E3D-57F5A3EF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A1E-5565-44FD-9C25-1FE1BC8D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F15-A9A4-419C-A443-4F0B530F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E0A-7ACC-421D-8AA0-C733B379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336-A04B-4BA9-BAE9-1E2F71F8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D6A-8327-4526-8B20-F31DC3BA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31C-2EA3-40C0-96C5-7580F368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893-A5C3-47AB-9BEE-07A410D1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311-5D82-423D-8E94-BC5EFA48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19F5-D813-4C76-9A7A-DC9EBC239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6352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considerar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940360" y="3486240"/>
          <a:ext cx="320364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86240"/>
                    <a:ext cx="320364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11280" y="3860640"/>
            <a:ext cx="5113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al predecir cambios en las condiciones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442200" y="3716280"/>
            <a:ext cx="2701800" cy="21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D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lumen de huecos en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Volumen Total de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81360"/>
            <a:ext cx="48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ondición de 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2637000"/>
            <a:ext cx="2519280" cy="1156680"/>
            <a:chOff x="324000" y="2637000"/>
            <a:chExt cx="2519280" cy="1156680"/>
          </a:xfrm>
        </p:grpSpPr>
        <p:sp>
          <p:nvSpPr>
            <p:cNvPr id="171" name=""/>
            <p:cNvSpPr/>
            <p:nvPr/>
          </p:nvSpPr>
          <p:spPr>
            <a:xfrm>
              <a:off x="324000" y="321300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03640" y="3141720"/>
            <a:ext cx="2519280" cy="1012320"/>
            <a:chOff x="3203640" y="3141720"/>
            <a:chExt cx="2519280" cy="1012320"/>
          </a:xfrm>
        </p:grpSpPr>
        <p:sp>
          <p:nvSpPr>
            <p:cNvPr id="174" name=""/>
            <p:cNvSpPr/>
            <p:nvPr/>
          </p:nvSpPr>
          <p:spPr>
            <a:xfrm>
              <a:off x="3203640" y="357336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estacionari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851280" y="3141720"/>
              <a:ext cx="28872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7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ferencia de masa por conv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0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s-CL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s-CL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álculo de Curvas de elución usando teoría de equilibrio como función del coeficiente de distrib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lantean los balances de masas tanto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 una descripción más realista del proceso que se produce en el interior d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ma en consid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sanchamiento de b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ecto de la velocidad de elución en la forma de l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ponibilidad de diferentes rutas para diferentes moleculas de sol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uede usar para probar diferente condiciones cromatográficas y simular hasta el proceso de lecho móvil sim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23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lance de masa de soluto en un pequeño elemento de volumen de la columna en la fase mó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92360" y="1752480"/>
                <a:ext cx="5543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348000" y="306864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ransporte de soluto por dispersión  longitudinal y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9640" y="4292640"/>
            <a:ext cx="7920000" cy="2244240"/>
            <a:chOff x="539640" y="4292640"/>
            <a:chExt cx="7920000" cy="2244240"/>
          </a:xfrm>
        </p:grpSpPr>
        <p:graphicFrame>
          <p:nvGraphicFramePr>
            <p:cNvPr id="195" name=""/>
            <p:cNvGraphicFramePr/>
            <p:nvPr/>
          </p:nvGraphicFramePr>
          <p:xfrm>
            <a:off x="5076720" y="5160960"/>
            <a:ext cx="2735280" cy="3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6720" y="5160960"/>
                      <a:ext cx="27352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932360" y="5661000"/>
              <a:ext cx="3527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: Coeficiente efectivo de dispersión  longitud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539640" y="4292640"/>
            <a:ext cx="3961080" cy="20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4292640"/>
                      <a:ext cx="3961080" cy="20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468360" y="2637000"/>
            <a:ext cx="2158920" cy="1440360"/>
            <a:chOff x="468360" y="2637000"/>
            <a:chExt cx="2158920" cy="1440360"/>
          </a:xfrm>
        </p:grpSpPr>
        <p:sp>
          <p:nvSpPr>
            <p:cNvPr id="201" name=""/>
            <p:cNvSpPr/>
            <p:nvPr/>
          </p:nvSpPr>
          <p:spPr>
            <a:xfrm>
              <a:off x="468360" y="3068640"/>
              <a:ext cx="215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Acumulación de soluto en la fase móv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116000" y="2637000"/>
              <a:ext cx="6476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27640" y="3068640"/>
            <a:ext cx="212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umulación de  soluto en la fase gel por unidad de volumen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16436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81240" y="3200400"/>
            <a:ext cx="8404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00000" y="1052640"/>
                <a:ext cx="345600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usión dentro de particulas esféricas por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637000"/>
            <a:ext cx="51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4000" y="2781360"/>
            <a:ext cx="6083280" cy="3679200"/>
            <a:chOff x="324000" y="2781360"/>
            <a:chExt cx="6083280" cy="3679200"/>
          </a:xfrm>
        </p:grpSpPr>
        <p:sp>
          <p:nvSpPr>
            <p:cNvPr id="210" name=""/>
            <p:cNvSpPr/>
            <p:nvPr/>
          </p:nvSpPr>
          <p:spPr>
            <a:xfrm>
              <a:off x="611280" y="5300640"/>
              <a:ext cx="57960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D: Coeficiente de difusión en la fase estacion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: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Coeficiente de transferencia de ma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Radio de la partícula 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000" y="2781360"/>
              <a:ext cx="51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porte del soluto en el film que rodea a la partíc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84360" y="3792600"/>
                  <a:ext cx="417492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  <m:r>
                            <m:t xml:space="preserve">−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K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3" name=""/>
          <p:cNvGraphicFramePr/>
          <p:nvPr/>
        </p:nvGraphicFramePr>
        <p:xfrm>
          <a:off x="5076720" y="1033560"/>
          <a:ext cx="381024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33560"/>
                    <a:ext cx="381024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867280" y="2276640"/>
            <a:ext cx="1657440" cy="1512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115272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iniciales y de bor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 at 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= 0 at z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565360"/>
          <a:ext cx="216072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21607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67280" y="1557360"/>
          <a:ext cx="4140000" cy="21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557360"/>
                    <a:ext cx="4140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229360"/>
            <a:ext cx="8820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and simulated elution curves of the three protein mixtures using the Rate Model (P1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albumin; P2: ovalbumin; P3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globulin) obtained for an ionic strength gradient of 0.1 M/mL and different flow rates. (a) 0.3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.5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4.5 (b) 0.7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 (c) 1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(Shene et al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experimentales y simuladas usando el modelo de Rate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758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de Platos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(Premios Nobe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tin &amp; Synge 1954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columna esta dividida en una serie de pequeños reactores (N), cada uno de mezcla completa, llamados platos te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balances de masa, esto da un set de ecuaciones diferenciales ordinarias de primer orden, que describen la adsorción y la transferencia de masa interfacial.</a:t>
            </a: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020000" y="1773360"/>
          <a:ext cx="1460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46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619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oduce una separación basada en equilibrio entre la fase estacionaria y móvil en cada uno de estos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645000"/>
            <a:ext cx="6481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La desventaja de este modelo es que no son generalmente apropiados para sistemas multicomponentes, ya que las condiciones de equilibrio no se pueden considerar iguales para ca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310520" y="765000"/>
          <a:ext cx="1833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765000"/>
                    <a:ext cx="1833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516720" y="1557360"/>
            <a:ext cx="9367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67640" y="1773360"/>
            <a:ext cx="217440" cy="2016000"/>
            <a:chOff x="7667640" y="1773360"/>
            <a:chExt cx="217440" cy="2016000"/>
          </a:xfrm>
        </p:grpSpPr>
        <p:sp>
          <p:nvSpPr>
            <p:cNvPr id="235" name=""/>
            <p:cNvSpPr/>
            <p:nvPr/>
          </p:nvSpPr>
          <p:spPr>
            <a:xfrm>
              <a:off x="7812000" y="177336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7640" y="234936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5080" y="285264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7640" y="335772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907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11280" y="2060640"/>
                <a:ext cx="553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5897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odelo considera que la columna esta formada por Np pl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0010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huecos en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 (líquido + adsorbent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4800" y="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 de Platos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28464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1413000"/>
            <a:ext cx="172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Entrada de solu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alid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321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estac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1042920" y="2707920"/>
            <a:ext cx="36036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16000" y="1989000"/>
            <a:ext cx="36036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64000" y="2708280"/>
            <a:ext cx="216000" cy="287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292720" y="2707920"/>
            <a:ext cx="71280" cy="289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549360"/>
            <a:ext cx="547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ción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C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076640"/>
            <a:ext cx="471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alance de masa qu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84360" y="4861080"/>
                <a:ext cx="3090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-8640" y="2133720"/>
            <a:ext cx="5949000" cy="1350360"/>
            <a:chOff x="-8640" y="2133720"/>
            <a:chExt cx="5949000" cy="1350360"/>
          </a:xfrm>
        </p:grpSpPr>
        <p:sp>
          <p:nvSpPr>
            <p:cNvPr id="260" name=""/>
            <p:cNvSpPr/>
            <p:nvPr/>
          </p:nvSpPr>
          <p:spPr>
            <a:xfrm>
              <a:off x="-8640" y="2133720"/>
              <a:ext cx="401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define un  tiempo adimensional, </a:t>
              </a:r>
              <a:r>
                <a:rPr b="0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059280" y="2617560"/>
                  <a:ext cx="288108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ξ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92280"/>
            <a:ext cx="6913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ini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 &lt;0  Cn = 0     n =1,2,....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) t=0 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0" y="3429000"/>
            <a:ext cx="6588000" cy="3177360"/>
            <a:chOff x="0" y="3429000"/>
            <a:chExt cx="6588000" cy="3177360"/>
          </a:xfrm>
        </p:grpSpPr>
        <p:sp>
          <p:nvSpPr>
            <p:cNvPr id="267" name=""/>
            <p:cNvSpPr/>
            <p:nvPr/>
          </p:nvSpPr>
          <p:spPr>
            <a:xfrm>
              <a:off x="0" y="3429000"/>
              <a:ext cx="658800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Luego de una aproximación se obtiene como solución una Función de Poiss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476360" y="4724280"/>
                  <a:ext cx="331308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875880" y="6165720"/>
              <a:ext cx="472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Concentración del pulso de 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89080" y="4046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716360" y="0"/>
          <a:ext cx="37054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37054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260280"/>
            <a:ext cx="4321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lt;30: Distribución asi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gt; 30: 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9880"/>
            <a:ext cx="7467480" cy="2912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so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C</a:t>
            </a:r>
            <a:r>
              <a:rPr b="1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centración Ma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esviación standard , 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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1/N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330720" y="4403880"/>
                <a:ext cx="318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84720" y="126828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26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18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51080" y="981000"/>
                <a:ext cx="40719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9640" y="2546280"/>
          <a:ext cx="439272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6280"/>
                    <a:ext cx="439272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516720" y="292428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in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612880" y="858960"/>
          <a:ext cx="174168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858960"/>
                    <a:ext cx="17416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302000" y="1800360"/>
          <a:ext cx="170208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0" y="1800360"/>
                    <a:ext cx="1702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22560" y="4224240"/>
          <a:ext cx="40640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4224240"/>
                    <a:ext cx="4064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641680" y="5402160"/>
          <a:ext cx="187776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1680" y="5402160"/>
                    <a:ext cx="1877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07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tre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E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269440"/>
            <a:chOff x="685800" y="2057400"/>
            <a:chExt cx="8172360" cy="226944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1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</a:rPr>
              <a:t>Tipos de llevar a cabo una cromatografía en lech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990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990033"/>
                </a:solidFill>
                <a:uFillTx/>
                <a:latin typeface="Comic Sans MS"/>
              </a:rPr>
              <a:t>Cromatografía de substitución (NUE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n este proceso la fase móvil contiene un compuesto (displacer) que se retiene más fuertemente que los componentes de la muestra en estudio, luego las despla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uestra se adiciona en un volumen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incipal desventaja es que los solutos no pueden eluir en forma discreta y cada soluto está siempre contaminado por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6-08-28T02:20:33Z</dcterms:modified>
  <cp:revision>129</cp:revision>
  <dc:subject/>
  <dc:title>Separación Sólido-Líquido</dc:title>
</cp:coreProperties>
</file>