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4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26.wmf" ContentType="image/x-wmf"/>
  <Override PartName="/ppt/media/image24.png" ContentType="image/png"/>
  <Override PartName="/ppt/media/image23.wmf" ContentType="image/x-wmf"/>
  <Override PartName="/ppt/media/image22.png" ContentType="image/png"/>
  <Override PartName="/ppt/media/image21.jpeg" ContentType="image/jpeg"/>
  <Override PartName="/ppt/media/image29.png" ContentType="image/png"/>
  <Override PartName="/ppt/media/image15.wmf" ContentType="image/x-wmf"/>
  <Override PartName="/ppt/media/image7.png" ContentType="image/png"/>
  <Override PartName="/ppt/media/image12.png" ContentType="image/png"/>
  <Override PartName="/ppt/media/image17.wmf" ContentType="image/x-wmf"/>
  <Override PartName="/ppt/media/image9.png" ContentType="image/png"/>
  <Override PartName="/ppt/media/image30.jpeg" ContentType="image/jpeg"/>
  <Override PartName="/ppt/media/image31.png" ContentType="image/png"/>
  <Override PartName="/ppt/media/image6.png" ContentType="image/png"/>
  <Override PartName="/ppt/media/image33.wmf" ContentType="image/x-wmf"/>
  <Override PartName="/ppt/media/image13.png" ContentType="image/png"/>
  <Override PartName="/ppt/media/image11.png" ContentType="image/png"/>
  <Override PartName="/ppt/media/image34.wmf" ContentType="image/x-wmf"/>
  <Override PartName="/ppt/media/image14.png" ContentType="image/png"/>
  <Override PartName="/ppt/media/image8.png" ContentType="image/png"/>
  <Override PartName="/ppt/media/image36.wmf" ContentType="image/x-wmf"/>
  <Override PartName="/ppt/media/image35.wmf" ContentType="image/x-wmf"/>
  <Override PartName="/ppt/media/image16.jpeg" ContentType="image/jpe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28.png" ContentType="image/png"/>
  <Override PartName="/ppt/media/image1.wmf" ContentType="image/x-wmf"/>
  <Override PartName="/ppt/media/image19.png" ContentType="image/png"/>
  <Override PartName="/ppt/media/image20.png" ContentType="image/png"/>
  <Override PartName="/ppt/media/image1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F34BA-0A8F-47CC-BA00-4D10E0E10CE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case of statistical models, the most classical model is the statistical mo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normalized statistical moment is compu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by this equ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C is the concentration in the mobile phase and t is the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model, the first statistical moment represents the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A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retention time of the curve, that is, the retention time of the prote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cond moment indicates the variance around the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A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retention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ird moment indicat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e magnitude of the peak asymme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finally, the fourth one indicat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e flatness of the pea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ird moment indicat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e magnitude of the peak asymme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finally, the fourth one indicat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e flatness of the pea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case, a basic equation in the </a:t>
            </a:r>
            <a:r>
              <a:rPr b="1" lang="en-US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quilibrium theory is given by this equ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this is the Accumulation of the solute in the mobile p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Accumulation of the solute in the stationary p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is is the mass transport by conv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equilibrium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lationshi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given by this distribution coefficient is used, and where the distribution coefficient is a concentration function of the protein in the mobile phase, then it is possible to obtain adequate elution curv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, THERE are here different calculated elution curves using the equilibrium theory as a function of non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nearit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f the distribution coeffici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ly, the last theory that I will pr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s the rate the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heory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s also b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alle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s Balance or Dispersion Mod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theory us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re realistic description of the proce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 work inside A column, THEN </a:t>
            </a:r>
            <a:r>
              <a:rPr b="0" lang="en-US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It can be used for testing different chromatographic condition</a:t>
            </a:r>
            <a:r>
              <a:rPr b="1" lang="en-US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</a:t>
            </a:r>
            <a:r>
              <a:rPr b="0" lang="en-US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and also for simulating the more complex ways for operating a chromatographic process, that is,  the simula</a:t>
            </a:r>
            <a:r>
              <a:rPr b="1" lang="en-US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ed</a:t>
            </a:r>
            <a:r>
              <a:rPr b="0" lang="en-US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moving 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his theory </a:t>
            </a:r>
            <a:r>
              <a:rPr b="0" lang="en-US" sz="1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ake</a:t>
            </a:r>
            <a:r>
              <a:rPr b="1" lang="en-US" sz="1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</a:t>
            </a:r>
            <a:r>
              <a:rPr b="0" lang="en-US" sz="1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into accou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band BRO</a:t>
            </a:r>
            <a:r>
              <a:rPr b="1" lang="en-US" sz="1200" spc="-1" strike="noStrike" baseline="-25000">
                <a:solidFill>
                  <a:srgbClr val="000099"/>
                </a:solidFill>
                <a:latin typeface="Comic Sans MS"/>
                <a:ea typeface="Times New Roman"/>
              </a:rPr>
              <a:t>A</a:t>
            </a:r>
            <a:r>
              <a:rPr b="1" lang="en-US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DE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ffect of elution rate on band shap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availability of different paths for different solute molecu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his rate model usually consistS of two setS of differential mass balance equations, one for the mobile phase, and the other for the stationary p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Mass balance in a small element in the column for the mobile phase is given by this equ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Wher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Accumulation of a solute in the mobile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is is Transport of the solute by longitudinal dispersion by convection and by volume-averaGED accumulation of the solute in the gel p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Additionally, the </a:t>
            </a:r>
            <a:r>
              <a:rPr b="1" lang="en-GB" sz="7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Diffusion inside A spherical porous particle is given by this equat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And the </a:t>
            </a:r>
            <a:r>
              <a:rPr b="1" lang="en-GB" sz="1200" spc="-1" strike="noStrike">
                <a:solidFill>
                  <a:srgbClr val="000099"/>
                </a:solidFill>
                <a:latin typeface="Times New Roman"/>
              </a:rPr>
              <a:t>Transport of the solute in the  film around the particle is given by this eq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onsidering the follow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l and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oundar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ondi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possible to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e mass balan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equation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ntly, Shene and co-workers simula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elution curv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ree-protei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mixture using the Rate Model at different operating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di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with very good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sults, shown as in this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ummary, these last two theories, Modified Plate Model and Rate theory, are very good for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imula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elution curv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f the mixtures of prote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I will talk about the plate mode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t is one of the most widely used models for simula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ing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elution curve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 this model, t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 column is divided into a series of small artificial cells, each with 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te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ixin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d on mass balance, this give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set of first order Ordinary Differential Equations that describe the adsorption and INTERFACIAL mass TRANSF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Additionally, this model assume</a:t>
            </a:r>
            <a:r>
              <a:rPr b="1" lang="en-GB" sz="1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</a:t>
            </a:r>
            <a:r>
              <a:rPr b="0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that the chromatographic column contain</a:t>
            </a:r>
            <a:r>
              <a:rPr b="1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</a:t>
            </a:r>
            <a:r>
              <a:rPr b="0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a LARGE number of separate </a:t>
            </a:r>
            <a:r>
              <a:rPr b="1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layer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</a:t>
            </a:r>
            <a:r>
              <a:rPr b="0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, called </a:t>
            </a:r>
            <a:r>
              <a:rPr b="0" i="1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heoretical plates</a:t>
            </a:r>
            <a:r>
              <a:rPr b="0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eparate </a:t>
            </a:r>
            <a:r>
              <a:rPr b="1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quilibrations</a:t>
            </a:r>
            <a:r>
              <a:rPr b="0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of the sample between the stationary and mobile </a:t>
            </a:r>
            <a:r>
              <a:rPr b="1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phases</a:t>
            </a:r>
            <a:r>
              <a:rPr b="0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occur in these "plates". The </a:t>
            </a:r>
            <a:r>
              <a:rPr b="1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ANALYTE</a:t>
            </a:r>
            <a:r>
              <a:rPr b="0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moves down the column by transfer of the equilibrated </a:t>
            </a:r>
            <a:r>
              <a:rPr b="1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mobile</a:t>
            </a:r>
            <a:r>
              <a:rPr b="0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phase from one plate to the nex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he disadvantage of this model is that it is not generally </a:t>
            </a:r>
            <a:r>
              <a:rPr b="1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UI</a:t>
            </a:r>
            <a:r>
              <a:rPr b="0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ABLE for multicom</a:t>
            </a:r>
            <a:r>
              <a:rPr b="1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PO</a:t>
            </a:r>
            <a:r>
              <a:rPr b="0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nent chroma</a:t>
            </a:r>
            <a:r>
              <a:rPr b="1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O</a:t>
            </a:r>
            <a:r>
              <a:rPr b="0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graphy, since the equilibrium STA</a:t>
            </a:r>
            <a:r>
              <a:rPr b="1" lang="en-GB" sz="12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GES</a:t>
            </a:r>
            <a:r>
              <a:rPr b="0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may not be </a:t>
            </a:r>
            <a:r>
              <a:rPr b="1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assumed</a:t>
            </a:r>
            <a:r>
              <a:rPr b="0" lang="en-GB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as equal for different compon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Mass Balance Solute in each plate is given by this eq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here this is the </a:t>
            </a:r>
            <a:r>
              <a:rPr b="0" lang="en-GB" sz="1200" spc="-1" strike="noStrike">
                <a:solidFill>
                  <a:srgbClr val="a50021"/>
                </a:solidFill>
                <a:latin typeface="Times New Roman"/>
              </a:rPr>
              <a:t>Accumulation of the solute in the mobile p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50021"/>
                </a:solidFill>
                <a:latin typeface="Times New Roman"/>
              </a:rPr>
              <a:t>This is the input solute and this is the output sol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50021"/>
                </a:solidFill>
                <a:latin typeface="Times New Roman"/>
              </a:rPr>
              <a:t>And this is the Accumulation of </a:t>
            </a:r>
            <a:r>
              <a:rPr b="1" lang="en-GB" sz="1200" spc="-1" strike="noStrike">
                <a:solidFill>
                  <a:srgbClr val="a50021"/>
                </a:solidFill>
                <a:latin typeface="Times New Roman"/>
              </a:rPr>
              <a:t>the</a:t>
            </a:r>
            <a:r>
              <a:rPr b="0" lang="en-GB" sz="1200" spc="-1" strike="noStrike">
                <a:solidFill>
                  <a:srgbClr val="a50021"/>
                </a:solidFill>
                <a:latin typeface="Times New Roman"/>
              </a:rPr>
              <a:t> solute in the stationary p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is is  the void fraction in each ste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d this is the Volume of step n  (liquid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PLU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adsorbent)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Mass Balance Solute in each plate is given by this eq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here this is the </a:t>
            </a:r>
            <a:r>
              <a:rPr b="0" lang="en-GB" sz="1200" spc="-1" strike="noStrike">
                <a:solidFill>
                  <a:srgbClr val="a50021"/>
                </a:solidFill>
                <a:latin typeface="Times New Roman"/>
              </a:rPr>
              <a:t>Accumulation of the solute in the mobile p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50021"/>
                </a:solidFill>
                <a:latin typeface="Times New Roman"/>
              </a:rPr>
              <a:t>This is the input solute and this is the output sol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50021"/>
                </a:solidFill>
                <a:latin typeface="Times New Roman"/>
              </a:rPr>
              <a:t>And this is the Accumulation of </a:t>
            </a:r>
            <a:r>
              <a:rPr b="1" lang="en-GB" sz="1200" spc="-1" strike="noStrike">
                <a:solidFill>
                  <a:srgbClr val="a50021"/>
                </a:solidFill>
                <a:latin typeface="Times New Roman"/>
              </a:rPr>
              <a:t>the</a:t>
            </a:r>
            <a:r>
              <a:rPr b="0" lang="en-GB" sz="1200" spc="-1" strike="noStrike">
                <a:solidFill>
                  <a:srgbClr val="a50021"/>
                </a:solidFill>
                <a:latin typeface="Times New Roman"/>
              </a:rPr>
              <a:t> solute in the stationary p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is is  the void fraction in each ste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d this is the Volume of step n  (liquid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PLU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adsorbent)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Using a linear relationship for the equilibrium a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ng a new variable t, the mass balance is given by this eq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,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sider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initial and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oundar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ondition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WHERE condition 1 is before the injection, the protein concentration in all column is ze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p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e injection, the concentration in the first plate is Cf, which is the concentration of the pulse fe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grating this equation, the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pression obtained is a Poisson func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is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Poisson function for a number of plateS under 30 is an asymmetric distribution, but If the number of plates is over 30, IT is similar to a GAUSSIAN fun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Like in this equation, where C0 is the Maximum Concentration, and </a:t>
            </a:r>
            <a:r>
              <a:rPr b="1" lang="en-GB" sz="1200" spc="-1" strike="noStrike">
                <a:solidFill>
                  <a:srgbClr val="a50021"/>
                </a:solidFill>
                <a:latin typeface="Times New Roman"/>
              </a:rPr>
              <a:t>sigma is the standard deviation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, the elution curve is well represen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by a Gaussian fun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only for a sin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prote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The seco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PMENT</a:t>
            </a: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 is 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Displacement Chroma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TO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graphy.  In this case, the mobile phase contain</a:t>
            </a:r>
            <a:r>
              <a:rPr b="1" lang="en-GB" sz="1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 a com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PO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nent (the displacer) more strongly retained THAN the com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PO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nent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of the sample under examination. The sam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ple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 is fed into the system as a 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fi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nite slu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Unfortunately, the main disadvantage of this procedure is that it can not elute solute</a:t>
            </a:r>
            <a:r>
              <a:rPr b="1" lang="en-GB" sz="1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 discretely, and each solute will always be contamina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TED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 by its neighb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DB96-9F7D-4F5E-BEB4-046001573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FAA5-3DE8-40BA-A25C-EADC5D3AB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344F-5A94-469C-94E6-0A058C42E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EF09-27DF-4CDB-8B9B-712D3CD38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B95C-228B-40F4-8022-AE4FF0FA2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FDE1-93ED-40B6-A26D-70F5B1176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6AFD-AB9D-41A4-8F5F-F63574183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F1F4-67C8-40B3-B689-5747FE1D8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0A06-08AA-460A-96E0-3D9B137BB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2C59-558B-461A-9E59-B85CBFC8E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BEC8-9AFF-411E-8BB2-B1C8A0F0D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39D7-73EC-475B-8D16-C62094963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792A2-6D5C-4C8E-9ACA-F1C1FAD1C9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8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6.wmf"/><Relationship Id="rId9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66"/>
                </a:solidFill>
                <a:latin typeface="Comic Sans MS"/>
              </a:rPr>
              <a:t>Purificació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66"/>
                </a:solidFill>
                <a:latin typeface="Comic Sans MS"/>
              </a:rPr>
              <a:t>Separación y Procesos Biotecnológic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50920" y="260280"/>
            <a:ext cx="8534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MMode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SSe pueden plantear un modelo de adsorción para predecir la “curva de ruptura” o “breakthrought curve” basado en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2432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205000"/>
            <a:ext cx="49528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Balances de masa del soluto en una secc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En estado no estacion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i)</a:t>
            </a:r>
            <a:r>
              <a:rPr b="0" lang="es-ES_tradnl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érminos de acumulación tanto en el adsorbente  como en los intersti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ii)</a:t>
            </a:r>
            <a:r>
              <a:rPr b="0" lang="es-ES_tradnl" sz="18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Flujos de entra y salida por Dispersión Ax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iii) </a:t>
            </a:r>
            <a:r>
              <a:rPr b="0" lang="es-ES_tradnl" sz="1800" spc="-1" strike="noStrike">
                <a:solidFill>
                  <a:srgbClr val="660033"/>
                </a:solidFill>
                <a:latin typeface="Comic Sans MS"/>
                <a:ea typeface="Times New Roman"/>
              </a:rPr>
              <a:t>Flujo de entrada y salida por Conve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5372280" y="1773360"/>
          <a:ext cx="3771720" cy="40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72280" y="1773360"/>
                    <a:ext cx="3771720" cy="40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762120" y="5272200"/>
            <a:ext cx="7619760" cy="16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</a:t>
            </a:r>
            <a:r>
              <a:rPr b="0" lang="es-ES_tradnl" sz="14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AZ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Coeficiente efectivo de dispersión ax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 : Velocidad superficial del fluido (u = Q/Ac*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: Fracción de huecos ( e = (Vt-Vs) /Vt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t: Volumen Total de la colum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s: Volumen de res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c: Area transversal de la columna</a:t>
            </a:r>
            <a:r>
              <a:rPr b="0" lang="es-ES" sz="1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228600" y="914400"/>
            <a:ext cx="8458200" cy="1511280"/>
            <a:chOff x="228600" y="914400"/>
            <a:chExt cx="8458200" cy="1511280"/>
          </a:xfrm>
        </p:grpSpPr>
        <p:sp>
          <p:nvSpPr>
            <p:cNvPr id="102" name=""/>
            <p:cNvSpPr/>
            <p:nvPr/>
          </p:nvSpPr>
          <p:spPr>
            <a:xfrm>
              <a:off x="304560" y="914400"/>
              <a:ext cx="838224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Simplificacio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No hay ni generación, ni consumo de soluto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28600" y="2057400"/>
              <a:ext cx="83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66"/>
                  </a:solidFill>
                  <a:latin typeface="Comic Sans MS"/>
                  <a:ea typeface="Times New Roman"/>
                </a:rPr>
                <a:t> </a:t>
              </a:r>
              <a:r>
                <a:rPr b="1" lang="es-ES" sz="1800" spc="-1" strike="noStrike">
                  <a:solidFill>
                    <a:srgbClr val="000066"/>
                  </a:solidFill>
                  <a:latin typeface="Comic Sans MS"/>
                  <a:ea typeface="Times New Roman"/>
                </a:rPr>
                <a:t>{Masa que entra} – {Masa que sale} = </a:t>
              </a:r>
              <a:r>
                <a:rPr b="1" lang="es-ES_tradnl" sz="1800" spc="-1" strike="noStrike">
                  <a:solidFill>
                    <a:srgbClr val="000066"/>
                  </a:solidFill>
                  <a:latin typeface="Comic Sans MS"/>
                  <a:ea typeface="Times New Roman"/>
                </a:rPr>
                <a:t> </a:t>
              </a:r>
              <a:r>
                <a:rPr b="1" lang="es-ES" sz="1800" spc="-1" strike="noStrike">
                  <a:solidFill>
                    <a:srgbClr val="000066"/>
                  </a:solidFill>
                  <a:latin typeface="Comic Sans MS"/>
                  <a:ea typeface="Times New Roman"/>
                </a:rPr>
                <a:t>{Masa Acumulada}</a:t>
              </a:r>
              <a:r>
                <a:rPr b="1" lang="es-ES" sz="1800" spc="-1" strike="noStrike">
                  <a:solidFill>
                    <a:srgbClr val="000066"/>
                  </a:solidFill>
                  <a:latin typeface="Comic Sans MS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432000" y="2743200"/>
            <a:ext cx="5892480" cy="1576440"/>
            <a:chOff x="432000" y="2743200"/>
            <a:chExt cx="5892480" cy="1576440"/>
          </a:xfrm>
        </p:grpSpPr>
        <mc:AlternateContent>
          <mc:Choice xmlns:a14="http://schemas.microsoft.com/office/drawing/2010/main" Requires="a14">
            <p:sp>
              <p:nvSpPr>
                <p:cNvPr id="105" name=""/>
                <p:cNvSpPr txBox="1"/>
                <p:nvPr/>
              </p:nvSpPr>
              <p:spPr>
                <a:xfrm>
                  <a:off x="1752480" y="3276720"/>
                  <a:ext cx="4572000" cy="104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Z</m:t>
                          </m:r>
                        </m:sub>
                      </m:sSub>
                      <m:f>
                        <m:num>
                          <m:sSup>
                            <m:e>
                              <m:r>
                                <m:t xml:space="preserve">∂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∂</m:t>
                          </m:r>
                          <m:sSup>
                            <m:e>
                              <m:r>
                                <m:t xml:space="preserve">z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+</m:t>
                      </m:r>
                      <m:r>
                        <m:t xml:space="preserve">u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t xml:space="preserve">∂</m:t>
                          </m:r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z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=  </m:t>
                      </m:r>
                      <m:f>
                        <m:num>
                          <m:r>
                            <m:t xml:space="preserve">∂</m:t>
                          </m:r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(</m:t>
                      </m:r>
                      <m:f>
                        <m:num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ε</m:t>
                          </m:r>
                        </m:num>
                        <m:den>
                          <m:r>
                            <m:t xml:space="preserve">ε</m:t>
                          </m:r>
                        </m:den>
                      </m:f>
                      <m:r>
                        <m:t xml:space="preserve">)</m:t>
                      </m:r>
                      <m:f>
                        <m:num>
                          <m:r>
                            <m:t xml:space="preserve">∂</m:t>
                          </m:r>
                          <m:r>
                            <m:t xml:space="preserve">q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06" name=""/>
            <p:cNvSpPr/>
            <p:nvPr/>
          </p:nvSpPr>
          <p:spPr>
            <a:xfrm>
              <a:off x="432000" y="2743200"/>
              <a:ext cx="353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El Balance se expresa como</a:t>
              </a:r>
              <a:r>
                <a:rPr b="0" lang="es-ES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-380880" y="4495680"/>
            <a:ext cx="9829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a50021"/>
                </a:solidFill>
                <a:latin typeface="Times New Roman"/>
              </a:rPr>
              <a:t>Dispersión axial + Flujo = Acumulación intersticios+ Acumulación por adsorció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{Masa que entra} – {Masa que sale}+{Masa generada} –{Masa Consumida}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{Masa Acumulada}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5800" y="228600"/>
            <a:ext cx="784872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ondiciones de equilibrio (tipo de isoterm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6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inear</a:t>
            </a: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q= K</a:t>
            </a:r>
            <a:r>
              <a:rPr b="1" lang="es-ES" sz="1800" spc="-1" strike="noStrike" baseline="-25000">
                <a:solidFill>
                  <a:srgbClr val="a50021"/>
                </a:solidFill>
                <a:latin typeface="Comic Sans MS"/>
              </a:rPr>
              <a:t>L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6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ngmuir</a:t>
            </a: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q= K</a:t>
            </a:r>
            <a:r>
              <a:rPr b="1" lang="es-ES" sz="1800" spc="-1" strike="noStrike" baseline="-25000">
                <a:solidFill>
                  <a:srgbClr val="a50021"/>
                </a:solidFill>
                <a:latin typeface="Comic Sans MS"/>
              </a:rPr>
              <a:t>F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 y</a:t>
            </a:r>
            <a:r>
              <a:rPr b="1" lang="es-ES" sz="1800" spc="-1" strike="noStrike" baseline="30000">
                <a:solidFill>
                  <a:srgbClr val="a50021"/>
                </a:solidFill>
                <a:latin typeface="Comic Sans MS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6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reundlich</a:t>
            </a: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q=(q</a:t>
            </a:r>
            <a:r>
              <a:rPr b="1" lang="es-ES" sz="1800" spc="-1" strike="noStrike" baseline="-25000">
                <a:solidFill>
                  <a:srgbClr val="a50021"/>
                </a:solidFill>
                <a:latin typeface="Comic Sans MS"/>
              </a:rPr>
              <a:t>o 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 y)</a:t>
            </a:r>
            <a:r>
              <a:rPr b="1" lang="es-ES_tradnl" sz="1800" spc="-1" strike="noStrike">
                <a:solidFill>
                  <a:srgbClr val="a50021"/>
                </a:solidFill>
                <a:latin typeface="Comic Sans MS"/>
              </a:rPr>
              <a:t>/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 (K +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" y="2362320"/>
            <a:ext cx="5181480" cy="40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i) Transferencia desde el seno del líquido hasta la capa límite que rodea a la partícu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Font typeface="Comic Sans MS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Difusión en el film que rodea la partícu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ransferencia a través del líquido que existe en los poros de la partícula hacia las superficies intern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ceso de adsor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ifusión a lo largo de la superficie de los poros intern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5486400" y="2438280"/>
          <a:ext cx="3657600" cy="37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438280"/>
                    <a:ext cx="3657600" cy="37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380880" y="190512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inética de adsorción, la cual puede estar controlada p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57200" y="304920"/>
            <a:ext cx="822960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la controlante es la Difusión en el fil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 K</a:t>
            </a:r>
            <a:r>
              <a:rPr b="0" lang="es-ES_tradnl" sz="20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L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Coeficiente de transferencia de m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: Area de adsorbente por unidad de volumen de l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y* Concentración hipotética de soluto en el líquido en equilibrio con la concentración de soluto en el adsorbente.</a:t>
            </a:r>
            <a:r>
              <a:rPr b="0" lang="es-ES" sz="2000" spc="-1" strike="noStrike">
                <a:solidFill>
                  <a:srgbClr val="6699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2436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362320" y="914400"/>
                <a:ext cx="323856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q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685800" y="54100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Sistema de ecuaciones resulta difícil de resolver, se suelen utilizar métodos numéricos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42670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Times New Roman"/>
              </a:rPr>
              <a:t>La etapa Controlante puede variar según la escala del 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533520" y="0"/>
            <a:ext cx="8229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Adsorción en Lecho Fi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romatografía de E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93832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1066680"/>
            <a:ext cx="8001000" cy="17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romatografía es un método de separación par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solver mezclas y aislar compon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 base de la cromatografía e la migración diferencial, es decir, el retardo selectivo de las moléculas de soluto durante su paso a través del lecho de partículas de resi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3124080"/>
            <a:ext cx="7772400" cy="30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n el caso de las cromatografías de elución se utilizan los 5 pasos mencionados para la adsor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Equilibrio de la colum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Inyección de la mues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Lavado de la colum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s-ES_tradnl" sz="2000" spc="-1" strike="noStrike">
                <a:solidFill>
                  <a:srgbClr val="a50021"/>
                </a:solidFill>
                <a:latin typeface="Comic Sans MS"/>
              </a:rPr>
              <a:t>E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Limpieza de la colum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93832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228600"/>
            <a:ext cx="77724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</a:t>
            </a:r>
            <a:r>
              <a:rPr b="1" lang="es-ES_tradnl" sz="2000" spc="-1" strike="noStrike">
                <a:solidFill>
                  <a:srgbClr val="a50021"/>
                </a:solidFill>
                <a:latin typeface="Comic Sans MS"/>
              </a:rPr>
              <a:t>Elución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puede ser llevada a cabo de varias form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Isocrátic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composición de eluy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e mantiene const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5638680" y="609480"/>
          <a:ext cx="2428920" cy="19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609480"/>
                    <a:ext cx="2428920" cy="19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5638680" y="2514600"/>
          <a:ext cx="2514600" cy="197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2514600"/>
                    <a:ext cx="251460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5715000" y="4648320"/>
          <a:ext cx="2590920" cy="2055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15000" y="4648320"/>
                    <a:ext cx="2590920" cy="205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533520" y="2819520"/>
            <a:ext cx="441936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Grad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composición del eluyente varía gradual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 Line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 Escalon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09480" y="304920"/>
            <a:ext cx="7925040" cy="53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Modelos formulados para Procesos Cromatográficos</a:t>
            </a: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Los modelos de 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-Predicen los tiempos de reten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-La forma de las curv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Los modelos son del tip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adíst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quilib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alance de ma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De pla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5562720" y="1752480"/>
          <a:ext cx="3143160" cy="244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1752480"/>
                    <a:ext cx="3143160" cy="24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Modelos de Estadístico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000" y="4724280"/>
            <a:ext cx="3809880" cy="18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(t): concen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: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619280" y="2276640"/>
          <a:ext cx="2232000" cy="196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2276640"/>
                    <a:ext cx="2232000" cy="19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826920" y="1125360"/>
            <a:ext cx="75614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eoría de los momentos estadísticos de Gidding y Eyring (1955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ada momento se calcula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5508720" y="2852640"/>
            <a:ext cx="3635280" cy="286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076720" y="549360"/>
            <a:ext cx="3670560" cy="39592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9640" y="620640"/>
            <a:ext cx="424836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l primer momento, </a:t>
            </a:r>
            <a:r>
              <a:rPr b="0" lang="en-US" sz="2000" spc="-1" strike="noStrike">
                <a:solidFill>
                  <a:srgbClr val="000099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Symbol"/>
                <a:ea typeface="Symbol"/>
              </a:rPr>
              <a:t></a:t>
            </a:r>
            <a:r>
              <a:rPr b="0" lang="en-US" sz="2000" spc="-1" strike="noStrike">
                <a:solidFill>
                  <a:srgbClr val="000099"/>
                </a:solidFill>
                <a:latin typeface="Symbol"/>
                <a:ea typeface="Symbol"/>
              </a:rPr>
              <a:t>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representa el tiempo de retención medio de la curv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95280" y="3645000"/>
            <a:ext cx="424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l segundo momento indica la varianza alrededor del valor medio</a:t>
            </a:r>
            <a:r>
              <a:rPr b="1" lang="en-U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547640" y="1609560"/>
          <a:ext cx="193212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1609560"/>
                    <a:ext cx="193212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1835280" y="4724280"/>
          <a:ext cx="2449440" cy="1573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835280" y="4724280"/>
                    <a:ext cx="2449440" cy="15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84360" y="475920"/>
            <a:ext cx="7704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l tercer momento indica la magnitud de la asimetria del peak (Skewne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843280" y="3141720"/>
          <a:ext cx="4190760" cy="29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3141720"/>
                    <a:ext cx="419076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4067280" y="1989000"/>
                <a:ext cx="1944720" cy="78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kewnes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66"/>
                </a:solidFill>
                <a:latin typeface="Comic Sans MS"/>
              </a:rPr>
              <a:t>Adsorción en lecho fij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4360" y="475920"/>
            <a:ext cx="7704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l cuarto momento indica la delgadez del peak (Kurtosi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2195640" y="3573360"/>
          <a:ext cx="4103640" cy="278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3573360"/>
                    <a:ext cx="4103640" cy="27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2987640" y="2219400"/>
                <a:ext cx="262404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urtosi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1116000" y="3141720"/>
            <a:ext cx="770400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Modelos de Estadístico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-360" y="1197000"/>
            <a:ext cx="867564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Mo</a:t>
            </a:r>
            <a:r>
              <a:rPr b="1" lang="es-ES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delo estocástic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5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Modelo dinámico molecul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95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e basa en considerar que la reacción de adsorción y desorción en la superficie es el </a:t>
            </a:r>
            <a:r>
              <a:rPr b="1" lang="es-ES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paso controlante</a:t>
            </a: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, despreciando los fenómenos de transferencia de ma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just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5940360" y="3486240"/>
          <a:ext cx="320364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0360" y="3486240"/>
                    <a:ext cx="320364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611280" y="3860640"/>
            <a:ext cx="5113080" cy="17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95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Describir la distribución del tiempo de retención como una función de distribución del tipo de Poiss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Modelos de</a:t>
            </a:r>
            <a:r>
              <a:rPr b="1" i="1" lang="en-US" sz="4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Equilibri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50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25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onsidera el equilibrio entre las dos fases (sólido y solución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125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ada soluto se distribuye entre las 2 fases (en equilibrio) según una constante de distrib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onstante de Distribución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K = q/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125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No considera la dispersión axial ni la resistencia a la transferencia de ma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125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ste tipo de modelos permite predecir el tiempo de retención en la columna de cromatografía cuando la transferencia de masa es prácticamente infinita, pero </a:t>
            </a:r>
            <a:r>
              <a:rPr b="1" lang="es-ES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falla al predecir cambios en las condiciones de ope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Teoria de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10920" y="981000"/>
            <a:ext cx="7993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45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La ecuación básica en el equilibrio está dada po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2247840" y="1989000"/>
                <a:ext cx="3781440" cy="10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q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u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6442200" y="3716280"/>
            <a:ext cx="2701800" cy="21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Don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H = (V</a:t>
            </a:r>
            <a:r>
              <a:rPr b="1" lang="es-CL" sz="1600" spc="-1" strike="noStrike" baseline="-25000">
                <a:solidFill>
                  <a:srgbClr val="0066ff"/>
                </a:solidFill>
                <a:latin typeface="Comic Sans MS"/>
                <a:ea typeface="Times New Roman"/>
              </a:rPr>
              <a:t>t</a:t>
            </a:r>
            <a:r>
              <a:rPr b="1" lang="es-CL" sz="16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-V</a:t>
            </a:r>
            <a:r>
              <a:rPr b="1" lang="es-CL" sz="1600" spc="-1" strike="noStrike" baseline="-25000">
                <a:solidFill>
                  <a:srgbClr val="0066ff"/>
                </a:solidFill>
                <a:latin typeface="Comic Sans MS"/>
                <a:ea typeface="Times New Roman"/>
              </a:rPr>
              <a:t>o</a:t>
            </a:r>
            <a:r>
              <a:rPr b="1" lang="es-CL" sz="16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)/V</a:t>
            </a:r>
            <a:r>
              <a:rPr b="1" lang="es-CL" sz="1600" spc="-1" strike="noStrike" baseline="-25000">
                <a:solidFill>
                  <a:srgbClr val="0066ff"/>
                </a:solidFill>
                <a:latin typeface="Comic Sans MS"/>
                <a:ea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Vo: Volumen de huecos en la colum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Vt : Volumen Total de la colum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68360" y="4581360"/>
            <a:ext cx="48243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Condición de Equilib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q = K*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324000" y="2637000"/>
            <a:ext cx="2519280" cy="1156680"/>
            <a:chOff x="324000" y="2637000"/>
            <a:chExt cx="2519280" cy="1156680"/>
          </a:xfrm>
        </p:grpSpPr>
        <p:sp>
          <p:nvSpPr>
            <p:cNvPr id="171" name=""/>
            <p:cNvSpPr/>
            <p:nvPr/>
          </p:nvSpPr>
          <p:spPr>
            <a:xfrm>
              <a:off x="324000" y="3213000"/>
              <a:ext cx="2519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99"/>
                  </a:solidFill>
                  <a:latin typeface="Comic Sans MS"/>
                  <a:ea typeface="Times New Roman"/>
                </a:rPr>
                <a:t>Acumulación de soluto en la fase móvi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1619280" y="2637000"/>
              <a:ext cx="792000" cy="50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3203640" y="3141720"/>
            <a:ext cx="2519280" cy="1012320"/>
            <a:chOff x="3203640" y="3141720"/>
            <a:chExt cx="2519280" cy="1012320"/>
          </a:xfrm>
        </p:grpSpPr>
        <p:sp>
          <p:nvSpPr>
            <p:cNvPr id="174" name=""/>
            <p:cNvSpPr/>
            <p:nvPr/>
          </p:nvSpPr>
          <p:spPr>
            <a:xfrm>
              <a:off x="3203640" y="3573360"/>
              <a:ext cx="2519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99"/>
                  </a:solidFill>
                  <a:latin typeface="Comic Sans MS"/>
                  <a:ea typeface="Times New Roman"/>
                </a:rPr>
                <a:t>Acumulación de soluto en la fase estacionari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flipV="1">
              <a:off x="3851280" y="3141720"/>
              <a:ext cx="288720" cy="50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6012000" y="2276640"/>
            <a:ext cx="3132000" cy="580680"/>
            <a:chOff x="6012000" y="2276640"/>
            <a:chExt cx="3132000" cy="580680"/>
          </a:xfrm>
        </p:grpSpPr>
        <p:sp>
          <p:nvSpPr>
            <p:cNvPr id="177" name=""/>
            <p:cNvSpPr/>
            <p:nvPr/>
          </p:nvSpPr>
          <p:spPr>
            <a:xfrm>
              <a:off x="6624720" y="2276640"/>
              <a:ext cx="2519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99"/>
                  </a:solidFill>
                  <a:latin typeface="Comic Sans MS"/>
                  <a:ea typeface="Times New Roman"/>
                </a:rPr>
                <a:t>Transferencia de masa por convec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 flipV="1">
              <a:off x="6012000" y="2420640"/>
              <a:ext cx="504720" cy="14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058920" y="5877000"/>
            <a:ext cx="3659760" cy="793080"/>
            <a:chOff x="3058920" y="5877000"/>
            <a:chExt cx="3659760" cy="793080"/>
          </a:xfrm>
        </p:grpSpPr>
        <p:sp>
          <p:nvSpPr>
            <p:cNvPr id="180" name=""/>
            <p:cNvSpPr/>
            <p:nvPr/>
          </p:nvSpPr>
          <p:spPr>
            <a:xfrm>
              <a:off x="3714120" y="6021360"/>
              <a:ext cx="30045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3200" spc="-1" strike="noStrike">
                  <a:solidFill>
                    <a:srgbClr val="a50021"/>
                  </a:solidFill>
                  <a:latin typeface="Comic Sans MS"/>
                  <a:ea typeface="Times New Roman"/>
                </a:rPr>
                <a:t>K = 1-K</a:t>
              </a:r>
              <a:r>
                <a:rPr b="1" lang="es-CL" sz="3200" spc="-1" strike="noStrike" baseline="-25000">
                  <a:solidFill>
                    <a:srgbClr val="a50021"/>
                  </a:solidFill>
                  <a:latin typeface="Comic Sans MS"/>
                  <a:ea typeface="Times New Roman"/>
                </a:rPr>
                <a:t>1*</a:t>
              </a:r>
              <a:r>
                <a:rPr b="1" lang="es-CL" sz="3200" spc="-1" strike="noStrike">
                  <a:solidFill>
                    <a:srgbClr val="a50021"/>
                  </a:solidFill>
                  <a:latin typeface="Comic Sans MS"/>
                  <a:ea typeface="Times New Roman"/>
                </a:rPr>
                <a:t>(</a:t>
              </a:r>
              <a:r>
                <a:rPr b="1" lang="es-CL" sz="3200" spc="-1" strike="noStrike">
                  <a:solidFill>
                    <a:srgbClr val="000099"/>
                  </a:solidFill>
                  <a:latin typeface="Comic Sans MS"/>
                  <a:ea typeface="Times New Roman"/>
                </a:rPr>
                <a:t>C</a:t>
              </a:r>
              <a:r>
                <a:rPr b="1" lang="es-CL" sz="3200" spc="-1" strike="noStrike">
                  <a:solidFill>
                    <a:srgbClr val="a50021"/>
                  </a:solidFill>
                  <a:latin typeface="Comic Sans MS"/>
                  <a:ea typeface="Times New Roman"/>
                </a:rPr>
                <a:t>/Co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 flipV="1">
              <a:off x="3058920" y="5877000"/>
              <a:ext cx="433080" cy="504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1403280" y="333360"/>
            <a:ext cx="6913440" cy="4893840"/>
            <a:chOff x="1403280" y="333360"/>
            <a:chExt cx="6913440" cy="4893840"/>
          </a:xfrm>
        </p:grpSpPr>
        <p:pic>
          <p:nvPicPr>
            <p:cNvPr id="183" name="" descr=""/>
            <p:cNvPicPr/>
            <p:nvPr/>
          </p:nvPicPr>
          <p:blipFill>
            <a:blip r:embed="rId1"/>
            <a:stretch/>
          </p:blipFill>
          <p:spPr>
            <a:xfrm>
              <a:off x="1403280" y="333360"/>
              <a:ext cx="6913440" cy="489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3412080" y="4806720"/>
              <a:ext cx="289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971640" y="544500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álculo de Curvas de elución usando teoría de equilibrio como función del coeficiente de distribu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615000" y="1130400"/>
            <a:ext cx="1883160" cy="491400"/>
          </a:xfrm>
          <a:prstGeom prst="rect">
            <a:avLst/>
          </a:prstGeom>
          <a:solidFill>
            <a:srgbClr val="ffffff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K = 1-K</a:t>
            </a:r>
            <a:r>
              <a:rPr b="1" lang="en-GB" sz="2000" spc="-1" strike="noStrike" baseline="-25000">
                <a:solidFill>
                  <a:srgbClr val="000099"/>
                </a:solidFill>
                <a:latin typeface="Comic Sans MS"/>
                <a:ea typeface="Times New Roman"/>
              </a:rPr>
              <a:t>1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(C/Co</a:t>
            </a:r>
            <a:r>
              <a:rPr b="1" lang="en-GB" sz="24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Modelos de Balances de Masa (Rate Mode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78920" y="1143000"/>
            <a:ext cx="87138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e plantean los balances de masas tanto  para la fase móvil y otro para las partícul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e incluye la expresión para describir la transferencia de masa interfacial entre la fase móvil y la estaciona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La transferencia de masa puede ser controlada por uno o más de los siguientes fenómen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Resistencia a la transferencia de masa exte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Resistencia a la transferencia de masa inte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Resistencia relacionada con la cinética de reacción superf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95280" y="549360"/>
            <a:ext cx="81374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s una descripción más realista del proceso que se produce en el interior de la colum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oma en considera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nsanchamiento de ban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fecto de la velocidad de elución en la forma de la b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Disponibilidad de diferentes rutas para diferentes moleculas de solu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e puede usar para probar diferente condiciones cromatográficas y simular hasta el proceso de lecho móvil simul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580000" y="3357720"/>
            <a:ext cx="2230560" cy="12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Balance de masa de soluto en un pequeño elemento de volumen de la columna en la fase móv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1692360" y="1752480"/>
                <a:ext cx="5543640" cy="11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u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H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v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3" name=""/>
          <p:cNvSpPr/>
          <p:nvPr/>
        </p:nvSpPr>
        <p:spPr>
          <a:xfrm>
            <a:off x="3348000" y="3068640"/>
            <a:ext cx="2521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Transporte de soluto por dispersión  longitudinal y por conve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539640" y="4292640"/>
            <a:ext cx="7920000" cy="2244240"/>
            <a:chOff x="539640" y="4292640"/>
            <a:chExt cx="7920000" cy="2244240"/>
          </a:xfrm>
        </p:grpSpPr>
        <p:graphicFrame>
          <p:nvGraphicFramePr>
            <p:cNvPr id="195" name=""/>
            <p:cNvGraphicFramePr/>
            <p:nvPr/>
          </p:nvGraphicFramePr>
          <p:xfrm>
            <a:off x="5076720" y="5160960"/>
            <a:ext cx="2735280" cy="396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076720" y="5160960"/>
                      <a:ext cx="2735280" cy="396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7" name=""/>
            <p:cNvSpPr/>
            <p:nvPr/>
          </p:nvSpPr>
          <p:spPr>
            <a:xfrm>
              <a:off x="4932360" y="5661000"/>
              <a:ext cx="352728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s-CL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</a:rPr>
                <a:t>: Coeficiente efectivo de dispersión  longitudin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8" name=""/>
            <p:cNvGraphicFramePr/>
            <p:nvPr/>
          </p:nvGraphicFramePr>
          <p:xfrm>
            <a:off x="539640" y="4292640"/>
            <a:ext cx="3961080" cy="2043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39640" y="4292640"/>
                      <a:ext cx="3961080" cy="20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00" name=""/>
          <p:cNvGrpSpPr/>
          <p:nvPr/>
        </p:nvGrpSpPr>
        <p:grpSpPr>
          <a:xfrm>
            <a:off x="468360" y="2637000"/>
            <a:ext cx="2158920" cy="1440360"/>
            <a:chOff x="468360" y="2637000"/>
            <a:chExt cx="2158920" cy="1440360"/>
          </a:xfrm>
        </p:grpSpPr>
        <p:sp>
          <p:nvSpPr>
            <p:cNvPr id="201" name=""/>
            <p:cNvSpPr/>
            <p:nvPr/>
          </p:nvSpPr>
          <p:spPr>
            <a:xfrm>
              <a:off x="468360" y="3068640"/>
              <a:ext cx="21589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Times New Roman"/>
                </a:rPr>
                <a:t>Acumulación de soluto en la fase móvi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1116000" y="2637000"/>
              <a:ext cx="647640" cy="50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6227640" y="3068640"/>
            <a:ext cx="212436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cumulación de  soluto en la fase gel por unidad de volumen prome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7164360" y="2492280"/>
            <a:ext cx="50328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081240" y="3200400"/>
            <a:ext cx="8404200" cy="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900000" y="1052640"/>
                <a:ext cx="3456000" cy="121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q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D</m:t>
                        </m:r>
                      </m:e>
                    </m:ba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r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7" name=""/>
          <p:cNvSpPr/>
          <p:nvPr/>
        </p:nvSpPr>
        <p:spPr>
          <a:xfrm>
            <a:off x="68436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17440" indent="-11174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Difusión dentro de particulas esféricas poro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50920" y="2637000"/>
            <a:ext cx="5184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17440" indent="-11174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24000" y="2781360"/>
            <a:ext cx="6083280" cy="3679200"/>
            <a:chOff x="324000" y="2781360"/>
            <a:chExt cx="6083280" cy="3679200"/>
          </a:xfrm>
        </p:grpSpPr>
        <p:sp>
          <p:nvSpPr>
            <p:cNvPr id="210" name=""/>
            <p:cNvSpPr/>
            <p:nvPr/>
          </p:nvSpPr>
          <p:spPr>
            <a:xfrm>
              <a:off x="611280" y="5300640"/>
              <a:ext cx="5796000" cy="11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Times New Roman"/>
                </a:rPr>
                <a:t>D: Coeficiente de difusión en la fase estacionari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s-CL" sz="2000" spc="-1" strike="noStrike" baseline="-25000">
                  <a:solidFill>
                    <a:srgbClr val="000000"/>
                  </a:solidFill>
                  <a:latin typeface="Times New Roman"/>
                </a:rPr>
                <a:t>f:</a:t>
              </a:r>
              <a:r>
                <a:rPr b="0" lang="es-CL" sz="2000" spc="-1" strike="noStrike">
                  <a:solidFill>
                    <a:srgbClr val="000000"/>
                  </a:solidFill>
                  <a:latin typeface="Times New Roman"/>
                </a:rPr>
                <a:t>:Coeficiente de transferencia de masa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s-CL" sz="20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s-CL" sz="2000" spc="-1" strike="noStrike">
                  <a:solidFill>
                    <a:srgbClr val="000000"/>
                  </a:solidFill>
                  <a:latin typeface="Times New Roman"/>
                </a:rPr>
                <a:t>: Radio de la partícula 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24000" y="2781360"/>
              <a:ext cx="5111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000099"/>
                  </a:solidFill>
                  <a:latin typeface="Comic Sans MS"/>
                  <a:ea typeface="Times New Roman"/>
                </a:rPr>
                <a:t>Transporte del soluto en el film que rodea a la partícul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2" name=""/>
                <p:cNvSpPr txBox="1"/>
                <p:nvPr/>
              </p:nvSpPr>
              <p:spPr>
                <a:xfrm>
                  <a:off x="684360" y="3792600"/>
                  <a:ext cx="4174920" cy="1160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∂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v</m:t>
                              </m:r>
                            </m:sub>
                          </m:sSub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den>
                      </m:f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⋅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C</m:t>
                          </m:r>
                          <m:r>
                            <m:t xml:space="preserve">−</m:t>
                          </m:r>
                          <m:f>
                            <m:fPr>
                              <m:type m:val="lin"/>
                            </m:fPr>
                            <m:num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K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213" name=""/>
          <p:cNvGraphicFramePr/>
          <p:nvPr/>
        </p:nvGraphicFramePr>
        <p:xfrm>
          <a:off x="5076720" y="1033560"/>
          <a:ext cx="3810240" cy="37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1033560"/>
                    <a:ext cx="3810240" cy="37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5867280" y="2276640"/>
            <a:ext cx="1657440" cy="1512720"/>
          </a:xfrm>
          <a:prstGeom prst="ellipse">
            <a:avLst/>
          </a:prstGeom>
          <a:noFill/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443640" y="2492280"/>
            <a:ext cx="1152720" cy="1513080"/>
          </a:xfrm>
          <a:prstGeom prst="ellipse">
            <a:avLst/>
          </a:prstGeom>
          <a:noFill/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691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diciones de iniciales y de bor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=0 at t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= 0 at z=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539640" y="2565360"/>
          <a:ext cx="2160720" cy="8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565360"/>
                    <a:ext cx="2160720" cy="8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4067280" y="1557360"/>
          <a:ext cx="4140000" cy="2135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7280" y="1557360"/>
                    <a:ext cx="4140000" cy="21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07960" y="76320"/>
            <a:ext cx="8636040" cy="12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66"/>
                </a:solidFill>
                <a:uFillTx/>
                <a:latin typeface="Comic Sans MS"/>
              </a:rPr>
              <a:t>Cromatografía de Lecho Fi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Comic Sans MS"/>
              </a:rPr>
              <a:t>Es la técnica más utilizada a escala industrial para la purificación de proteínas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</a:rPr>
              <a:t>, debido principalmente  a  presentar la mayor área de adsorción por unidad de volum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8140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362320" y="2666880"/>
          <a:ext cx="510516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666880"/>
                    <a:ext cx="510516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3619440" y="27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75248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Comic Sans MS"/>
              </a:rPr>
              <a:t>Consiste en una columna o tubo vertical relleno con partículas de adsorb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0" y="5229360"/>
            <a:ext cx="882000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erimental and simulated elution curves of the three protein mixtures using the Rate Model (P1: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lactoalbumin; P2: ovalbumin; P3: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lactoglobulin) obtained for an ionic strength gradient of 0.1 M/mL and different flow rates. (a) 0.3 mL/mi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P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10;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P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9.5;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P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4.5 (b) 0.7 mL/mi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P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6;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P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6;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P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3 (c) 1 mL/mi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P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4;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P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4;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P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4.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 (Shene et al, 200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258920" y="0"/>
            <a:ext cx="64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urvas experimentales y simuladas usando el modelo de Rate Mod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8975880" cy="387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Modelo de Platos</a:t>
            </a:r>
            <a:br>
              <a:rPr sz="3200"/>
            </a:b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(Premios Nobel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rtin &amp; Synge 1954 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-360" y="1916280"/>
            <a:ext cx="611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La columna esta dividida en una serie de pequeños reactores (N), cada uno de mezcla completa, llamados platos teór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e basa en balances de masa, esto da un set de ecuaciones diferenciales ordinarias de primer orden, que describen la adsorción y la transferencia de masa interfacial.</a:t>
            </a:r>
            <a:r>
              <a:rPr b="1" lang="es-CL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7020000" y="1773360"/>
          <a:ext cx="14605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20000" y="1773360"/>
                    <a:ext cx="14605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250920" y="836640"/>
            <a:ext cx="619272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e produce una separación basada en equilibrio entre la fase estacionaria y móvil en cada uno de estos pla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95280" y="3645000"/>
            <a:ext cx="648180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La desventaja de este modelo es que no son generalmente apropiados para sistemas multicomponentes, ya que las condiciones de equilibrio no se pueden considerar iguales para cada compon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7310520" y="765000"/>
          <a:ext cx="1833480" cy="388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10520" y="765000"/>
                    <a:ext cx="1833480" cy="38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"/>
          <p:cNvSpPr/>
          <p:nvPr/>
        </p:nvSpPr>
        <p:spPr>
          <a:xfrm>
            <a:off x="6516720" y="1557360"/>
            <a:ext cx="936720" cy="36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7667640" y="1773360"/>
            <a:ext cx="217440" cy="2016000"/>
            <a:chOff x="7667640" y="1773360"/>
            <a:chExt cx="217440" cy="2016000"/>
          </a:xfrm>
        </p:grpSpPr>
        <p:sp>
          <p:nvSpPr>
            <p:cNvPr id="235" name=""/>
            <p:cNvSpPr/>
            <p:nvPr/>
          </p:nvSpPr>
          <p:spPr>
            <a:xfrm>
              <a:off x="7812000" y="1773360"/>
              <a:ext cx="0" cy="4316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667640" y="2349360"/>
              <a:ext cx="0" cy="4320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885080" y="2852640"/>
              <a:ext cx="0" cy="4320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667640" y="3357720"/>
              <a:ext cx="0" cy="4316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0" y="90792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de masa de sol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611280" y="2060640"/>
                <a:ext cx="553716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Ve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ξ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Ve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468360" y="5589720"/>
            <a:ext cx="6172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 modelo considera que la columna esta formada por Np plato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4920" y="4572000"/>
            <a:ext cx="8001000" cy="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Symbol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Fracción de huecos en cada eta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 : Volumen de la etapa n  (líquido + adsorbente)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134800" y="0"/>
            <a:ext cx="517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Modelo de Platos Clás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50920" y="3284640"/>
            <a:ext cx="2449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a50021"/>
                </a:solidFill>
                <a:latin typeface="Times New Roman"/>
              </a:rPr>
              <a:t>Acumulación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a50021"/>
                </a:solidFill>
                <a:latin typeface="Times New Roman"/>
              </a:rPr>
              <a:t>soluto en la fase móv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987640" y="1413000"/>
            <a:ext cx="1728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a50021"/>
                </a:solidFill>
                <a:latin typeface="Times New Roman"/>
              </a:rPr>
              <a:t>Entrada de solut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556000" y="321300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a50021"/>
                </a:solidFill>
                <a:latin typeface="Times New Roman"/>
              </a:rPr>
              <a:t>Salida de solu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932360" y="3213000"/>
            <a:ext cx="19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a50021"/>
                </a:solidFill>
                <a:latin typeface="Times New Roman"/>
              </a:rPr>
              <a:t>Acumulación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a50021"/>
                </a:solidFill>
                <a:latin typeface="Times New Roman"/>
              </a:rPr>
              <a:t>soluto en la fase estaciona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6566040" y="549360"/>
            <a:ext cx="2577960" cy="587988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 flipV="1">
            <a:off x="1042920" y="2707920"/>
            <a:ext cx="360360" cy="360360"/>
          </a:xfrm>
          <a:prstGeom prst="line">
            <a:avLst/>
          </a:prstGeom>
          <a:ln w="284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203640" y="2492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2916000" y="1989000"/>
            <a:ext cx="360360" cy="216000"/>
          </a:xfrm>
          <a:prstGeom prst="line">
            <a:avLst/>
          </a:prstGeom>
          <a:ln w="381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3564000" y="2708280"/>
            <a:ext cx="216000" cy="287280"/>
          </a:xfrm>
          <a:prstGeom prst="line">
            <a:avLst/>
          </a:prstGeom>
          <a:ln w="381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 flipV="1">
            <a:off x="5292720" y="2707920"/>
            <a:ext cx="71280" cy="289080"/>
          </a:xfrm>
          <a:prstGeom prst="line">
            <a:avLst/>
          </a:prstGeom>
          <a:ln w="284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24000" y="549360"/>
            <a:ext cx="5472000" cy="13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ndición de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lación Lineal 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CL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q</a:t>
            </a:r>
            <a:r>
              <a:rPr b="1" lang="es-CL" sz="2400" spc="-1" strike="noStrike" baseline="-30000">
                <a:solidFill>
                  <a:srgbClr val="cc0000"/>
                </a:solidFill>
                <a:latin typeface="Comic Sans MS"/>
                <a:ea typeface="Times New Roman"/>
              </a:rPr>
              <a:t>n</a:t>
            </a:r>
            <a:r>
              <a:rPr b="1" lang="es-CL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 = k C</a:t>
            </a:r>
            <a:r>
              <a:rPr b="1" lang="es-CL" sz="2400" spc="-1" strike="noStrike" baseline="-30000">
                <a:solidFill>
                  <a:srgbClr val="cc0000"/>
                </a:solidFill>
                <a:latin typeface="Comic Sans MS"/>
                <a:ea typeface="Times New Roman"/>
              </a:rPr>
              <a:t>n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6566040" y="549360"/>
            <a:ext cx="2577960" cy="587988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3203640" y="2492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4076640"/>
            <a:ext cx="4716360" cy="7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balance de masa qued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2484360" y="4861080"/>
                <a:ext cx="3090960" cy="13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τ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59" name=""/>
          <p:cNvGrpSpPr/>
          <p:nvPr/>
        </p:nvGrpSpPr>
        <p:grpSpPr>
          <a:xfrm>
            <a:off x="-8640" y="2133720"/>
            <a:ext cx="5949000" cy="1350360"/>
            <a:chOff x="-8640" y="2133720"/>
            <a:chExt cx="5949000" cy="1350360"/>
          </a:xfrm>
        </p:grpSpPr>
        <p:sp>
          <p:nvSpPr>
            <p:cNvPr id="260" name=""/>
            <p:cNvSpPr/>
            <p:nvPr/>
          </p:nvSpPr>
          <p:spPr>
            <a:xfrm>
              <a:off x="-8640" y="2133720"/>
              <a:ext cx="401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 define un  tiempo adimensional, </a:t>
              </a:r>
              <a:r>
                <a:rPr b="0" lang="es-C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r>
                <a:rPr b="0" lang="es-CL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1" name=""/>
                <p:cNvSpPr txBox="1"/>
                <p:nvPr/>
              </p:nvSpPr>
              <p:spPr>
                <a:xfrm>
                  <a:off x="3059280" y="2617560"/>
                  <a:ext cx="2881080" cy="866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τ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F</m:t>
                          </m:r>
                          <m:r>
                            <m:t xml:space="preserve">⋅</m:t>
                          </m:r>
                          <m:r>
                            <m:t xml:space="preserve">t</m:t>
                          </m:r>
                        </m:num>
                        <m:den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ξ</m:t>
                              </m:r>
                              <m:r>
                                <m:t xml:space="preserve">+</m:t>
                              </m:r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ξ</m:t>
                              </m:r>
                              <m:r>
                                <m:t xml:space="preserve">)</m:t>
                              </m:r>
                              <m:r>
                                <m:t xml:space="preserve">⋅</m:t>
                              </m:r>
                              <m:r>
                                <m:t xml:space="preserve">k</m:t>
                              </m:r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⋅</m:t>
                          </m:r>
                          <m:r>
                            <m:rPr>
                              <m:lit/>
                              <m:nor/>
                            </m:rPr>
                            <m:t xml:space="preserve">Ve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391968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72888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11280" y="692280"/>
            <a:ext cx="691344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diciones inici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 &lt;0  Cn = 0     n =1,2,....,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i) t=0  C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 C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6566040" y="549360"/>
            <a:ext cx="2577960" cy="5400720"/>
          </a:xfrm>
          <a:prstGeom prst="rect">
            <a:avLst/>
          </a:prstGeom>
          <a:ln w="0">
            <a:noFill/>
          </a:ln>
        </p:spPr>
      </p:pic>
      <p:grpSp>
        <p:nvGrpSpPr>
          <p:cNvPr id="266" name=""/>
          <p:cNvGrpSpPr/>
          <p:nvPr/>
        </p:nvGrpSpPr>
        <p:grpSpPr>
          <a:xfrm>
            <a:off x="0" y="3429000"/>
            <a:ext cx="6588000" cy="3177360"/>
            <a:chOff x="0" y="3429000"/>
            <a:chExt cx="6588000" cy="3177360"/>
          </a:xfrm>
        </p:grpSpPr>
        <p:sp>
          <p:nvSpPr>
            <p:cNvPr id="267" name=""/>
            <p:cNvSpPr/>
            <p:nvPr/>
          </p:nvSpPr>
          <p:spPr>
            <a:xfrm>
              <a:off x="0" y="3429000"/>
              <a:ext cx="6588000" cy="249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Luego de una aproximación se obtiene como solución una Función de Poisso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8" name=""/>
                <p:cNvSpPr txBox="1"/>
                <p:nvPr/>
              </p:nvSpPr>
              <p:spPr>
                <a:xfrm>
                  <a:off x="1476360" y="4724280"/>
                  <a:ext cx="3313080" cy="1119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⋅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f>
                            <m:num>
                              <m:sSup>
                                <m:e>
                                  <m:r>
                                    <m:t xml:space="preserve">τ</m:t>
                                  </m:r>
                                </m:e>
                                <m:sup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p>
                              <m:r>
                                <m:t xml:space="preserve">⋅</m:t>
                              </m:r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exp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τ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  <m:r>
                                <m:t xml:space="preserve">!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269" name=""/>
            <p:cNvSpPr/>
            <p:nvPr/>
          </p:nvSpPr>
          <p:spPr>
            <a:xfrm>
              <a:off x="875880" y="6165720"/>
              <a:ext cx="4727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s-CL" sz="20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s-CL" sz="2000" spc="-1" strike="noStrike">
                  <a:solidFill>
                    <a:srgbClr val="000000"/>
                  </a:solidFill>
                  <a:latin typeface="Times New Roman"/>
                </a:rPr>
                <a:t>: Concentración del pulso de aliment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7489080" y="404640"/>
            <a:ext cx="48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63852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4716360" y="0"/>
          <a:ext cx="3705480" cy="334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0"/>
                    <a:ext cx="3705480" cy="33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250920" y="260280"/>
            <a:ext cx="43210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unción de Pois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&lt;30: Distribución asimét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&gt; 30: función Gaussi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62120" y="3809880"/>
            <a:ext cx="7467480" cy="29124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Perfiles de concentración son Funciones Gaussianas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 C</a:t>
            </a:r>
            <a:r>
              <a:rPr b="1" lang="es-C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o</a:t>
            </a: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Concentración Max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CL" sz="2400" spc="-1" strike="noStrike">
                <a:solidFill>
                  <a:srgbClr val="a50021"/>
                </a:solidFill>
                <a:latin typeface="Symbol"/>
                <a:ea typeface="Symbol"/>
              </a:rPr>
              <a:t></a:t>
            </a:r>
            <a:r>
              <a:rPr b="1" lang="es-C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r>
              <a:rPr b="1" lang="es-C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desviación standard , </a:t>
            </a:r>
            <a:r>
              <a:rPr b="1" lang="es-CL" sz="2400" spc="-1" strike="noStrike">
                <a:solidFill>
                  <a:srgbClr val="a50021"/>
                </a:solidFill>
                <a:latin typeface="Symbol"/>
                <a:ea typeface="Symbol"/>
              </a:rPr>
              <a:t></a:t>
            </a:r>
            <a:r>
              <a:rPr b="1" lang="es-CL" sz="2400" spc="-1" strike="noStrike" baseline="30000">
                <a:solidFill>
                  <a:srgbClr val="a50021"/>
                </a:solidFill>
                <a:latin typeface="Symbol"/>
                <a:ea typeface="Symbol"/>
              </a:rPr>
              <a:t></a:t>
            </a:r>
            <a:r>
              <a:rPr b="1" lang="es-C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= 1/N</a:t>
            </a:r>
            <a:r>
              <a:rPr b="1" lang="es-CL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3330720" y="4403880"/>
                <a:ext cx="318600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τ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7" name=""/>
          <p:cNvSpPr/>
          <p:nvPr/>
        </p:nvSpPr>
        <p:spPr>
          <a:xfrm>
            <a:off x="6084720" y="1268280"/>
            <a:ext cx="201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56360" y="1268280"/>
            <a:ext cx="26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Función Gaussi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539640" y="1890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Perfiles de concentración Funciones Gaussianas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2251080" y="981000"/>
                <a:ext cx="4071960" cy="120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(</m:t>
                                </m:r>
                                <m:f>
                                  <m:num>
                                    <m:r>
                                      <m:t xml:space="preserve">V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e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⋅</m:t>
                                </m:r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2" name=""/>
          <p:cNvSpPr/>
          <p:nvPr/>
        </p:nvSpPr>
        <p:spPr>
          <a:xfrm>
            <a:off x="339552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1979640" y="2546280"/>
          <a:ext cx="4392720" cy="431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546280"/>
                    <a:ext cx="4392720" cy="431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"/>
          <p:cNvSpPr/>
          <p:nvPr/>
        </p:nvSpPr>
        <p:spPr>
          <a:xfrm>
            <a:off x="6516720" y="2924280"/>
            <a:ext cx="230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teinas individu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380880" y="380880"/>
            <a:ext cx="83059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Determinación del número de platos,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determinar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005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2612880" y="858960"/>
          <a:ext cx="1741680" cy="80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12880" y="858960"/>
                    <a:ext cx="1741680" cy="80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" name=""/>
          <p:cNvSpPr/>
          <p:nvPr/>
        </p:nvSpPr>
        <p:spPr>
          <a:xfrm>
            <a:off x="409572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4302000" y="1800360"/>
          <a:ext cx="1702080" cy="842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02000" y="1800360"/>
                    <a:ext cx="1702080" cy="84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"/>
          <p:cNvSpPr/>
          <p:nvPr/>
        </p:nvSpPr>
        <p:spPr>
          <a:xfrm>
            <a:off x="228600" y="2895480"/>
            <a:ext cx="86104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Determinación de la constante de la isoterma, 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ación de la constante k de la isoter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demostrar 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despejar k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60504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3022560" y="4224240"/>
          <a:ext cx="4064040" cy="576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22560" y="4224240"/>
                    <a:ext cx="406404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"/>
          <p:cNvSpPr/>
          <p:nvPr/>
        </p:nvSpPr>
        <p:spPr>
          <a:xfrm>
            <a:off x="403848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2641680" y="5402160"/>
          <a:ext cx="1877760" cy="92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41680" y="5402160"/>
                    <a:ext cx="187776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533520" y="457200"/>
            <a:ext cx="807696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blema 1</a:t>
            </a: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romatografía de B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0 g de BSA son eluidos desde una columna de 80 litros de Sephadex, con una fracción de huecos de 0.4. La proteína eluyó a los 470 litros, el máximo de concentración es de 1.8% de la concentración máxima que se inyect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im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constante de equilibrio con la cual se une la BSA al Sephad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número de platos de la colum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perfil de elución de BSA desde la columna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1828800" y="457200"/>
            <a:ext cx="5943240" cy="5866920"/>
            <a:chOff x="1828800" y="457200"/>
            <a:chExt cx="5943240" cy="5866920"/>
          </a:xfrm>
        </p:grpSpPr>
        <p:sp>
          <p:nvSpPr>
            <p:cNvPr id="58" name=""/>
            <p:cNvSpPr/>
            <p:nvPr/>
          </p:nvSpPr>
          <p:spPr>
            <a:xfrm>
              <a:off x="2375280" y="457200"/>
              <a:ext cx="5374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66"/>
                  </a:solidFill>
                  <a:uFillTx/>
                  <a:latin typeface="Comic Sans MS"/>
                </a:rPr>
                <a:t>Esquema de una Cromatografía en  Lecho Fij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9" name=""/>
            <p:cNvGraphicFramePr/>
            <p:nvPr/>
          </p:nvGraphicFramePr>
          <p:xfrm>
            <a:off x="1828800" y="1296000"/>
            <a:ext cx="5943240" cy="5028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28800" y="1296000"/>
                      <a:ext cx="5943240" cy="5028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5800" y="907920"/>
            <a:ext cx="8153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Las cromatografías en Lecho Fijo son procesos no estacionari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Se pueden 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lleva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r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 a cabo de tres form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38480" y="150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533520" y="4648320"/>
            <a:ext cx="8191440" cy="1741320"/>
            <a:chOff x="533520" y="4648320"/>
            <a:chExt cx="8191440" cy="1741320"/>
          </a:xfrm>
        </p:grpSpPr>
        <p:graphicFrame>
          <p:nvGraphicFramePr>
            <p:cNvPr id="64" name=""/>
            <p:cNvGraphicFramePr/>
            <p:nvPr/>
          </p:nvGraphicFramePr>
          <p:xfrm>
            <a:off x="5638680" y="4724280"/>
            <a:ext cx="3086280" cy="1665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638680" y="4724280"/>
                      <a:ext cx="3086280" cy="1665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533520" y="4648320"/>
              <a:ext cx="4190760" cy="169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 u="sng">
                  <a:solidFill>
                    <a:srgbClr val="990033"/>
                  </a:solidFill>
                  <a:uFillTx/>
                  <a:latin typeface="Comic Sans MS"/>
                </a:rPr>
                <a:t>Cromatografía de </a:t>
              </a:r>
              <a:r>
                <a:rPr b="1" lang="es-ES" sz="2400" spc="-1" strike="noStrike" u="sng">
                  <a:solidFill>
                    <a:srgbClr val="990033"/>
                  </a:solidFill>
                  <a:uFillTx/>
                  <a:latin typeface="Comic Sans MS"/>
                </a:rPr>
                <a:t>Eluc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a50021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a50021"/>
                  </a:solidFill>
                  <a:latin typeface="Comic Sans MS"/>
                </a:rPr>
                <a:t>Inyecta una muestra y luego se aplican condiciones que las proteínas eluyan en forma diferenci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685800" y="2057400"/>
            <a:ext cx="8172360" cy="2269440"/>
            <a:chOff x="685800" y="2057400"/>
            <a:chExt cx="8172360" cy="2269440"/>
          </a:xfrm>
        </p:grpSpPr>
        <p:graphicFrame>
          <p:nvGraphicFramePr>
            <p:cNvPr id="68" name=""/>
            <p:cNvGraphicFramePr/>
            <p:nvPr/>
          </p:nvGraphicFramePr>
          <p:xfrm>
            <a:off x="5410080" y="2057400"/>
            <a:ext cx="3448080" cy="2116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410080" y="2057400"/>
                      <a:ext cx="3448080" cy="211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0" name=""/>
            <p:cNvSpPr/>
            <p:nvPr/>
          </p:nvSpPr>
          <p:spPr>
            <a:xfrm>
              <a:off x="685800" y="2209680"/>
              <a:ext cx="4495680" cy="21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 u="sng">
                  <a:solidFill>
                    <a:srgbClr val="990033"/>
                  </a:solidFill>
                  <a:uFillTx/>
                  <a:latin typeface="Comic Sans MS"/>
                </a:rPr>
                <a:t>Análisis Frontal</a:t>
              </a:r>
              <a:r>
                <a:rPr b="1" lang="es-ES_tradnl" sz="2400" spc="-1" strike="noStrike" u="sng">
                  <a:solidFill>
                    <a:srgbClr val="990033"/>
                  </a:solidFill>
                  <a:uFillTx/>
                  <a:latin typeface="Comic Sans MS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3333cc"/>
                  </a:solidFill>
                  <a:latin typeface="Comic Sans MS"/>
                </a:rPr>
                <a:t>Se alimenta constantemente la columna </a:t>
              </a:r>
              <a:r>
                <a:rPr b="0" lang="es-ES_tradnl" sz="18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3333cc"/>
                  </a:solidFill>
                  <a:latin typeface="Comic Sans MS"/>
                </a:rPr>
                <a:t>hasta que se satura, se utiliza para caracterizar la capacidad de la columna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755640" y="228600"/>
            <a:ext cx="748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3333cc"/>
                </a:solidFill>
                <a:uFillTx/>
                <a:latin typeface="Comic Sans MS"/>
              </a:rPr>
              <a:t>Tipos de llevar a cabo una cromatografía en lecho fi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80880" y="990720"/>
            <a:ext cx="54864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990033"/>
                </a:solidFill>
                <a:uFillTx/>
                <a:latin typeface="Comic Sans MS"/>
              </a:rPr>
              <a:t>Cromatografía de substitución (NUEV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En este proceso la fase móvil contiene un compuesto (displacer) que se retiene más fuertemente que los componentes de la muestra en estudio, luego las desplaz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La muestra se adiciona en un volumen fin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La principal desventaja es que los solutos no pueden eluir en forma discreta y cada soluto está siempre contaminado por sus vecin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141300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659640" y="1125360"/>
            <a:ext cx="151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ffer + displac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156360" y="1916280"/>
            <a:ext cx="2117520" cy="37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57200" y="0"/>
            <a:ext cx="792468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AAnálisis Fron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r>
              <a:rPr b="0" lang="es-ES" sz="18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Curva de Ruptura ( Breakthrough curv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SSe alimenta constantemente la columna hasta que se satura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826920" y="1881360"/>
          <a:ext cx="7848720" cy="41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881360"/>
                    <a:ext cx="7848720" cy="41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533520" y="5972040"/>
            <a:ext cx="861048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 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</a:t>
            </a:r>
            <a:r>
              <a:rPr b="0" lang="es-ES" sz="1600" spc="-1" strike="noStrike" baseline="-30000">
                <a:solidFill>
                  <a:srgbClr val="a50021"/>
                </a:solidFill>
                <a:latin typeface="Comic Sans MS"/>
                <a:ea typeface="Times New Roman"/>
              </a:rPr>
              <a:t>R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: Tiempo de quiebre donde</a:t>
            </a:r>
            <a:r>
              <a:rPr b="0" lang="es-ES_tradnl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se empieza a saturar la colum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</a:t>
            </a:r>
            <a:r>
              <a:rPr b="0" lang="es-ES" sz="1600" spc="-1" strike="noStrike" baseline="-30000">
                <a:solidFill>
                  <a:srgbClr val="a50021"/>
                </a:solidFill>
                <a:latin typeface="Comic Sans MS"/>
                <a:ea typeface="Times New Roman"/>
              </a:rPr>
              <a:t>S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: Tiempo cuando la columna</a:t>
            </a:r>
            <a:r>
              <a:rPr b="0" lang="es-ES_tradnl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est</a:t>
            </a:r>
            <a:r>
              <a:rPr b="0" lang="es-ES_tradnl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á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completamente saturada y es completamente ineficiente.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304920"/>
            <a:ext cx="769608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2120" y="22860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S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e utiliza para caracterizar la capacidad de la columna.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Dado que la forma de la curva influye fuertemente el diseño y operación de la column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137160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El área bajo la curva es la cantidad de soluto que se ha perdido en el efluente, luego se hace necesario detener el proceso antes que el lecho quede completamente satur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2438280" y="2590920"/>
            <a:ext cx="4190760" cy="3657600"/>
            <a:chOff x="2438280" y="2590920"/>
            <a:chExt cx="4190760" cy="3657600"/>
          </a:xfrm>
        </p:grpSpPr>
        <p:graphicFrame>
          <p:nvGraphicFramePr>
            <p:cNvPr id="84" name=""/>
            <p:cNvGraphicFramePr/>
            <p:nvPr/>
          </p:nvGraphicFramePr>
          <p:xfrm>
            <a:off x="2438280" y="2590920"/>
            <a:ext cx="4190760" cy="3657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38280" y="2590920"/>
                      <a:ext cx="4190760" cy="365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6" name=""/>
            <p:cNvSpPr/>
            <p:nvPr/>
          </p:nvSpPr>
          <p:spPr>
            <a:xfrm>
              <a:off x="3898440" y="4038480"/>
              <a:ext cx="1265760" cy="68580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304920"/>
            <a:ext cx="769608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3886200"/>
            <a:ext cx="792504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La predicción de la curva, permite diseñar columnas par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·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Alcanzar cierto grado de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recup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·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Estimar pérd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·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Dimensionar la columna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, así se determina la cantidad de resina y el tiempo requerido para la adsorción de una cantidad determinada de solu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4952880" y="228600"/>
            <a:ext cx="3810240" cy="3498840"/>
            <a:chOff x="4952880" y="228600"/>
            <a:chExt cx="3810240" cy="3498840"/>
          </a:xfrm>
        </p:grpSpPr>
        <p:graphicFrame>
          <p:nvGraphicFramePr>
            <p:cNvPr id="90" name=""/>
            <p:cNvGraphicFramePr/>
            <p:nvPr/>
          </p:nvGraphicFramePr>
          <p:xfrm>
            <a:off x="4952880" y="228600"/>
            <a:ext cx="3810240" cy="3498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952880" y="228600"/>
                      <a:ext cx="3810240" cy="3498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2" name=""/>
            <p:cNvSpPr/>
            <p:nvPr/>
          </p:nvSpPr>
          <p:spPr>
            <a:xfrm flipV="1">
              <a:off x="6324480" y="1066680"/>
              <a:ext cx="533520" cy="7596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6552720" y="2514600"/>
              <a:ext cx="685800" cy="7632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28600" y="1143000"/>
            <a:ext cx="44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Esto produce el inconvenientes que se desaprovecha una parte de la capacidad del lech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2:24:41Z</dcterms:created>
  <dc:creator>Maria Elena Lienqueo C.</dc:creator>
  <dc:description/>
  <dc:language>en-US</dc:language>
  <cp:lastModifiedBy>Maria Elena Lienqueo</cp:lastModifiedBy>
  <dcterms:modified xsi:type="dcterms:W3CDTF">2006-08-28T02:20:33Z</dcterms:modified>
  <cp:revision>129</cp:revision>
  <dc:subject/>
  <dc:title>Separación Sólido-Líquido</dc:title>
</cp:coreProperties>
</file>