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7DC-0247-43A5-893F-F6668FFD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5F4-C58D-43B3-95A5-2C364A9D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FF9-0DA2-4108-8FD9-C6D17DF1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F6C-55E2-4297-83D7-B8681174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AFA-C023-4498-8422-E660F72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740-DCBE-452F-904B-B3277F7D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71A-132C-4933-837A-F0CDAE63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8EE-67A3-4EE5-A698-170B092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7DD-6B70-4642-8339-985891CB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508-7D84-4016-B3C0-D0D37B34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09C-2FEC-4A3E-B588-687E027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213-87A4-4CFE-B2EF-F4347D9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331B-7ADC-4EFE-A80B-913408974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6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7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0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1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3T21:49:09Z</dcterms:modified>
  <cp:revision>98</cp:revision>
  <dc:subject/>
  <dc:title>Separación Sólido-Líquido</dc:title>
</cp:coreProperties>
</file>