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A13-7EA0-4BC8-AFE0-8C37FBA3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F03-B432-4253-A4A5-27C18999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44E-63AD-45D5-B946-94BF85B1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B15-7120-4CDB-9301-F873CF46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B4F-F671-4E7E-8778-877628FB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E6E-1994-437C-BDB5-17FC5129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CAD-0DD4-414F-87B2-4BB65EA8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897-1C62-4A72-85D9-1732D7C7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C30-E1D2-4536-A16D-A1A0C770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F95-2AD5-4751-B115-BC25617A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DC8-9DF6-4CB0-9E0D-CD8ACF0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97A-84CF-4252-AC17-6A040667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2EDD-4DD9-48CC-9A04-285DE240A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6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7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0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1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3T21:49:09Z</dcterms:modified>
  <cp:revision>98</cp:revision>
  <dc:subject/>
  <dc:title>Separación Sólido-Líquido</dc:title>
</cp:coreProperties>
</file>