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4FBD-954D-4A2D-B43B-DC55BD68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8CEA-2343-4E3E-BCC5-95154708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2DE1-0D46-442E-B5E2-0D13032A7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64D1-CDD1-45AE-9B25-8F096D70E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5141-DD19-4601-B820-AC37A5C4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BC26-5865-432E-8592-06BE9493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3EB0-0BB1-4862-939C-EB372466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6DFE-C034-4F89-8D11-4E64E77C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EAC1-7EEE-4725-BEC4-BAB2234E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C3FF-7408-40E6-8F23-0D80A082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6005-084D-4B62-AB99-5C570078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DD83-2F08-4B93-9115-EBB4BE69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046D-8222-4A23-8F3F-4F5994F2583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ilt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457200"/>
            <a:ext cx="44960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duce cuando un conjunto de partículas coloidales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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) que poseen carga superficial se mantienen en una suspensión estable, sin que se producta una sedi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ayudar al proceso de sedimentación se adicionan agentes que modifican la carga superficial anulando las repulsiones y generando interacciones del tipo van der Waa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que se utilizan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ones polivalente Fe, Ca,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mbios de pH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228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n Fil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34120" y="609480"/>
          <a:ext cx="3429000" cy="57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609480"/>
                    <a:ext cx="342900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74600"/>
            <a:ext cx="853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Floc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mueve la formación de puentes de hidrógeno entre partículas adyacentes o coagulo. Con lo cual se forman redes que van atrapando al resto de las molé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utilizados son polielectrólitos de alto peso molecular, del tipo catiónico, aniónico o neutro. De origen sintético o natural. Algunos ejemp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intético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Natu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crilamid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mid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mina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rivados de las Celulosas (CMC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etilenimin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. Algi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uro de Polidialildimetil amonio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glucosilami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1600200"/>
            <a:ext cx="79246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umento en la velocidad de filtración, sedimentación y centrifug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 den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x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s efectos adversos en las etapas siguientes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74600"/>
            <a:ext cx="85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dsor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oadyuvantes de filtración (ayudantes de filtración) son compuestos (tierras diatomeas o “kieselguhr”) que permiten mejorar la eficiencia de la filtración.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ementos  que presentan una alta poros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ilita la velocidad de filtración a través del lech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14400" y="2286000"/>
          <a:ext cx="6989760" cy="43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0"/>
                    <a:ext cx="698976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74600"/>
            <a:ext cx="8534520" cy="56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aplicar de dos man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-recubrimiento del medio filtrant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evitar el bloqueo del filtro por los sólidos que de otra manera se apelotonarían en los poros del medio filtr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ñadir al cald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fermentación con el fin de aumentar la porosidad de la torta a medida que se ha forman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comienda cuando el producto es extracel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rata de un producto intracelular se debe hacer un postratamiento (desorción de las célul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746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76160" y="214200"/>
            <a:ext cx="75916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46240" y="380880"/>
          <a:ext cx="435132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40" y="380880"/>
                    <a:ext cx="43513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952880" y="1219320"/>
            <a:ext cx="3353040" cy="57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Costo de las tierras diatomeas, se debe determinar la cantidad experimenta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Adsorben líquido, si el producto es extracelular se pierde una pa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Disminuye la claridad del filt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Disposición final de los desechos con material celular es más difícil si contiene este tipo de agentes.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74600"/>
            <a:ext cx="7086600" cy="62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de un filtro batch se basa en la Ley de Darcy, donde se determina la velocidad, v, de un fluido al pasar por un lecho sólido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me mantiene un Reyn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: constante de permeabilidad de la ley de Dar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: Caída de presión en 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: Ancho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Viscosidad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l líqu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 Fracción de huecos en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438280" y="2133720"/>
                <a:ext cx="14479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181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590920" y="3581280"/>
                <a:ext cx="162864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105520" y="3886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019920" y="2286000"/>
          <a:ext cx="312408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286000"/>
                    <a:ext cx="31240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74600"/>
            <a:ext cx="838224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la velocidad v,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:Volumen total de filtrado desde el comienzo del cic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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rea transversal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Flujo de líquido a través 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lviendo a la ecuación (1), se puede definir la resistencia al paso del líqui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133720" y="914400"/>
                <a:ext cx="1911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46483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362320" y="3352680"/>
                <a:ext cx="2052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51055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419720"/>
            <a:ext cx="297180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esistencia de la torta, que será función del Volumen filtrado (V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4648320"/>
            <a:ext cx="2133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del medio Filtrante, que es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525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5334120"/>
            <a:ext cx="990720" cy="75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952520" y="4724280"/>
            <a:ext cx="1295640" cy="152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200400" y="40384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0384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304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752480" y="2514600"/>
                <a:ext cx="3381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905120" y="914400"/>
                <a:ext cx="28969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380880" y="1752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7712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57200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iltración de sólidos incompresibles es un proceso clásico y resulta sencillo, pero los m.o  presenta problemas. 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quiere de tratamientos adicionales que hagan el proceso  más rápido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09480"/>
            <a:ext cx="54104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ación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fini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ción del sólido desde el líquido que es forzado (por presión o vacío) a pasar a través de un medio filtrante que retiene las partículas. Los sólidos se depositan en el filtro y a medida que el depósito (torta) aumenta de espesor  opone mayor resistencia  a l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905440" y="533520"/>
          <a:ext cx="323856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5440" y="533520"/>
                    <a:ext cx="32385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74600"/>
            <a:ext cx="83822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In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ancho de la torta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roporcional al volumen filt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Inversamente proporcional al área de fil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: Masa de torta por unidad de volumen filt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específica de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ecuación de diseño que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676520" y="2590920"/>
                <a:ext cx="28969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579132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600200" y="5257800"/>
                <a:ext cx="4076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601992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477120" y="31240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1240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17460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ific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en condiciones donde t=0   V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676520" y="838080"/>
                <a:ext cx="32065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ΔP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474920" y="2552760"/>
                <a:ext cx="3611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ΔP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563868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38080" y="3276720"/>
            <a:ext cx="8610840" cy="2882880"/>
            <a:chOff x="838080" y="3276720"/>
            <a:chExt cx="8610840" cy="2882880"/>
          </a:xfrm>
        </p:grpSpPr>
        <p:sp>
          <p:nvSpPr>
            <p:cNvPr id="218" name=""/>
            <p:cNvSpPr/>
            <p:nvPr/>
          </p:nvSpPr>
          <p:spPr>
            <a:xfrm>
              <a:off x="4876920" y="4952880"/>
              <a:ext cx="152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34120" y="34290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t/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4680" y="57913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/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1" name=""/>
                <p:cNvSpPr txBox="1"/>
                <p:nvPr/>
              </p:nvSpPr>
              <p:spPr>
                <a:xfrm>
                  <a:off x="838080" y="4572000"/>
                  <a:ext cx="223848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r>
                            <m:t xml:space="preserve">α</m:t>
                          </m:r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ΔP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222" name=""/>
            <p:cNvGrpSpPr/>
            <p:nvPr/>
          </p:nvGrpSpPr>
          <p:grpSpPr>
            <a:xfrm>
              <a:off x="6172200" y="3276720"/>
              <a:ext cx="2971800" cy="2361960"/>
              <a:chOff x="6172200" y="3276720"/>
              <a:chExt cx="2971800" cy="2361960"/>
            </a:xfrm>
          </p:grpSpPr>
          <p:sp>
            <p:nvSpPr>
              <p:cNvPr id="223" name=""/>
              <p:cNvSpPr/>
              <p:nvPr/>
            </p:nvSpPr>
            <p:spPr>
              <a:xfrm>
                <a:off x="6172200" y="3276720"/>
                <a:ext cx="2743200" cy="2361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6172200" y="3352320"/>
                <a:ext cx="2209680" cy="175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7010280" y="4114800"/>
                <a:ext cx="456840" cy="304920"/>
                <a:chOff x="7010280" y="4114800"/>
                <a:chExt cx="456840" cy="3049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10280" y="441972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467120" y="41148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7467480" y="4114800"/>
                <a:ext cx="16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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*C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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3505320" y="4724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86000" y="1981080"/>
                <a:ext cx="28828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685800" y="1066680"/>
            <a:ext cx="7924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tor de compresibilidad</a:t>
            </a:r>
            <a:r>
              <a:rPr b="1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</a:t>
            </a:r>
            <a:r>
              <a:rPr b="1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laciona con las propiedades promedios de las partículas que forman la tor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2819520"/>
            <a:ext cx="792468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factor que depende de la forma de las partículas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superficie específica de las partícu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porosidad de la torta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s parti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286000" y="4419720"/>
                <a:ext cx="34290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perficie de una partícul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990720" y="5562720"/>
                <a:ext cx="6789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umen total de la torta- Volumen de sólidos en la tort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304920" y="0"/>
            <a:ext cx="86104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rán las tortas formadas por materiales biólogicos? ¿por qu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74600"/>
            <a:ext cx="8382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alizando la dependencia con la presión se tiene que el Factor  de compresibilidad o resistencia específica de la torta, resulta s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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nstante relacionada con el tamaño y forma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s: Compresibilidad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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In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altamente compresible, se requiere uso de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362320" y="2209680"/>
                <a:ext cx="16858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α</m:t>
                        </m:r>
                      </m:e>
                      <m:sup/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ΔP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5181480" y="22096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174600"/>
            <a:ext cx="838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 calcula la compresibilidad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cam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371600" y="4419720"/>
                <a:ext cx="48308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/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ΔP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9" name=""/>
          <p:cNvGrpSpPr/>
          <p:nvPr/>
        </p:nvGrpSpPr>
        <p:grpSpPr>
          <a:xfrm>
            <a:off x="3352680" y="1066680"/>
            <a:ext cx="2819160" cy="1981440"/>
            <a:chOff x="3352680" y="1066680"/>
            <a:chExt cx="2819160" cy="1981440"/>
          </a:xfrm>
        </p:grpSpPr>
        <p:sp>
          <p:nvSpPr>
            <p:cNvPr id="250" name=""/>
            <p:cNvSpPr/>
            <p:nvPr/>
          </p:nvSpPr>
          <p:spPr>
            <a:xfrm>
              <a:off x="3352680" y="1066680"/>
              <a:ext cx="2602440" cy="1981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352680" y="1130400"/>
              <a:ext cx="2096280" cy="147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4147560" y="1769760"/>
              <a:ext cx="433080" cy="255600"/>
              <a:chOff x="4147560" y="1769760"/>
              <a:chExt cx="433080" cy="255600"/>
            </a:xfrm>
          </p:grpSpPr>
          <p:sp>
            <p:nvSpPr>
              <p:cNvPr id="253" name=""/>
              <p:cNvSpPr/>
              <p:nvPr/>
            </p:nvSpPr>
            <p:spPr>
              <a:xfrm>
                <a:off x="4147560" y="2025360"/>
                <a:ext cx="43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580640" y="176976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4581360" y="176976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5257800" y="3200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1295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19520" y="2514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Log </a:t>
            </a:r>
            <a:r>
              <a:rPr b="1" lang="en-US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174600"/>
            <a:ext cx="838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y reordenan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467480" y="1295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209680" y="3581280"/>
            <a:ext cx="5572080" cy="876240"/>
            <a:chOff x="2209680" y="3581280"/>
            <a:chExt cx="5572080" cy="876240"/>
          </a:xfrm>
        </p:grpSpPr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2209680" y="3581280"/>
                  <a:ext cx="235404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α</m:t>
                              </m:r>
                            </m:e>
                            <m:sup/>
                          </m:sSup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ΔP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68" name=""/>
            <p:cNvSpPr/>
            <p:nvPr/>
          </p:nvSpPr>
          <p:spPr>
            <a:xfrm>
              <a:off x="6867360" y="36572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752480" y="1066680"/>
                <a:ext cx="49863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∗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609480" y="29718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0880" y="533520"/>
            <a:ext cx="84582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1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ización en Labora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han realizado ensayos de laboratorio con un filtro batch de 3 c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área, los que han demostrado que pueden filtrarse </a:t>
            </a: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30 mL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4.5 min con una caída de presión de 5 psi, y que la torta de microorganismos es compresible con s = 0,5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tir de los datos 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sayo de labor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657600" y="2971800"/>
          <a:ext cx="5114880" cy="33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971800"/>
                    <a:ext cx="511488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50920" y="4941720"/>
            <a:ext cx="38163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Si se desean filtrar 500 litros  del caldo en 1 hora. ¿ Qué tamaño de filtro se necesita si la caída de presión es 5 y 10 psi? CO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211640" y="765000"/>
                <a:ext cx="23544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1619280" y="2781360"/>
          <a:ext cx="5770440" cy="3719520"/>
        </p:xfrm>
        <a:graphic>
          <a:graphicData uri="http://schemas.openxmlformats.org/drawingml/2006/table">
            <a:tbl>
              <a:tblPr/>
              <a:tblGrid>
                <a:gridCol w="1257120"/>
                <a:gridCol w="712800"/>
                <a:gridCol w="949320"/>
                <a:gridCol w="949320"/>
                <a:gridCol w="951120"/>
                <a:gridCol w="950760"/>
              </a:tblGrid>
              <a:tr h="276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ída de presión (mmH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umen filtrado (m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empo 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540720" y="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Ejemplo 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476280"/>
            <a:ext cx="820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 filtran una muestra de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Streptomyces griseu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en forma filamentosa, en un pequeño filtro de laboratorio con un área de 1.8 c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 La masa de sólidos húmedos por mL de filtrado es 0.1 g mL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para el cultivo filamentoso. La viscosidad del filtrado es 1.4 cP. Se han realizado cinco experimentos de filtración a diferentes presiones con cada suspensión, obteniéndose los siguientes resultad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00000" y="836640"/>
            <a:ext cx="770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p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lcular las resistencias específicas de la torta en función de la presión (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lcular la compresibilidad del cultivo (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utiliza un filtro de prensa con un área de 15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para procesar 20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cultivo filamentoso de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S. griseu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Si la filtración  debe realizarse en una hora, ¿qué diferencia de presión se debe aplic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0880" y="174600"/>
            <a:ext cx="708660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arámetros de Diseño del Fil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do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: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istencia del medio: R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l sistema a fil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mpres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torta por volumen de filt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508640" cy="395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0" y="1828800"/>
          <a:ext cx="4419720" cy="332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441972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80880" y="174600"/>
            <a:ext cx="8763120" cy="71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2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Batch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caracterizar las resistencias tanto de un medio filtrante como la resistencia de la torta que se forma al filtrar una suspensión de levaduras. Para ello se llevaron a cabo diferentes pruebas de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características del sistema fueron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3 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001 N s/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sólido seco por volumen de filtrado : 10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pruebas se realizaron a 4 caídas de presión diferentes. Los datos de cada corrida fueron correlacionados con la ecuación de diseño obteniéndose  los siguientes resultado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Rm/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2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At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6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3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4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40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5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 Atm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80880" y="990720"/>
            <a:ext cx="830592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base a estos da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 la torta y el índice de compresibilidad de la t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n procesar 3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una suspensión, igual  a la antes estudiada, para ello se utilizara un filtro prensa con 5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 área y una caída de presión de 2,5 Atm. Determine el tiempo necesario para dich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095880" cy="47642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057400" y="38088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 (Rot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28600" y="106200"/>
            <a:ext cx="891540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roceso de filtración consiste en 3 etap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Descarte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495440" y="4019400"/>
                <a:ext cx="2546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2922480"/>
            <a:ext cx="7162560" cy="38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siderando tortas 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y resistencia del medio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el tiempo de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el filtrado colect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5029200" y="1447920"/>
          <a:ext cx="41148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447920"/>
                    <a:ext cx="4114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5410080" y="50292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Velocidades de rotación bajas : 0.1-2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28600" y="533520"/>
            <a:ext cx="89154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considera que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sólo una fracción del tiempo total del ciclo de filtr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 </a:t>
            </a: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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*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epende de la velocidad de ROTACION del 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3124080" y="2666880"/>
                <a:ext cx="2835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ΔP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μ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/>
                                </m:sSup>
                                <m:r>
                                  <m:t xml:space="preserve">⋅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228600" y="3886200"/>
            <a:ext cx="891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puede modificar el tiempo de formación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28600" y="533520"/>
            <a:ext cx="891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torta contiene una cantidad significativa de solución rica en líquido de culti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objetivo de lavar cumple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Remover la solución rica atrapada en los poros del fil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ermite la difusión del soluto fuero de la bio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variables que se manejan en el lavado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Cantidad de agua requerida para el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Tiempo necesario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57200" y="304920"/>
            <a:ext cx="8686800" cy="64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ntidad de agu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controlada por la fracción de material soluble remanente en la torta des´pués del lav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empi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 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avó complet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(1-</a:t>
            </a:r>
            <a:r>
              <a:rPr b="1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</a:t>
            </a:r>
            <a:r>
              <a:rPr b="1" lang="es-MX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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o fue ú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: razón entre la cantidad de material soluble en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:  volumen de líquido de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)/ volumen de líquido remanente en la torta (V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= 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Eficiencia, función del 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determinar “N” y desde allí el volumen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9880" y="3048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(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57200" y="609480"/>
            <a:ext cx="7924680" cy="51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iempo de lavado, 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líquido de lavado no adicionado sólidos, así el flujo de lavado debe ser constante e igual al flujo de filtrante al final de la formación de la tor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cumpl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tiempo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755720" y="3571920"/>
                <a:ext cx="40496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  <m:sPre>
                          <m:sub>
                            <m:r>
                              <m:t xml:space="preserve">f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6858000" y="3886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04920" y="304920"/>
            <a:ext cx="8534160" cy="47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jemp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Filtro rot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á utilizando un filtro rotatorio de vacío para filtrar una suspensión de bacterias. El filtro posee un diámetro de 1,5 m y un ancho de 1,2 m. La caída de presión se mantiene constante a 4,5 psi y el filtro opera con el 30% de la tela filtrante sumergida. La resistencia debido al medio filtrante puede considerarse despreciab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ar el área necesaria 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1 hora. Asuma que el sistema tiene las características son tales qu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= 8209 (s *psi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la velocidad de rotación del tambor, en rph, necesaria 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04920" y="304920"/>
            <a:ext cx="8534160" cy="32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 de los fil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s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os costos dependen directamente del área de filtrado, A, e incluyen accesorios como bombas y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a información se puede obtener en catálogos o por estimaciones desde libros como Perry Manual del Ing. Quím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05520" y="2819520"/>
            <a:ext cx="32763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33"/>
                </a:solidFill>
                <a:uFillTx/>
                <a:latin typeface="Comic Sans MS"/>
              </a:rPr>
              <a:t>Costos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Depende de la presión de trabajo, lo cual se traduce en los gastos de las bomb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80880" y="617220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Perry Manual del Ing. Quí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28600" y="2514600"/>
          <a:ext cx="42768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14600"/>
                    <a:ext cx="42768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76320" y="1523880"/>
            <a:ext cx="9220320" cy="4662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05120" y="457200"/>
            <a:ext cx="60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457200" y="368280"/>
            <a:ext cx="81644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6240" y="0"/>
            <a:ext cx="3525840" cy="419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524480" y="0"/>
          <a:ext cx="461952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24480" y="0"/>
                    <a:ext cx="46195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57200" y="4124160"/>
          <a:ext cx="4114800" cy="273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24160"/>
                    <a:ext cx="4114800" cy="27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172200" y="2438280"/>
          <a:ext cx="2400480" cy="406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438280"/>
                    <a:ext cx="24004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90760" y="938160"/>
            <a:ext cx="4362480" cy="4981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60200" y="228600"/>
            <a:ext cx="178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Tub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tinu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915080" y="1752480"/>
            <a:ext cx="4228920" cy="330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0" y="1523880"/>
          <a:ext cx="4591080" cy="349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3880"/>
                    <a:ext cx="45910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457200" y="56386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Rotatorio al vac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28600" y="0"/>
            <a:ext cx="8915040" cy="6858000"/>
            <a:chOff x="228600" y="0"/>
            <a:chExt cx="8915040" cy="6858000"/>
          </a:xfrm>
        </p:grpSpPr>
        <p:grpSp>
          <p:nvGrpSpPr>
            <p:cNvPr id="68" name=""/>
            <p:cNvGrpSpPr/>
            <p:nvPr/>
          </p:nvGrpSpPr>
          <p:grpSpPr>
            <a:xfrm>
              <a:off x="233280" y="3240"/>
              <a:ext cx="8904960" cy="6850440"/>
              <a:chOff x="233280" y="3240"/>
              <a:chExt cx="8904960" cy="685044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233280" y="3240"/>
                <a:ext cx="8904960" cy="550440"/>
                <a:chOff x="233280" y="3240"/>
                <a:chExt cx="8904960" cy="5504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277560" y="3240"/>
                  <a:ext cx="881604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Batc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33280" y="3240"/>
                  <a:ext cx="890496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233280" y="553680"/>
                <a:ext cx="1861920" cy="1785600"/>
                <a:chOff x="233280" y="553680"/>
                <a:chExt cx="1861920" cy="1785600"/>
              </a:xfrm>
            </p:grpSpPr>
            <p:grpSp>
              <p:nvGrpSpPr>
                <p:cNvPr id="73" name=""/>
                <p:cNvGrpSpPr/>
                <p:nvPr/>
              </p:nvGrpSpPr>
              <p:grpSpPr>
                <a:xfrm>
                  <a:off x="277560" y="553680"/>
                  <a:ext cx="1775520" cy="1785600"/>
                  <a:chOff x="277560" y="553680"/>
                  <a:chExt cx="1775520" cy="178560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277560" y="553680"/>
                    <a:ext cx="1775520" cy="91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lacas y Marcos Más Comú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77560" y="1104120"/>
                    <a:ext cx="1775520" cy="123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" name=""/>
                <p:cNvSpPr/>
                <p:nvPr/>
              </p:nvSpPr>
              <p:spPr>
                <a:xfrm>
                  <a:off x="233280" y="553680"/>
                  <a:ext cx="1861920" cy="14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095560" y="553680"/>
                <a:ext cx="4310280" cy="1790280"/>
                <a:chOff x="2095560" y="553680"/>
                <a:chExt cx="4310280" cy="179028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140200" y="553680"/>
                  <a:ext cx="422064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tiene septas de metal donde se form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tener un medio filtrante, Papel o Pañ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, pues se debe descargar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095560" y="553680"/>
                  <a:ext cx="43102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6406560" y="553680"/>
                <a:ext cx="2731680" cy="1790280"/>
                <a:chOff x="6406560" y="553680"/>
                <a:chExt cx="2731680" cy="17902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6450840" y="553680"/>
                  <a:ext cx="264276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ra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 se puede utilizar con productos tóxicos ni gas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406560" y="553680"/>
                  <a:ext cx="27316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33280" y="2344320"/>
                <a:ext cx="1861920" cy="964080"/>
                <a:chOff x="233280" y="2344320"/>
                <a:chExt cx="1861920" cy="9640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77560" y="2344320"/>
                  <a:ext cx="177300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lacas Horizont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33280" y="2344320"/>
                  <a:ext cx="186192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095560" y="2344320"/>
                <a:ext cx="4310280" cy="964080"/>
                <a:chOff x="2095560" y="2344320"/>
                <a:chExt cx="4310280" cy="9640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40200" y="2344320"/>
                  <a:ext cx="422064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utiliza en pequeña esca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095560" y="2344320"/>
                  <a:ext cx="43102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6406560" y="2344320"/>
                <a:ext cx="2731680" cy="964080"/>
                <a:chOff x="6406560" y="2344320"/>
                <a:chExt cx="2731680" cy="9640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6450840" y="2344320"/>
                  <a:ext cx="264276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hacerse continuo, introduciendo una hoja que remuev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406560" y="2344320"/>
                  <a:ext cx="27316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233280" y="3308400"/>
                <a:ext cx="1861920" cy="963720"/>
                <a:chOff x="233280" y="3308400"/>
                <a:chExt cx="1861920" cy="9637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277560" y="3308400"/>
                  <a:ext cx="177300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jas Vertic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33280" y="3308400"/>
                  <a:ext cx="186192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095560" y="3308400"/>
                <a:ext cx="4310280" cy="963720"/>
                <a:chOff x="2095560" y="3308400"/>
                <a:chExt cx="4310280" cy="963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140200" y="3308400"/>
                  <a:ext cx="422064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ee una alta área de filtración por volum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095560" y="3308400"/>
                  <a:ext cx="43102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6406560" y="3308400"/>
                <a:ext cx="2731680" cy="963720"/>
                <a:chOff x="6406560" y="3308400"/>
                <a:chExt cx="2731680" cy="963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6450840" y="3308400"/>
                  <a:ext cx="264276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quiere poco superfici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406560" y="3308400"/>
                  <a:ext cx="27316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33280" y="4272480"/>
                <a:ext cx="1861920" cy="687960"/>
                <a:chOff x="233280" y="4272480"/>
                <a:chExt cx="1861920" cy="6879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77560" y="4272480"/>
                  <a:ext cx="177300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Ve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33280" y="4272480"/>
                  <a:ext cx="186192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2095560" y="4272480"/>
                <a:ext cx="4310280" cy="687960"/>
                <a:chOff x="2095560" y="4272480"/>
                <a:chExt cx="4310280" cy="6879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2140200" y="4272480"/>
                  <a:ext cx="422064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095560" y="4272480"/>
                  <a:ext cx="43102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6406560" y="4272480"/>
                <a:ext cx="2731680" cy="687960"/>
                <a:chOff x="6406560" y="4272480"/>
                <a:chExt cx="2731680" cy="6879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450840" y="4272480"/>
                  <a:ext cx="264276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ácil de Lav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406560" y="4272480"/>
                  <a:ext cx="27316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33280" y="4960440"/>
                <a:ext cx="8904960" cy="515880"/>
                <a:chOff x="233280" y="4960440"/>
                <a:chExt cx="8904960" cy="515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77560" y="4960440"/>
                  <a:ext cx="8816040" cy="51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Continu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3280" y="4960440"/>
                  <a:ext cx="8904960" cy="51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33280" y="5476320"/>
                <a:ext cx="1861920" cy="1377360"/>
                <a:chOff x="233280" y="5476320"/>
                <a:chExt cx="1861920" cy="13773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77560" y="5476320"/>
                  <a:ext cx="177300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os rotatorios a vací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33280" y="5476320"/>
                  <a:ext cx="186192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095560" y="5476320"/>
                <a:ext cx="1807560" cy="1377360"/>
                <a:chOff x="2095560" y="5476320"/>
                <a:chExt cx="1807560" cy="13773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140200" y="5476320"/>
                  <a:ext cx="171828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ta a baja velocida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líquido es succionado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095560" y="5476320"/>
                  <a:ext cx="18075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903840" y="5476320"/>
                <a:ext cx="2502360" cy="1377360"/>
                <a:chOff x="3903840" y="5476320"/>
                <a:chExt cx="2502360" cy="13773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948480" y="5476320"/>
                  <a:ext cx="241272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todología más usa en Bioprocesos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 = 1 at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903840" y="5476320"/>
                  <a:ext cx="25023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6406560" y="5476320"/>
                <a:ext cx="2731680" cy="1377360"/>
                <a:chOff x="6406560" y="5476320"/>
                <a:chExt cx="2731680" cy="13773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50840" y="5476320"/>
                  <a:ext cx="264276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ceso consiste en :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Forma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Lavado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 Recolec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406560" y="5476320"/>
                  <a:ext cx="273168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228600" y="0"/>
              <a:ext cx="8915040" cy="6858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457200"/>
            <a:ext cx="8458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TRATA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aldos de fermentación resultan ser fluidos no-newtonianos, por lo cual resultan ser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tamente compresibles,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por ello difíciles de filtrar. Para mejorar esta condición se aplican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.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tos pueden ser de diferentes ti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entamient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ulta ser un mét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ejora las características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 para pasteur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o se puede aplicar si el producto es térmicamente estable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6-08-02T20:13:42Z</dcterms:modified>
  <cp:revision>102</cp:revision>
  <dc:subject/>
  <dc:title>Separación Sólido-Líquido</dc:title>
</cp:coreProperties>
</file>