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308-8319-4017-A309-5FAF723B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739-6953-4709-AFB6-E6EDA993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E22-0430-435D-A7DE-3CA9D33B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85F-3BD9-47F2-9381-E6250C84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456-5B5D-4178-BE7F-CBDAD795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6D6-1FD5-4560-8DE0-FFCAB9AC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518-58FF-487F-81FA-6E1D1A2E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DD0-503E-431B-AB2F-78C72474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010-D982-4853-86E9-E5CCED4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2FE-3B64-4918-B9CC-C6DAC8A4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8F4-102F-4E0E-98A1-C7A1906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A75-0A47-4B2E-9A9C-D2DBE17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520C-F461-489F-BC86-8F26C276AE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2T20:13:42Z</dcterms:modified>
  <cp:revision>102</cp:revision>
  <dc:subject/>
  <dc:title>Separación Sólido-Líquido</dc:title>
</cp:coreProperties>
</file>