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9B4-CE71-4700-BF0D-18B23E71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070-C329-49CF-9DC0-72BA567A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E56-175A-437D-BCEE-6A30C949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379-488A-46F4-9EBF-19081ED8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EFA-162A-4A59-B676-AF0BEF2E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BE6-384D-48E1-9C10-D85A836E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215-3018-4ED9-B123-4A0451E8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B8B-0865-4A34-8914-F5330781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C14-B7DF-4756-AC43-8C855A24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153-5BC4-405C-8DF1-7CBAC18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251-8DF9-456C-90EF-05009650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72F-6FF4-474A-9744-D5FA219C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450E-0584-4EF1-8D5A-BFDBF7639EF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2T20:13:42Z</dcterms:modified>
  <cp:revision>102</cp:revision>
  <dc:subject/>
  <dc:title>Separación Sólido-Líquido</dc:title>
</cp:coreProperties>
</file>