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705-F941-4C26-996D-622C326B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C02-1D98-45D5-B514-B1C52707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40B-209B-4A8E-A1A3-89E024F9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FE0-4CE2-45A6-B469-AB80F797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236-5C4F-43FA-B58D-317701BE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657-D749-459D-8885-8D08EF8A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D06-4EB4-404D-85DD-5FD3A0B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7D2-A0C0-435E-9322-D44F1D02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9A1-8DC8-4614-A616-13DA5A0C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01E-244C-4052-804C-6280355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0CB-A93E-4D11-8635-01EE00F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673-3106-43E8-B0A6-7456674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162-A70C-452D-9612-F32A8C020C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2T20:13:42Z</dcterms:modified>
  <cp:revision>102</cp:revision>
  <dc:subject/>
  <dc:title>Separación Sólido-Líquido</dc:title>
</cp:coreProperties>
</file>