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C30-99F9-493F-85FB-D6D4F436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0F2-5F39-4748-9A90-7F8E800F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796-25A9-4B7C-97B5-3FE04076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AA7-503E-47CC-99EF-11805F40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AA9-0931-4475-AC69-2C94BF5D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6CF-8CC3-4FD7-AFD6-46CC0316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AA53-9D28-413C-9AA4-887AF322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6CD-9A11-443D-9164-1B3AAED1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168-F25E-438F-B064-903703BD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59BD-08BE-4DBE-9D9B-3E6ED3A1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602-3D95-4787-97FA-705825FF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D70-32F2-4E6E-A3F6-07B7934E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4F26-1875-40E1-8336-481EB1A219D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952880" y="1219320"/>
            <a:ext cx="3353040" cy="57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posición final de los desechos con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zad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18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2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23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0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50920" y="4941720"/>
            <a:ext cx="3816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5 y 10 psi? CO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11640" y="765000"/>
                <a:ext cx="2354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1619280" y="2781360"/>
          <a:ext cx="5770440" cy="3719520"/>
        </p:xfrm>
        <a:graphic>
          <a:graphicData uri="http://schemas.openxmlformats.org/drawingml/2006/table">
            <a:tbl>
              <a:tblPr/>
              <a:tblGrid>
                <a:gridCol w="1257120"/>
                <a:gridCol w="712800"/>
                <a:gridCol w="949320"/>
                <a:gridCol w="949320"/>
                <a:gridCol w="951120"/>
                <a:gridCol w="950760"/>
              </a:tblGrid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ída de presión (mmH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n filtrado (m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540720" y="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Ejemplo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47628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iltran una muestra de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Streptomyces griseu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en forma filamentosa, en un pequeño filtro de laboratorio con un área de 1.8 c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La masa de sólidos húmedos por mL de filtrado es 0.1 g mL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ara el cultivo filamentoso. La viscosidad del filtrado es 1.4 cP. Se han realizado cinco experimentos de filtración a diferentes presiones con cada suspensión, obteniéndose los siguientes resul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00000" y="83664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s resistencias específicas de la torta en función de la presión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 compresibilidad del cultivo 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utiliza un filtro de prensa con un área de 15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procesar 2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cultivo filamentoso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. griseu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i la filtración  debe realizarse en una hora, ¿qué diferencia de presión se debe apli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28600" y="5335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para el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57200" y="609480"/>
            <a:ext cx="792468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755720" y="3571920"/>
                <a:ext cx="404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685800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04920" y="304920"/>
            <a:ext cx="853416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 del tambor, en rph,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02T20:13:42Z</dcterms:modified>
  <cp:revision>102</cp:revision>
  <dc:subject/>
  <dc:title>Separación Sólido-Líquido</dc:title>
</cp:coreProperties>
</file>