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973-04C3-4428-8F17-A0BB2474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61F-4BDE-49E9-BDCC-0D1D1BD5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9EF-0D08-411E-8AF3-6318F7DC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CD9-4D92-43DA-8060-742DAFE5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994-ADA9-4776-A839-85F6460B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908-FFB6-4DB0-8E3D-FAB085E0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C04-C4CA-44B1-9C41-6DE3EE5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718-DB86-4B6E-B840-2C7FD91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DA6-0C70-455B-9A11-BA3BCA5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1BD-072C-4455-8157-05B1037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EC1-916D-416B-853F-FB10DE8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88E-1760-4F56-B06C-1FD5B8D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407-8B0A-43D2-9D04-440B4E263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7-26T15:58:51Z</dcterms:modified>
  <cp:revision>19</cp:revision>
  <dc:subject/>
  <dc:title>Centrifugación    Operación unitaria utilizada para la separación: sólido-líquido    líquido-líquido </dc:title>
</cp:coreProperties>
</file>