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13.wmf" ContentType="image/x-wmf"/>
  <Override PartName="/ppt/media/image9.png" ContentType="image/png"/>
  <Override PartName="/ppt/media/image1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5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7.jpeg" ContentType="image/jpeg"/>
  <Override PartName="/ppt/media/image20.png" ContentType="image/png"/>
  <Override PartName="/ppt/media/image1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6FB6-173E-463C-9E62-3CDBBECFF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6C14-982D-4101-8384-44E06BA5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71F4-CCA5-42BA-B77B-AACEE3BB1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BE7B-1999-49FC-948C-599F69CEC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046B-00B9-4F18-A90D-2FBF3C84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947E-60E0-4264-9136-36F2A76E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EE35-F8E8-48E8-A49F-7F7665A7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741E-BED0-40D8-8B50-34F8722A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48AE-67BA-48E3-8D44-797EE726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4613-E8A7-4E3E-8D96-6CB623FD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F1E8-0362-4BFC-AF7E-7D84B1B4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16AE-B246-4FCF-8380-9D4C6282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358A-D5CE-4AF4-A4A5-69EC2939F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Proceso de producción de proteí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04920" y="49320"/>
            <a:ext cx="838188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04920" y="49320"/>
            <a:ext cx="8381880" cy="33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49320"/>
            <a:ext cx="8381880" cy="29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04920" y="49320"/>
            <a:ext cx="8381880" cy="57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contiene la suspensión proveniente del fermentad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.o inta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agmentos de m.o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Por qué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ase sólid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  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gredientes insolubles del medio, i.e gluca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strato insoluble res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tabLst>
                <a:tab algn="l" pos="0"/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strato soluble res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ase líquid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Metabolito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med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ductos dese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tros productos solu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33520" y="304920"/>
            <a:ext cx="8381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uáles son las operaciones unitarias utilizadas para la separación sólido-líquido? ¿ Cuáles conocen sus ecuaciones de diseñ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33520" y="304920"/>
            <a:ext cx="8381880" cy="58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uáles son las operaciones unitarias utilizadas para la separación sólido-líqui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di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entrifugació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eraciones auxiliares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o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eraciones de membra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cro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tracción líquido-líquid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0" y="1371600"/>
            <a:ext cx="1219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entrifugación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Operación unitaria utilizada para la separación:</a:t>
            </a: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ido-líquido   </a:t>
            </a: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íquido-líquid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352680" y="4267080"/>
            <a:ext cx="30402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04920" y="457200"/>
            <a:ext cx="6858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entrifugación utiliza la diferencia de densidad entre los sólidos y el fluido que lo rod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una de las principales operaciones utilizadas en la separación de células desde caldos biologicos, especialemente cuando los caldos no son fáciles de filtr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mbién se emplea en la remoción de desechos celulares, separación de precipitados proteícos y recuperación de productos insolubles (cuerpos incluí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7086600" y="685800"/>
          <a:ext cx="140976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685800"/>
                    <a:ext cx="140976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1" name=""/>
          <p:cNvGrpSpPr/>
          <p:nvPr/>
        </p:nvGrpSpPr>
        <p:grpSpPr>
          <a:xfrm>
            <a:off x="0" y="4114800"/>
            <a:ext cx="9144000" cy="2745720"/>
            <a:chOff x="0" y="4114800"/>
            <a:chExt cx="9144000" cy="2745720"/>
          </a:xfrm>
        </p:grpSpPr>
        <p:grpSp>
          <p:nvGrpSpPr>
            <p:cNvPr id="192" name=""/>
            <p:cNvGrpSpPr/>
            <p:nvPr/>
          </p:nvGrpSpPr>
          <p:grpSpPr>
            <a:xfrm>
              <a:off x="5791320" y="4419720"/>
              <a:ext cx="3352680" cy="2440800"/>
              <a:chOff x="5791320" y="4419720"/>
              <a:chExt cx="3352680" cy="2440800"/>
            </a:xfrm>
          </p:grpSpPr>
          <p:pic>
            <p:nvPicPr>
              <p:cNvPr id="19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867280" y="4419720"/>
                <a:ext cx="2742840" cy="206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>
                <a:off x="5791320" y="6400800"/>
                <a:ext cx="335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scala Industri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0" y="4114800"/>
              <a:ext cx="3352680" cy="2745720"/>
              <a:chOff x="0" y="4114800"/>
              <a:chExt cx="3352680" cy="2745720"/>
            </a:xfrm>
          </p:grpSpPr>
          <p:pic>
            <p:nvPicPr>
              <p:cNvPr id="19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23960" y="4114800"/>
                <a:ext cx="2400120" cy="240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"/>
              <p:cNvSpPr/>
              <p:nvPr/>
            </p:nvSpPr>
            <p:spPr>
              <a:xfrm>
                <a:off x="0" y="6400800"/>
                <a:ext cx="335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scala Laboratori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3048120" y="47242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Diferentes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esca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533520"/>
            <a:ext cx="525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íón v/s Sedi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uando la suspensión se encuentra detenida los sólidos más densos comienzan a decantar baj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La acción de la fuerza de gravedad, proceso llamado </a:t>
            </a: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edimentación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 campo centrífugo  el proce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llama </a:t>
            </a: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ión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3581280" cy="18604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248520" y="2971800"/>
            <a:ext cx="0" cy="83808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00800" y="3657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Fuer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4648320"/>
            <a:ext cx="7924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uando se utiliza la centrifugación la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iferencia entre la densidad los sólido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(células o partículas) y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l caldo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se incrementa por la acción de la fuerza centrífugas que se generan por las altas velocidades de rotación de los equipos. El proceso de separación es más ráp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880" y="2590920"/>
            <a:ext cx="8305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s de Centrifu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43" name="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457200" y="304920"/>
          <a:ext cx="31622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31622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4800600" y="380880"/>
          <a:ext cx="2295360" cy="250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80880"/>
                    <a:ext cx="2295360" cy="25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1447920" y="3429000"/>
          <a:ext cx="5467320" cy="2390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3429000"/>
                    <a:ext cx="546732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28195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ipo Tub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1600200" y="380880"/>
          <a:ext cx="5830920" cy="35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80880"/>
                    <a:ext cx="5830920" cy="35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2590920" y="4038480"/>
          <a:ext cx="4010040" cy="266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4038480"/>
                    <a:ext cx="401004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3200400" y="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e Dis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omparación entre los diferentes tipos de centríf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33520" y="1447920"/>
          <a:ext cx="792000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7920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omparación entre los diferentes tipos de centríf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685800" y="1523880"/>
          <a:ext cx="8072280" cy="358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8072280" cy="35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racterísticas de la materia cel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57200" y="958680"/>
          <a:ext cx="8077320" cy="589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58680"/>
                    <a:ext cx="8077320" cy="58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04920" y="457200"/>
            <a:ext cx="6933960" cy="41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EDIMENTACION DE SOL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partícula al moverse en un medio continuo e infinito se ve afectada por 2 fuerz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uerza de Flo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partícula es acelerada por la fuerza de flotación, 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B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que es la resultante de la diferencia de densidades entre la partícula y el fluido (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B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. Según Newton (suponiendo partículas esféricas):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67480" y="1143000"/>
            <a:ext cx="114300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720" y="1866960"/>
            <a:ext cx="163440" cy="181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58160" y="2048040"/>
            <a:ext cx="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794720" y="150480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848720" y="1295280"/>
            <a:ext cx="72864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u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001000" y="2057400"/>
            <a:ext cx="490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4876920"/>
            <a:ext cx="83059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: diámetro de la partícu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</a:t>
            </a: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 la partícula y d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aceleración del campo al cual está sometido la partícul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530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828800" y="4038480"/>
                <a:ext cx="41148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7086600" y="4038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04920" y="457200"/>
            <a:ext cx="693396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r otra parte, la partícula al moverse se ve retardada por la fuerza de roce, 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D,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que se opone al movimiento. Según la Ley de Stoke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315200" y="1600200"/>
            <a:ext cx="1143000" cy="1447920"/>
            <a:chOff x="7315200" y="1600200"/>
            <a:chExt cx="1143000" cy="1447920"/>
          </a:xfrm>
        </p:grpSpPr>
        <p:sp>
          <p:nvSpPr>
            <p:cNvPr id="239" name=""/>
            <p:cNvSpPr/>
            <p:nvPr/>
          </p:nvSpPr>
          <p:spPr>
            <a:xfrm>
              <a:off x="7315200" y="1600200"/>
              <a:ext cx="114300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41720" y="2324160"/>
              <a:ext cx="163080" cy="18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04800" y="250524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7641720" y="196164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804800" y="1962000"/>
              <a:ext cx="489600" cy="54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68240" y="2505240"/>
              <a:ext cx="489600" cy="54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981080" y="2057400"/>
            <a:ext cx="3886200" cy="459720"/>
            <a:chOff x="1981080" y="2057400"/>
            <a:chExt cx="3886200" cy="459720"/>
          </a:xfrm>
        </p:grpSpPr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1981080" y="2057400"/>
                  <a:ext cx="226692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r>
                        <m:t xml:space="preserve">d</m:t>
                      </m:r>
                      <m:r>
                        <m:t xml:space="preserve">⋅</m:t>
                      </m:r>
                      <m:r>
                        <m:t xml:space="preserve">μ</m:t>
                      </m:r>
                      <m:r>
                        <m:t xml:space="preserve">⋅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8" name=""/>
            <p:cNvSpPr/>
            <p:nvPr/>
          </p:nvSpPr>
          <p:spPr>
            <a:xfrm>
              <a:off x="5181480" y="2057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5680" y="228600"/>
            <a:ext cx="20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uerza de Ro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2743200"/>
            <a:ext cx="426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Symbol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=  viscosidad de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 = velocidad de la partí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80880" y="685800"/>
            <a:ext cx="8077320" cy="3197520"/>
            <a:chOff x="380880" y="685800"/>
            <a:chExt cx="8077320" cy="3197520"/>
          </a:xfrm>
        </p:grpSpPr>
        <p:sp>
          <p:nvSpPr>
            <p:cNvPr id="255" name=""/>
            <p:cNvSpPr/>
            <p:nvPr/>
          </p:nvSpPr>
          <p:spPr>
            <a:xfrm>
              <a:off x="380880" y="685800"/>
              <a:ext cx="8077320" cy="31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Debido a estas 2 fuerzas, cuando el sistema alcance el equilibrio, la partícula se moverá a una velocidad constante, igual a la velocidad terminal cuand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F</a:t>
              </a:r>
              <a:r>
                <a:rPr b="0" lang="es-MX" sz="2000" spc="-1" strike="noStrike" baseline="-30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= F</a:t>
              </a:r>
              <a:r>
                <a:rPr b="0" lang="es-MX" sz="2000" spc="-1" strike="noStrike" baseline="-30000">
                  <a:solidFill>
                    <a:srgbClr val="3333cc"/>
                  </a:solidFill>
                  <a:latin typeface="Comic Sans MS"/>
                  <a:ea typeface="Times New Roman"/>
                </a:rPr>
                <a:t>D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        (3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Estas condiciones se cumplen cuand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Casi siempre se cumple en sistemas  biológicos</a:t>
              </a: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6477120" y="2606400"/>
                  <a:ext cx="1676160" cy="6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d</m:t>
                          </m:r>
                          <m:r>
                            <m:t xml:space="preserve">⋅</m:t>
                          </m:r>
                          <m:r>
                            <m:t xml:space="preserve">v</m:t>
                          </m:r>
                          <m:r>
                            <m:t xml:space="preserve">⋅</m:t>
                          </m:r>
                          <m:r>
                            <m:t xml:space="preserve">ρ</m:t>
                          </m:r>
                        </m:num>
                        <m:den>
                          <m:r>
                            <m:t xml:space="preserve">μ</m:t>
                          </m:r>
                        </m:den>
                      </m:f>
                      <m:r>
                        <m:t xml:space="preserve">&l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7" name=""/>
          <p:cNvGrpSpPr/>
          <p:nvPr/>
        </p:nvGrpSpPr>
        <p:grpSpPr>
          <a:xfrm>
            <a:off x="457200" y="4121280"/>
            <a:ext cx="8077320" cy="674640"/>
            <a:chOff x="457200" y="4121280"/>
            <a:chExt cx="8077320" cy="674640"/>
          </a:xfrm>
        </p:grpSpPr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457200" y="4121280"/>
                  <a:ext cx="426708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(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ρ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r>
                        <m:t xml:space="preserve">a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59" name=""/>
            <p:cNvGrpSpPr/>
            <p:nvPr/>
          </p:nvGrpSpPr>
          <p:grpSpPr>
            <a:xfrm>
              <a:off x="4648320" y="4267080"/>
              <a:ext cx="3886200" cy="457200"/>
              <a:chOff x="4648320" y="4267080"/>
              <a:chExt cx="3886200" cy="457200"/>
            </a:xfrm>
          </p:grpSpPr>
          <mc:AlternateContent>
            <mc:Choice xmlns:a14="http://schemas.microsoft.com/office/drawing/2010/main" Requires="a14">
              <p:sp>
                <p:nvSpPr>
                  <p:cNvPr id="260" name=""/>
                  <p:cNvSpPr txBox="1"/>
                  <p:nvPr/>
                </p:nvSpPr>
                <p:spPr>
                  <a:xfrm>
                    <a:off x="4648320" y="4267080"/>
                    <a:ext cx="2266920" cy="405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61" name=""/>
              <p:cNvSpPr/>
              <p:nvPr/>
            </p:nvSpPr>
            <p:spPr>
              <a:xfrm>
                <a:off x="7848720" y="4267080"/>
                <a:ext cx="6858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2" name=""/>
          <p:cNvSpPr/>
          <p:nvPr/>
        </p:nvSpPr>
        <p:spPr>
          <a:xfrm>
            <a:off x="6629400" y="4114800"/>
            <a:ext cx="380880" cy="6094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04920" y="457200"/>
            <a:ext cx="6933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 partir de (3) se puede determinar la velocidad terminal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0" y="2590920"/>
            <a:ext cx="5562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e del campo al cual se encuentre sometid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851040" y="1655640"/>
                <a:ext cx="44719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6629400" y="1752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5029200" y="2209320"/>
            <a:ext cx="0" cy="3812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57200" y="3200400"/>
            <a:ext cx="7772400" cy="718920"/>
            <a:chOff x="457200" y="3200400"/>
            <a:chExt cx="7772400" cy="718920"/>
          </a:xfrm>
        </p:grpSpPr>
        <p:sp>
          <p:nvSpPr>
            <p:cNvPr id="275" name=""/>
            <p:cNvSpPr/>
            <p:nvPr/>
          </p:nvSpPr>
          <p:spPr>
            <a:xfrm>
              <a:off x="457200" y="327672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 u="sng">
                  <a:solidFill>
                    <a:srgbClr val="cc0000"/>
                  </a:solidFill>
                  <a:uFillTx/>
                  <a:latin typeface="Comic Sans MS"/>
                  <a:ea typeface="Times New Roman"/>
                </a:rPr>
                <a:t>Si es campo gravitacional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(sedimentación)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4267080" y="3200400"/>
                  <a:ext cx="297180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g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  <m:r>
                            <m:t xml:space="preserve">μ</m:t>
                          </m:r>
                        </m:den>
                      </m:f>
                      <m:r>
                        <m:t xml:space="preserve">(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ρ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7" name=""/>
            <p:cNvSpPr/>
            <p:nvPr/>
          </p:nvSpPr>
          <p:spPr>
            <a:xfrm>
              <a:off x="7543800" y="3200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066680" y="4572000"/>
            <a:ext cx="7162920" cy="789120"/>
            <a:chOff x="1066680" y="4572000"/>
            <a:chExt cx="7162920" cy="789120"/>
          </a:xfrm>
        </p:grpSpPr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1066680" y="4572000"/>
                  <a:ext cx="5257800" cy="78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s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stanci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qu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b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recorre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iemp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qu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mor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n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sedimenta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80" name=""/>
            <p:cNvSpPr/>
            <p:nvPr/>
          </p:nvSpPr>
          <p:spPr>
            <a:xfrm>
              <a:off x="7162920" y="4648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5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762120" y="76212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Ejemplo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	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 1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	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Sedimentación de  células inmoviliz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uchas células animales son cultivadas en la superficie de micro-esferas Esas esferas (microcarrier) tienen una densidad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.02 g/cm</a:t>
            </a:r>
            <a:r>
              <a:rPr b="1" lang="es-ES_tradnl" sz="18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y un diámetro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50 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.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 Un fermentador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50 litros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es usado para el crecimiento de estas células en los microcarrier para producir una vacuna.  Después que las células han crecido, la agitación es detenida y los microcarrier comienzan a sedimentar.  El estanque tiene una razón entr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altura y diámetro de 1,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El flujo libre de microcarrier tiene una densidad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.00 g/cm</a:t>
            </a:r>
            <a:r>
              <a:rPr b="1" lang="es-ES_tradnl" sz="18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y una viscosidad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,1 cP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. (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0.011 [g/cm sec]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Calcule el tiempo de sedimentación de estos microcarrier suponiendo que sedimentan a su velocidad term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ecto de la eficiencia de cada eta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8676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04920" y="2666880"/>
            <a:ext cx="8381880" cy="2014200"/>
            <a:chOff x="304920" y="2666880"/>
            <a:chExt cx="8381880" cy="2014200"/>
          </a:xfrm>
        </p:grpSpPr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4572000" y="3657600"/>
                  <a:ext cx="189396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>
                            <m:t xml:space="preserve">n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den>
                      </m:f>
                      <m:r>
                        <m:t xml:space="preserve">(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rad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0" name=""/>
            <p:cNvSpPr/>
            <p:nvPr/>
          </p:nvSpPr>
          <p:spPr>
            <a:xfrm>
              <a:off x="304920" y="2666880"/>
              <a:ext cx="83818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Don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 :  radio desde el centro de la centrífuga a la posición donde se encuentra la partícul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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: velocidad angular de ro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n: revoluciones por minu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304920" y="685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Si es un campo centrífugo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043080" y="1449360"/>
                <a:ext cx="28450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6408720" y="1487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965240" y="4952880"/>
            <a:ext cx="6721560" cy="830520"/>
            <a:chOff x="1965240" y="4952880"/>
            <a:chExt cx="6721560" cy="830520"/>
          </a:xfrm>
        </p:grpSpPr>
        <mc:AlternateContent>
          <mc:Choice xmlns:a14="http://schemas.microsoft.com/office/drawing/2010/main" Requires="a14">
            <p:sp>
              <p:nvSpPr>
                <p:cNvPr id="295" name=""/>
                <p:cNvSpPr txBox="1"/>
                <p:nvPr/>
              </p:nvSpPr>
              <p:spPr>
                <a:xfrm>
                  <a:off x="1965240" y="4995720"/>
                  <a:ext cx="5135760" cy="78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stancia que se debe recorre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iempo que demora en recorrerl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96" name=""/>
            <p:cNvSpPr/>
            <p:nvPr/>
          </p:nvSpPr>
          <p:spPr>
            <a:xfrm>
              <a:off x="7848720" y="49528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6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04920" y="45720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n correlacionar las 2 velocidades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352680" y="1295280"/>
                <a:ext cx="281952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" y="990720"/>
            <a:ext cx="7924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actor “G”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(Distinto a la eficiencia granulométri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fine el </a:t>
            </a: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actor “G”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caracterización y escalamiento de centrífugas es una medida relativa de  la velocidad de sedimentación de una partícula en un campo centrífugo con respecto a su gravitac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eneralmente las condiciones de operación de definen en función de los “G” que se deben aplicar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3505320" y="3124080"/>
                <a:ext cx="228600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CUACION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" y="20574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 un movimiento en la dirección 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14400" y="114300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CENTRIFUGA DE BOTELLAS (labor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457200" y="2666880"/>
                <a:ext cx="54975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4" name=""/>
          <p:cNvGrpSpPr/>
          <p:nvPr/>
        </p:nvGrpSpPr>
        <p:grpSpPr>
          <a:xfrm>
            <a:off x="1523880" y="2666880"/>
            <a:ext cx="4496040" cy="914400"/>
            <a:chOff x="1523880" y="2666880"/>
            <a:chExt cx="4496040" cy="914400"/>
          </a:xfrm>
        </p:grpSpPr>
        <p:sp>
          <p:nvSpPr>
            <p:cNvPr id="335" name=""/>
            <p:cNvSpPr/>
            <p:nvPr/>
          </p:nvSpPr>
          <p:spPr>
            <a:xfrm>
              <a:off x="1523880" y="2666880"/>
              <a:ext cx="457200" cy="8384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648320" y="2666880"/>
              <a:ext cx="1371600" cy="9144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066680" y="3962520"/>
                <a:ext cx="274320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2057400" y="5410080"/>
                <a:ext cx="291456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228600" y="51055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17220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0" y="42670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5486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6364440" y="533520"/>
            <a:ext cx="27795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762120" y="380880"/>
            <a:ext cx="8153280" cy="52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    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Ejemplo 2 Centrifugación discontinua de Células de levad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Una centrífuga, que utiliza  botellas, es usada para colectar las células de levadura luego de una fermentación.  Durante la centrifugación la distancia entre la superficie del líquido y el eje de rotación (eje axial) es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3 c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la distancia entre el fondo del cilindro al eje axial es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0 c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as células de levadura se pueden asumir como partículas esféricas con un diámetro 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8.0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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una densidad 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.05 g/c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Arial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.  El fluido tiene propiedades similares al agua pu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( Densidad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.00  g/c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Arial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una viscosidad de 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0.01 g/cm sec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a centrifuga está operando a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500 r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Determine el tiempo que tomará una separación completa de las levaduras.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CUACIONES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7200" y="2057400"/>
            <a:ext cx="4800600" cy="39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 un movimiento en la dirección z y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Movimiento en Dirección “z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  Flujo de 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R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adio del nivel del líquido, Radio de la centríf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14400" y="11430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CENTRIFUGA TUBULAR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685800" y="3276720"/>
                <a:ext cx="3314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60" name=""/>
          <p:cNvGraphicFramePr/>
          <p:nvPr/>
        </p:nvGraphicFramePr>
        <p:xfrm>
          <a:off x="5486400" y="762120"/>
          <a:ext cx="3524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762120"/>
                    <a:ext cx="3524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3520" y="533520"/>
            <a:ext cx="7467480" cy="39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Movimiento en Dirección radial “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  Flujo de 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R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adio del nivel del líquido, Radio de la centríf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El movimiento combi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1165320" y="1374840"/>
                <a:ext cx="53118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1676520" y="4648320"/>
                <a:ext cx="42577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>
            <a:off x="7391520" y="51814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(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520" y="533520"/>
            <a:ext cx="7467480" cy="62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iendo de los valores de v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g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y Q dependerá la posición  de la partícula en la centrífug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calcular un flujo óptimo para que una partícula que ingresa por el centro, sólo se pegue a la pared al final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l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 =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= R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sí se  determina la ecuación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una centrífuga tubular: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6194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1852560" y="5065560"/>
                <a:ext cx="279576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95" name=""/>
          <p:cNvGraphicFramePr/>
          <p:nvPr/>
        </p:nvGraphicFramePr>
        <p:xfrm>
          <a:off x="6095880" y="2438280"/>
          <a:ext cx="304812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2438280"/>
                    <a:ext cx="30481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533520"/>
            <a:ext cx="8305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mplificando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sí se  determina la ecuación de diseño de una centrífuga tubular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1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6194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9336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2886120" y="979560"/>
                <a:ext cx="432432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                  donde   R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317664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1206360" y="3386160"/>
                <a:ext cx="43182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L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ubuLa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 flipV="1">
            <a:off x="762120" y="3962160"/>
            <a:ext cx="533160" cy="1600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1752480" y="4114440"/>
            <a:ext cx="0" cy="1143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flipV="1">
            <a:off x="3504960" y="4266720"/>
            <a:ext cx="1143000" cy="381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648320" y="3505320"/>
            <a:ext cx="914400" cy="7617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09480" y="4844880"/>
            <a:ext cx="85345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acterística de la centrífuga y condiciones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ámetro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lujo    Función de la partí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CUACION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7200" y="2057400"/>
            <a:ext cx="4572000" cy="34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 un análisis análogo para centrífugas de disco se tiene como ecuación de  diseño: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Número de discos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ás detalles ver desarrol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914400" y="11430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ENTRIFUGA DE DIS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817560" y="3222720"/>
                <a:ext cx="56721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>
            <a:off x="5638680" y="3276720"/>
            <a:ext cx="914400" cy="7617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6114960" y="838080"/>
          <a:ext cx="302904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4960" y="838080"/>
                    <a:ext cx="302904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74674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3520" y="579132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elter P., Cussler E.L. and Hu Wei Shou "Bioseparations : Dowstream Processing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iotechnology":, John Wiley and Sons , 198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85720" y="306360"/>
            <a:ext cx="7970760" cy="6253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724360" y="5516640"/>
            <a:ext cx="1727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84720" y="3933720"/>
            <a:ext cx="1727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56000" y="5516640"/>
            <a:ext cx="172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40360" y="6237360"/>
            <a:ext cx="201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28600" y="380880"/>
            <a:ext cx="868680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Ejemplo 3 Centrifuga continua de Disco para </a:t>
            </a:r>
            <a:r>
              <a:rPr b="1" i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Chlor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élulas de </a:t>
            </a:r>
            <a:r>
              <a:rPr b="0" i="1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hlorella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han sido cultivadas en un estanque abierto, las células serán cosechadas haciéndolas pasar a través de una centrífuga de dis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velocidad de sedimentación de estas células  ha sido medida y es de 1.07 x 10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-4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cm/se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centrífuga tiene 80 discos con un ángulo de 40°, el radio externo es 15,7 cm y el diámetro interno de 6 c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Se planea operar la centrífuga a 6000 r/m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Estime la cantidad de flujo que puede ser procesado en esta centrífug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304920" y="380880"/>
            <a:ext cx="853416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Escalamiento de Centrifug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diseño de centrífugas a gran escala involucra el uso de información de laboratorio para predecir el comportamiento de las centrífugas comerci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étodos que se pueden utilizar para tratar de adaptar los procesos de laboratorio a gran esca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Métodos Cual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Métodos Cuant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914400"/>
            <a:ext cx="8534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 Métodos cualitativo   (Estimación Grue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establece un coeficiente de dificultad que tiene una separación dada para lo cual se calcula un coeficiente entre “G” y el tiempo aplicado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ie, “G 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2192400" y="2803680"/>
                <a:ext cx="27176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7" name=""/>
          <p:cNvSpPr/>
          <p:nvPr/>
        </p:nvSpPr>
        <p:spPr>
          <a:xfrm>
            <a:off x="380880" y="43434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o: radio característico o máximo de la centrífu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3152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90528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28600" y="457200"/>
            <a:ext cx="85345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n valores característico para cada variedad de bio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ido             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 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ec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élulas eucarionte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3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oroplasto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3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echos células eucariote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úcleo de célula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teínas precipitada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9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acte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8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Mitocond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8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sechos bacte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4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Liso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Ribo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Poli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</a:t>
            </a:r>
            <a:r>
              <a:rPr b="0" lang="es-ES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 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 gran escala se debe mantener el mismo valor de “G t”, para ello se determina “G” o “t” y se selecciona que equipo puede ser útil</a:t>
            </a:r>
            <a:r>
              <a:rPr b="0" lang="es-ES" sz="20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90528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4920" y="228600"/>
            <a:ext cx="85341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Método Cuantit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cada tipo de centrífuga se define según una ecuació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comparar 2 centrífugas de diferente tipo se deben considerar factores de eficiencia y se debe cumpli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ficiencia, </a:t>
            </a: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cada tipo de centrífuga,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ipo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ficiencia </a:t>
            </a:r>
            <a:r>
              <a:rPr b="0" lang="es-MX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%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otellas (lab)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ubular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isco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60036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2585880" y="1542960"/>
                <a:ext cx="31291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ipo 1       </m:t>
                    </m:r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 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7" name=""/>
          <p:cNvSpPr/>
          <p:nvPr/>
        </p:nvSpPr>
        <p:spPr>
          <a:xfrm>
            <a:off x="37339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2590920" y="3276720"/>
                <a:ext cx="25146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η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η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9" name=""/>
          <p:cNvSpPr/>
          <p:nvPr/>
        </p:nvSpPr>
        <p:spPr>
          <a:xfrm>
            <a:off x="7543800" y="1600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46748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228600" y="380880"/>
            <a:ext cx="86868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Ejemplo 4 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 Esca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e han realizado pruebas de laboratorio para definir el parámetro de escalamiento para el procesamiento de una suspensión con material celular. En el experimento se procesaron 3.3 [lt/min] de una suspensión de células de </a:t>
            </a:r>
            <a:r>
              <a:rPr b="0" i="1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.coli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, en una centrifuga tubular de 12.7 [cm] de radio interno y 73 [cm] de largo. Se utilizó una velocidad de rotación de 16000 r.p.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e requiere seleccionar una centrífuga para procesar 800 [lt/hr] de la misma suspensión antes mencionada. Para ello se cuenta con las siguientes alternativas de centrífugas de discos.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533520" y="3657600"/>
            <a:ext cx="8228880" cy="2971800"/>
            <a:chOff x="533520" y="3657600"/>
            <a:chExt cx="8228880" cy="2971800"/>
          </a:xfrm>
        </p:grpSpPr>
        <p:sp>
          <p:nvSpPr>
            <p:cNvPr id="513" name=""/>
            <p:cNvSpPr/>
            <p:nvPr/>
          </p:nvSpPr>
          <p:spPr>
            <a:xfrm>
              <a:off x="585720" y="420480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º de disc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615840" y="420480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075280" y="420480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455880" y="420480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85720" y="459576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dio externo [cm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615840" y="459576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075280" y="459576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455880" y="459576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5720" y="4987080"/>
              <a:ext cx="30301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dio interno [cm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615840" y="4987080"/>
              <a:ext cx="14590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75280" y="4987080"/>
              <a:ext cx="13802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455880" y="4987080"/>
              <a:ext cx="19400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85720" y="537804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ngulo [º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615840" y="537804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075280" y="537804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455880" y="537804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85720" y="5769000"/>
              <a:ext cx="303012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locidad máxima</a:t>
              </a:r>
              <a:br>
                <a:rPr sz="2000"/>
              </a:b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tación [r.p.m.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615840" y="5769000"/>
              <a:ext cx="145908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075280" y="5769000"/>
              <a:ext cx="138024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455880" y="5769000"/>
              <a:ext cx="194004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533520" y="3657600"/>
              <a:ext cx="3134880" cy="547200"/>
              <a:chOff x="533520" y="3657600"/>
              <a:chExt cx="3134880" cy="547200"/>
            </a:xfrm>
          </p:grpSpPr>
          <p:sp>
            <p:nvSpPr>
              <p:cNvPr id="534" name=""/>
              <p:cNvSpPr/>
              <p:nvPr/>
            </p:nvSpPr>
            <p:spPr>
              <a:xfrm>
                <a:off x="533520" y="3657600"/>
                <a:ext cx="313488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5" name=""/>
              <p:cNvGrpSpPr/>
              <p:nvPr/>
            </p:nvGrpSpPr>
            <p:grpSpPr>
              <a:xfrm>
                <a:off x="533520" y="3657600"/>
                <a:ext cx="3134520" cy="547200"/>
                <a:chOff x="533520" y="3657600"/>
                <a:chExt cx="3134520" cy="54720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585720" y="3657600"/>
                  <a:ext cx="302976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pieda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533520" y="3657600"/>
                  <a:ext cx="313452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3668760" y="3657600"/>
              <a:ext cx="1563480" cy="547200"/>
              <a:chOff x="3668760" y="3657600"/>
              <a:chExt cx="1563480" cy="547200"/>
            </a:xfrm>
          </p:grpSpPr>
          <p:sp>
            <p:nvSpPr>
              <p:cNvPr id="539" name=""/>
              <p:cNvSpPr/>
              <p:nvPr/>
            </p:nvSpPr>
            <p:spPr>
              <a:xfrm>
                <a:off x="3668760" y="3657600"/>
                <a:ext cx="156348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0" name=""/>
              <p:cNvGrpSpPr/>
              <p:nvPr/>
            </p:nvGrpSpPr>
            <p:grpSpPr>
              <a:xfrm>
                <a:off x="3668760" y="3657600"/>
                <a:ext cx="1563120" cy="547200"/>
                <a:chOff x="3668760" y="3657600"/>
                <a:chExt cx="1563120" cy="54720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3720960" y="3657600"/>
                  <a:ext cx="145872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668760" y="3657600"/>
                  <a:ext cx="156312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3" name=""/>
            <p:cNvGrpSpPr/>
            <p:nvPr/>
          </p:nvGrpSpPr>
          <p:grpSpPr>
            <a:xfrm>
              <a:off x="5232600" y="3657600"/>
              <a:ext cx="1484640" cy="547200"/>
              <a:chOff x="5232600" y="3657600"/>
              <a:chExt cx="1484640" cy="547200"/>
            </a:xfrm>
          </p:grpSpPr>
          <p:sp>
            <p:nvSpPr>
              <p:cNvPr id="544" name=""/>
              <p:cNvSpPr/>
              <p:nvPr/>
            </p:nvSpPr>
            <p:spPr>
              <a:xfrm>
                <a:off x="5232600" y="3657600"/>
                <a:ext cx="148464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5" name=""/>
              <p:cNvGrpSpPr/>
              <p:nvPr/>
            </p:nvGrpSpPr>
            <p:grpSpPr>
              <a:xfrm>
                <a:off x="5232600" y="3657600"/>
                <a:ext cx="1484280" cy="547200"/>
                <a:chOff x="5232600" y="3657600"/>
                <a:chExt cx="1484280" cy="54720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5284800" y="3657600"/>
                  <a:ext cx="137952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5232600" y="3657600"/>
                  <a:ext cx="148428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8" name=""/>
            <p:cNvGrpSpPr/>
            <p:nvPr/>
          </p:nvGrpSpPr>
          <p:grpSpPr>
            <a:xfrm>
              <a:off x="6717960" y="3657600"/>
              <a:ext cx="2044440" cy="547200"/>
              <a:chOff x="6717960" y="3657600"/>
              <a:chExt cx="2044440" cy="547200"/>
            </a:xfrm>
          </p:grpSpPr>
          <p:sp>
            <p:nvSpPr>
              <p:cNvPr id="549" name=""/>
              <p:cNvSpPr/>
              <p:nvPr/>
            </p:nvSpPr>
            <p:spPr>
              <a:xfrm>
                <a:off x="6717960" y="3657600"/>
                <a:ext cx="204444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0" name=""/>
              <p:cNvGrpSpPr/>
              <p:nvPr/>
            </p:nvGrpSpPr>
            <p:grpSpPr>
              <a:xfrm>
                <a:off x="6717960" y="3657600"/>
                <a:ext cx="2044080" cy="547200"/>
                <a:chOff x="6717960" y="3657600"/>
                <a:chExt cx="2044080" cy="54720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6770160" y="3657600"/>
                  <a:ext cx="193968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6717960" y="3657600"/>
                  <a:ext cx="204408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3" name=""/>
            <p:cNvGrpSpPr/>
            <p:nvPr/>
          </p:nvGrpSpPr>
          <p:grpSpPr>
            <a:xfrm>
              <a:off x="533520" y="6316560"/>
              <a:ext cx="3134880" cy="312840"/>
              <a:chOff x="533520" y="6316560"/>
              <a:chExt cx="3134880" cy="312840"/>
            </a:xfrm>
          </p:grpSpPr>
          <p:sp>
            <p:nvSpPr>
              <p:cNvPr id="554" name=""/>
              <p:cNvSpPr/>
              <p:nvPr/>
            </p:nvSpPr>
            <p:spPr>
              <a:xfrm>
                <a:off x="585720" y="6316560"/>
                <a:ext cx="30301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33520" y="6316560"/>
                <a:ext cx="313488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3668760" y="6316560"/>
              <a:ext cx="1563480" cy="312840"/>
              <a:chOff x="3668760" y="6316560"/>
              <a:chExt cx="1563480" cy="312840"/>
            </a:xfrm>
          </p:grpSpPr>
          <p:sp>
            <p:nvSpPr>
              <p:cNvPr id="557" name=""/>
              <p:cNvSpPr/>
              <p:nvPr/>
            </p:nvSpPr>
            <p:spPr>
              <a:xfrm>
                <a:off x="3720960" y="6316560"/>
                <a:ext cx="14590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668760" y="6316560"/>
                <a:ext cx="156348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5232600" y="6316560"/>
              <a:ext cx="1484640" cy="312840"/>
              <a:chOff x="5232600" y="6316560"/>
              <a:chExt cx="1484640" cy="312840"/>
            </a:xfrm>
          </p:grpSpPr>
          <p:sp>
            <p:nvSpPr>
              <p:cNvPr id="560" name=""/>
              <p:cNvSpPr/>
              <p:nvPr/>
            </p:nvSpPr>
            <p:spPr>
              <a:xfrm>
                <a:off x="5284800" y="6316560"/>
                <a:ext cx="13798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232600" y="6316560"/>
                <a:ext cx="148464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6717960" y="6316560"/>
              <a:ext cx="2044440" cy="312840"/>
              <a:chOff x="6717960" y="6316560"/>
              <a:chExt cx="2044440" cy="312840"/>
            </a:xfrm>
          </p:grpSpPr>
          <p:sp>
            <p:nvSpPr>
              <p:cNvPr id="563" name=""/>
              <p:cNvSpPr/>
              <p:nvPr/>
            </p:nvSpPr>
            <p:spPr>
              <a:xfrm>
                <a:off x="6770160" y="6316560"/>
                <a:ext cx="19400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717960" y="6316560"/>
                <a:ext cx="204444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533520" y="380880"/>
            <a:ext cx="8381880" cy="45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Potencia</a:t>
            </a:r>
            <a:r>
              <a:rPr b="1" lang="es-ES_tradnl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potencia consumida por una centrifuga dependerá del caudal al tratar Q, de la velocidad angular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y del radio 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Así su consumo energético está dado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Potencia </a:t>
            </a:r>
            <a:r>
              <a:rPr b="0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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*Q* 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(</a:t>
            </a:r>
            <a:r>
              <a:rPr b="0" i="1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</a:t>
            </a:r>
            <a:r>
              <a:rPr b="0" i="1" lang="es-ES" sz="2400" spc="-1" strike="noStrike">
                <a:solidFill>
                  <a:srgbClr val="ff0000"/>
                </a:solidFill>
                <a:latin typeface="NewCaledonia-Italic"/>
                <a:ea typeface="Arial"/>
              </a:rPr>
              <a:t>R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)</a:t>
            </a:r>
            <a:r>
              <a:rPr b="0" lang="es-ES" sz="2400" spc="-1" strike="noStrike" baseline="30000">
                <a:solidFill>
                  <a:srgbClr val="ff0000"/>
                </a:solidFill>
                <a:latin typeface="NewCaledoni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Donde </a:t>
            </a:r>
            <a:r>
              <a:rPr b="0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es una constante que depende del tipo de centrifu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228600" y="380880"/>
            <a:ext cx="86868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osto de Centrifu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El valor depende generalmente del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de la centrifuga, a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304920" y="1812960"/>
          <a:ext cx="8839080" cy="504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12960"/>
                    <a:ext cx="8839080" cy="50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Variaciones en el tiempo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=  C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1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 I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/I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: precio compra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I:  indice 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t1: base de costeo a tiempo t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t2: tiempo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INDICES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hemical Eng Plant Cost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Marshall &amp; Swif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ost Index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889640" y="457200"/>
            <a:ext cx="52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Actualización de los costos con 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457200" y="685800"/>
            <a:ext cx="815328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ferenci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elter P., Cussler E.L. and Hu Wei Shou "Bioseparations : Dowstream Processing for Biotechnology":, John Wiley and Sons , 198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ran M." Bioprocess Engineering Principles", Academic Press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ejeda, R.M.Montesinos, R.Guzmán "Bioseparaciones", Editorial Unison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REGLAS HEURISTICAS PARA EL DISEÑO DE SISTEMAS DE SEPAR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55280" y="2205000"/>
            <a:ext cx="799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leccionar la separación basándose en diferentes propie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parar el compuesto más abundante prim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Usar etapas de purificación lo antes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leccionar procesos que exploten las diferencias en las propiedades fisicoquímicas en la forma más efic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Hacer el trabajo más difícil al f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¿Cuáles son las etapas en las cuales hay una Separación Sólido-Líqui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95" name="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135" name="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33520" y="762120"/>
            <a:ext cx="6553080" cy="4419360"/>
            <a:chOff x="533520" y="762120"/>
            <a:chExt cx="6553080" cy="4419360"/>
          </a:xfrm>
        </p:grpSpPr>
        <p:sp>
          <p:nvSpPr>
            <p:cNvPr id="175" name=""/>
            <p:cNvSpPr/>
            <p:nvPr/>
          </p:nvSpPr>
          <p:spPr>
            <a:xfrm>
              <a:off x="2057400" y="76212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9480" y="205740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29000" y="411480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3520" y="373392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09:16:05Z</dcterms:created>
  <dc:creator>Maria Elena Lienqueo C.</dc:creator>
  <dc:description/>
  <dc:language>en-US</dc:language>
  <cp:lastModifiedBy>Ing Quimica</cp:lastModifiedBy>
  <dcterms:modified xsi:type="dcterms:W3CDTF">2006-07-26T15:58:51Z</dcterms:modified>
  <cp:revision>19</cp:revision>
  <dc:subject/>
  <dc:title>Centrifugación    Operación unitaria utilizada para la separación: sólido-líquido    líquido-líquido </dc:title>
</cp:coreProperties>
</file>