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3.wmf" ContentType="image/x-wmf"/>
  <Override PartName="/ppt/media/image9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7.jpeg" ContentType="image/jpeg"/>
  <Override PartName="/ppt/media/image20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0E20-872C-4E79-86DF-8A3ADA729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8C53-9368-4196-9F01-7CDAD8C7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E14F-AAA9-484E-A4E3-A4669B33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7AC4-8F84-47F8-A57D-745AEA32F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6677-0BCF-4D49-BA82-D841A200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587E-197B-4E60-ADD3-3691B04F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B5A-C466-4A59-AAB2-D27AE9D1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5138-5102-4AB5-A4D8-109B10A0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9C6D-0E1F-42B0-B8AD-40B03F3D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B2F3-82EF-4E06-A153-AA1040BA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4E95-F3FA-44DC-8B29-48C357A1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579A-F624-4F02-9473-03D0E674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0891-F0D5-4434-92F9-52E3C9B4E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Proceso de producción de proteín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49320"/>
            <a:ext cx="8381880" cy="14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4920" y="49320"/>
            <a:ext cx="8381880" cy="33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49320"/>
            <a:ext cx="8381880" cy="29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4920" y="49320"/>
            <a:ext cx="8381880" cy="57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PProcesos de Separaciones Sólido-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 Cuándo se utiliza la separación sólido-líquido?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cél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paración de desechos cel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cuperación de cuerpos incluidos  ¿ Qué s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cen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ctr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Qué contiene la suspensión proveniente del fermentad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.o int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ragmentos de m.o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sólid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      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gredientes insolubles del medio, i.e gluca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in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 algn="just">
              <a:lnSpc>
                <a:spcPct val="100000"/>
              </a:lnSpc>
              <a:tabLst>
                <a:tab algn="l" pos="0"/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rato soluble resid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Fase líquida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Metabolit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med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ductos dese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 algn="just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41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tros productos solu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 algn="just">
              <a:lnSpc>
                <a:spcPct val="100000"/>
              </a:lnSpc>
              <a:tabLst>
                <a:tab algn="l" pos="0"/>
                <a:tab algn="l" pos="1824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33520" y="304920"/>
            <a:ext cx="8381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 ¿ Cuáles conocen sus ecuaciones de diseñ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533520" y="304920"/>
            <a:ext cx="8381880" cy="58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uáles son las operaciones unitarias utilizadas para la separación sólido-líqui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entrifugació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auxiliares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loc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eraciones de membra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icro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trafil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ál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xtracción líquido-líquido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1371600"/>
            <a:ext cx="1219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Operación unitaria utilizada para la separación: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-líquido   </a:t>
            </a:r>
            <a:br>
              <a:rPr sz="2000"/>
            </a:b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íquido-líquid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352680" y="4267080"/>
            <a:ext cx="30402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04920" y="457200"/>
            <a:ext cx="68580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entrifugación utiliza la diferencia de densidad entre los sólidos y el fluido que lo rod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una de las principales operaciones utilizadas en la separación de células desde caldos biologicos, especialemente cuando los caldos no son fáciles de filt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mbién se emplea en la remoción de desechos celulares, separación de precipitados proteícos y recuperación de productos insolubles (cuerpos incluíd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7086600" y="685800"/>
          <a:ext cx="140976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685800"/>
                    <a:ext cx="140976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1" name=""/>
          <p:cNvGrpSpPr/>
          <p:nvPr/>
        </p:nvGrpSpPr>
        <p:grpSpPr>
          <a:xfrm>
            <a:off x="0" y="4114800"/>
            <a:ext cx="9144000" cy="2745720"/>
            <a:chOff x="0" y="4114800"/>
            <a:chExt cx="9144000" cy="2745720"/>
          </a:xfrm>
        </p:grpSpPr>
        <p:grpSp>
          <p:nvGrpSpPr>
            <p:cNvPr id="192" name=""/>
            <p:cNvGrpSpPr/>
            <p:nvPr/>
          </p:nvGrpSpPr>
          <p:grpSpPr>
            <a:xfrm>
              <a:off x="5791320" y="4419720"/>
              <a:ext cx="3352680" cy="2440800"/>
              <a:chOff x="5791320" y="4419720"/>
              <a:chExt cx="3352680" cy="2440800"/>
            </a:xfrm>
          </p:grpSpPr>
          <p:pic>
            <p:nvPicPr>
              <p:cNvPr id="19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867280" y="4419720"/>
                <a:ext cx="2742840" cy="206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579132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scala Industri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0" y="4114800"/>
              <a:ext cx="3352680" cy="2745720"/>
              <a:chOff x="0" y="4114800"/>
              <a:chExt cx="3352680" cy="2745720"/>
            </a:xfrm>
          </p:grpSpPr>
          <p:pic>
            <p:nvPicPr>
              <p:cNvPr id="19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3960" y="4114800"/>
                <a:ext cx="2400120" cy="240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>
                <a:off x="0" y="6400800"/>
                <a:ext cx="3352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Escala Laboratorio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3048120" y="47242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Diferentes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  <a:ea typeface="Times New Roman"/>
                </a:rPr>
                <a:t>esca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57200" y="533520"/>
            <a:ext cx="525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íón v/s Sedi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la suspensión se encuentra detenida los sólidos más densos comienzan a decantar baj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La acción de la fuerza de gravedad, proceso llamado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 campo centrífugo  el proce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lama </a:t>
            </a: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entrifugación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3581280" cy="1860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248520" y="2971800"/>
            <a:ext cx="0" cy="83808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080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Fue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4648320"/>
            <a:ext cx="792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uando se utiliza la centrifugación la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ferencia entre la densidad los sólid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(células o partículas) y 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l caldo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se incrementa por la acción de la fuerza centrífugas que se generan por las altas velocidades de rotación de los equipos. El proceso de separación es más ráp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880" y="2590920"/>
            <a:ext cx="8305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s de Centrifu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43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457200" y="304920"/>
          <a:ext cx="316224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316224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4800600" y="380880"/>
          <a:ext cx="2295360" cy="2505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80880"/>
                    <a:ext cx="229536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1447920" y="3429000"/>
          <a:ext cx="5467320" cy="239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47920" y="3429000"/>
                    <a:ext cx="5467320" cy="23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819520" y="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ipo Tub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600200" y="380880"/>
          <a:ext cx="5830920" cy="354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880"/>
                    <a:ext cx="583092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590920" y="4038480"/>
          <a:ext cx="4010040" cy="266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4038480"/>
                    <a:ext cx="401004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3200400" y="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De Dis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33520" y="1447920"/>
          <a:ext cx="7920000" cy="36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79200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omparación entre los diferentes tipos de centrífu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685800" y="1523880"/>
          <a:ext cx="8072280" cy="358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23880"/>
                    <a:ext cx="8072280" cy="35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aracterísticas de la materia cel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57200" y="958680"/>
          <a:ext cx="8077320" cy="589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58680"/>
                    <a:ext cx="8077320" cy="58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4920" y="457200"/>
            <a:ext cx="6933960" cy="41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EDIMENTACION DE SOL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a partícula al moverse en un medio continuo e infinito se ve afectada por 2 fuerz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Flo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partícula es acelerada por la fuerza de flotación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que es la resultante de la diferencia de densidades entre la partícula y el fluido (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B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. Según Newton (suponiendo partículas esféricas):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467480" y="1143000"/>
            <a:ext cx="11430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720" y="1866960"/>
            <a:ext cx="163440" cy="181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58160" y="204804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794720" y="150480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848720" y="1295280"/>
            <a:ext cx="728640" cy="5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u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001000" y="2057400"/>
            <a:ext cx="490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4876920"/>
            <a:ext cx="830592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 partícula y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aceleración del campo al cual está sometido la partícul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828800" y="4038480"/>
                <a:ext cx="4114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708660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04920" y="457200"/>
            <a:ext cx="6933960" cy="19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r otra parte, la partícula al moverse se ve retardada por la fuerza de roce, F</a:t>
            </a:r>
            <a:r>
              <a:rPr b="0" lang="es-MX" sz="20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que se opone al movimiento. Según la Ley de Stok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315200" y="1600200"/>
            <a:ext cx="1143000" cy="1447920"/>
            <a:chOff x="7315200" y="1600200"/>
            <a:chExt cx="1143000" cy="1447920"/>
          </a:xfrm>
        </p:grpSpPr>
        <p:sp>
          <p:nvSpPr>
            <p:cNvPr id="239" name=""/>
            <p:cNvSpPr/>
            <p:nvPr/>
          </p:nvSpPr>
          <p:spPr>
            <a:xfrm>
              <a:off x="7315200" y="1600200"/>
              <a:ext cx="114300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41720" y="2324160"/>
              <a:ext cx="163080" cy="180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804800" y="25052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641720" y="1961640"/>
              <a:ext cx="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04800" y="196200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68240" y="2505240"/>
              <a:ext cx="489600" cy="54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981080" y="2057400"/>
            <a:ext cx="3886200" cy="459720"/>
            <a:chOff x="1981080" y="2057400"/>
            <a:chExt cx="3886200" cy="459720"/>
          </a:xfrm>
        </p:grpSpPr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1981080" y="2057400"/>
                  <a:ext cx="226692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⋅</m:t>
                      </m:r>
                      <m:r>
                        <m:t xml:space="preserve">π</m:t>
                      </m:r>
                      <m:r>
                        <m:t xml:space="preserve">⋅</m:t>
                      </m:r>
                      <m:r>
                        <m:t xml:space="preserve">d</m:t>
                      </m:r>
                      <m:r>
                        <m:t xml:space="preserve">⋅</m:t>
                      </m:r>
                      <m:r>
                        <m:t xml:space="preserve">μ</m:t>
                      </m:r>
                      <m:r>
                        <m:t xml:space="preserve">⋅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8" name=""/>
            <p:cNvSpPr/>
            <p:nvPr/>
          </p:nvSpPr>
          <p:spPr>
            <a:xfrm>
              <a:off x="5181480" y="2057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5680" y="22860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uerza de R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2743200"/>
            <a:ext cx="426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Symbol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=  viscosidad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 = velocidad de la partícu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80880" y="685800"/>
            <a:ext cx="8077320" cy="3197520"/>
            <a:chOff x="380880" y="685800"/>
            <a:chExt cx="8077320" cy="3197520"/>
          </a:xfrm>
        </p:grpSpPr>
        <p:sp>
          <p:nvSpPr>
            <p:cNvPr id="255" name=""/>
            <p:cNvSpPr/>
            <p:nvPr/>
          </p:nvSpPr>
          <p:spPr>
            <a:xfrm>
              <a:off x="380880" y="685800"/>
              <a:ext cx="8077320" cy="319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ebido a estas 2 fuerzas, cuando el sistema alcance el equilibrio, la partícula se moverá a una velocidad constante, igual a la velocidad terminal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B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= F</a:t>
              </a:r>
              <a:r>
                <a:rPr b="0" lang="es-MX" sz="2000" spc="-1" strike="noStrike" baseline="-30000">
                  <a:solidFill>
                    <a:srgbClr val="3333cc"/>
                  </a:solidFill>
                  <a:latin typeface="Comic Sans MS"/>
                  <a:ea typeface="Times New Roman"/>
                </a:rPr>
                <a:t>D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       (3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Estas condiciones se cumplen cuando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Casi siempre se cumple en sistemas  biológicos</a:t>
              </a:r>
              <a:r>
                <a:rPr b="0" lang="es-ES" sz="2000" spc="-1" strike="noStrike">
                  <a:solidFill>
                    <a:srgbClr val="3333cc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6" name=""/>
                <p:cNvSpPr txBox="1"/>
                <p:nvPr/>
              </p:nvSpPr>
              <p:spPr>
                <a:xfrm>
                  <a:off x="6477120" y="2606400"/>
                  <a:ext cx="1676160" cy="684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d</m:t>
                          </m:r>
                          <m:r>
                            <m:t xml:space="preserve">⋅</m:t>
                          </m:r>
                          <m:r>
                            <m:t xml:space="preserve">v</m:t>
                          </m:r>
                          <m:r>
                            <m:t xml:space="preserve">⋅</m:t>
                          </m:r>
                          <m:r>
                            <m:t xml:space="preserve">ρ</m:t>
                          </m:r>
                        </m:num>
                        <m:den>
                          <m:r>
                            <m:t xml:space="preserve">μ</m:t>
                          </m:r>
                        </m:den>
                      </m:f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7" name=""/>
          <p:cNvGrpSpPr/>
          <p:nvPr/>
        </p:nvGrpSpPr>
        <p:grpSpPr>
          <a:xfrm>
            <a:off x="457200" y="4121280"/>
            <a:ext cx="8077320" cy="674640"/>
            <a:chOff x="457200" y="4121280"/>
            <a:chExt cx="8077320" cy="674640"/>
          </a:xfrm>
        </p:grpSpPr>
        <mc:AlternateContent>
          <mc:Choice xmlns:a14="http://schemas.microsoft.com/office/drawing/2010/main" Requires="a14">
            <p:sp>
              <p:nvSpPr>
                <p:cNvPr id="258" name=""/>
                <p:cNvSpPr txBox="1"/>
                <p:nvPr/>
              </p:nvSpPr>
              <p:spPr>
                <a:xfrm>
                  <a:off x="457200" y="4121280"/>
                  <a:ext cx="426708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t xml:space="preserve">a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259" name=""/>
            <p:cNvGrpSpPr/>
            <p:nvPr/>
          </p:nvGrpSpPr>
          <p:grpSpPr>
            <a:xfrm>
              <a:off x="4648320" y="4267080"/>
              <a:ext cx="3886200" cy="457200"/>
              <a:chOff x="4648320" y="4267080"/>
              <a:chExt cx="3886200" cy="457200"/>
            </a:xfrm>
          </p:grpSpPr>
          <mc:AlternateContent>
            <mc:Choice xmlns:a14="http://schemas.microsoft.com/office/drawing/2010/main" Requires="a14">
              <p:sp>
                <p:nvSpPr>
                  <p:cNvPr id="260" name=""/>
                  <p:cNvSpPr txBox="1"/>
                  <p:nvPr/>
                </p:nvSpPr>
                <p:spPr>
                  <a:xfrm>
                    <a:off x="4648320" y="4267080"/>
                    <a:ext cx="2266920" cy="405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61" name=""/>
              <p:cNvSpPr/>
              <p:nvPr/>
            </p:nvSpPr>
            <p:spPr>
              <a:xfrm>
                <a:off x="7848720" y="4267080"/>
                <a:ext cx="6858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2" name=""/>
          <p:cNvSpPr/>
          <p:nvPr/>
        </p:nvSpPr>
        <p:spPr>
          <a:xfrm>
            <a:off x="6629400" y="4114800"/>
            <a:ext cx="380880" cy="60948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04920" y="457200"/>
            <a:ext cx="6933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 partir de (3) se puede determinar la velocidad terminal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2590920"/>
            <a:ext cx="5562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e del campo al cual se encuentre sometid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51040" y="1655640"/>
                <a:ext cx="447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6629400" y="1752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5029200" y="2209320"/>
            <a:ext cx="0" cy="3812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3200400"/>
            <a:ext cx="7772400" cy="718920"/>
            <a:chOff x="457200" y="3200400"/>
            <a:chExt cx="7772400" cy="718920"/>
          </a:xfrm>
        </p:grpSpPr>
        <p:sp>
          <p:nvSpPr>
            <p:cNvPr id="275" name=""/>
            <p:cNvSpPr/>
            <p:nvPr/>
          </p:nvSpPr>
          <p:spPr>
            <a:xfrm>
              <a:off x="457200" y="32767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 u="sng">
                  <a:solidFill>
                    <a:srgbClr val="cc0000"/>
                  </a:solidFill>
                  <a:uFillTx/>
                  <a:latin typeface="Comic Sans MS"/>
                  <a:ea typeface="Times New Roman"/>
                </a:rPr>
                <a:t>Si es campo gravitacional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 (sedimentación)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4267080" y="3200400"/>
                  <a:ext cx="29718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g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  <m:r>
                            <m:t xml:space="preserve">μ</m:t>
                          </m:r>
                        </m:den>
                      </m:f>
                      <m:r>
                        <m:t xml:space="preserve">(</m:t>
                      </m:r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ρ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"/>
            <p:cNvSpPr/>
            <p:nvPr/>
          </p:nvSpPr>
          <p:spPr>
            <a:xfrm>
              <a:off x="754380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66680" y="4572000"/>
            <a:ext cx="7162920" cy="789120"/>
            <a:chOff x="1066680" y="4572000"/>
            <a:chExt cx="7162920" cy="789120"/>
          </a:xfrm>
        </p:grpSpPr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1066680" y="4572000"/>
                  <a:ext cx="5257800" cy="78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s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s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b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qu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mora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en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sedimentar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80" name=""/>
            <p:cNvSpPr/>
            <p:nvPr/>
          </p:nvSpPr>
          <p:spPr>
            <a:xfrm>
              <a:off x="7162920" y="46483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5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2120" y="76212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 1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	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Sedimentación de  células inmoviliz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uchas células animales son cultivadas en la superficie de micro-esferas Esas esferas (microcarrier) tienen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2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 diámetro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50 </a:t>
            </a:r>
            <a:r>
              <a:rPr b="1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m.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 Un fermentador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50 litros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es usado para el crecimiento de estas células en los microcarrier para producir una vacuna.  Después que las células han crecido, la agitación es detenida y los microcarrier comienzan a sedimentar.  El estanque tiene una razón entr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altura y diámetro de 1,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l flujo libre de microcarrier tiene una den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.00 g/cm</a:t>
            </a:r>
            <a:r>
              <a:rPr b="1" lang="es-ES_tradnl" sz="18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 y una viscosidad de 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1,1 cP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. (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 0.011 [g/cm sec]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Calcule el tiempo de sedimentación de estos microcarrier suponiendo que sedimentan a su velocidad termi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ecto de la eficiencia de cada eta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867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304920" y="2666880"/>
            <a:ext cx="8381880" cy="2014200"/>
            <a:chOff x="304920" y="2666880"/>
            <a:chExt cx="8381880" cy="2014200"/>
          </a:xfrm>
        </p:grpSpPr>
        <mc:AlternateContent>
          <mc:Choice xmlns:a14="http://schemas.microsoft.com/office/drawing/2010/main" Requires="a14">
            <p:sp>
              <p:nvSpPr>
                <p:cNvPr id="289" name=""/>
                <p:cNvSpPr txBox="1"/>
                <p:nvPr/>
              </p:nvSpPr>
              <p:spPr>
                <a:xfrm>
                  <a:off x="4572000" y="3657600"/>
                  <a:ext cx="189396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60</m:t>
                          </m:r>
                        </m:den>
                      </m:f>
                      <m:r>
                        <m:t xml:space="preserve">(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rad</m:t>
                          </m:r>
                        </m:num>
                        <m:den>
                          <m:r>
                            <m:t xml:space="preserve">s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"/>
            <p:cNvSpPr/>
            <p:nvPr/>
          </p:nvSpPr>
          <p:spPr>
            <a:xfrm>
              <a:off x="304920" y="2666880"/>
              <a:ext cx="83818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Don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r :  radio desde el centro de la centrífuga a la posición donde se encuentra la partícul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</a:t>
              </a: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: velocidad angular de rot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n: revoluciones por minu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Comic Sans MS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04920" y="685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Si es un campo centrífug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043080" y="1449360"/>
                <a:ext cx="2845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6408720" y="1487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965240" y="4952880"/>
            <a:ext cx="6721560" cy="830520"/>
            <a:chOff x="1965240" y="4952880"/>
            <a:chExt cx="6721560" cy="830520"/>
          </a:xfrm>
        </p:grpSpPr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1965240" y="4995720"/>
                  <a:ext cx="5135760" cy="7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g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istancia que se debe recorrer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Tiempo que demora en recorrerl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96" name=""/>
            <p:cNvSpPr/>
            <p:nvPr/>
          </p:nvSpPr>
          <p:spPr>
            <a:xfrm>
              <a:off x="7848720" y="49528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6a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04920" y="45720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correlacionar las 2 velocidades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3352680" y="1295280"/>
                <a:ext cx="28195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990720"/>
            <a:ext cx="792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Factor “G”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(Distinto a la eficiencia granulométr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fine el 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actor “G”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racterización y escalamiento de centrífugas es una medida relativa de  la velocidad de sedimentación de una partícula en un campo centrífugo con respecto a su gravitaci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eneralmente las condiciones de operación de definen en función de los “G” que se deben aplic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3505320" y="3124080"/>
                <a:ext cx="228600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20574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14400" y="11430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DE BOTELLAS (labor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457200" y="2666880"/>
                <a:ext cx="54975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34" name=""/>
          <p:cNvGrpSpPr/>
          <p:nvPr/>
        </p:nvGrpSpPr>
        <p:grpSpPr>
          <a:xfrm>
            <a:off x="1523880" y="2666880"/>
            <a:ext cx="4496040" cy="914400"/>
            <a:chOff x="1523880" y="2666880"/>
            <a:chExt cx="4496040" cy="914400"/>
          </a:xfrm>
        </p:grpSpPr>
        <p:sp>
          <p:nvSpPr>
            <p:cNvPr id="335" name=""/>
            <p:cNvSpPr/>
            <p:nvPr/>
          </p:nvSpPr>
          <p:spPr>
            <a:xfrm>
              <a:off x="1523880" y="2666880"/>
              <a:ext cx="457200" cy="83844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48320" y="2666880"/>
              <a:ext cx="1371600" cy="91440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066680" y="3962520"/>
                <a:ext cx="27432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057400" y="5410080"/>
                <a:ext cx="2914560" cy="108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(</m:t>
                    </m:r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228600" y="510552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722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42670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5486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364440" y="533520"/>
            <a:ext cx="27795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762120" y="380880"/>
            <a:ext cx="8153280" cy="52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    </a:t>
            </a:r>
            <a:r>
              <a:rPr b="1" lang="es-ES_tradnl" sz="1800" spc="-1" strike="noStrike" u="sng">
                <a:solidFill>
                  <a:srgbClr val="cc0000"/>
                </a:solidFill>
                <a:uFillTx/>
                <a:latin typeface="Arial"/>
                <a:ea typeface="Arial"/>
              </a:rPr>
              <a:t>Ejemplo 2 Centrifugación discontinua de Células de levad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Una centrífuga, que utiliza  botellas, es usada para colectar las células de levadura luego de una fermentación.  Durante la centrifugación la distancia entre la superficie del líquido y el eje de rotación (eje axial)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3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la distancia entre el fondo del cilindro al eje axial es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0 c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s células de levadura se pueden asumir como partículas esféricas con un diámetro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8.0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Symbol"/>
                <a:ea typeface="Symbol"/>
              </a:rPr>
              <a:t>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m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densidad de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5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.  El fluido tiene propiedades similares al agua pur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( Densidad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1.00  g/cm</a:t>
            </a:r>
            <a:r>
              <a:rPr b="1" lang="es-ES_tradnl" sz="2000" spc="-1" strike="noStrike" u="sng" baseline="30000">
                <a:solidFill>
                  <a:srgbClr val="3333cc"/>
                </a:solidFill>
                <a:uFillTx/>
                <a:latin typeface="Arial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y una viscosidad de 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0.01 g/cm sec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a centrifuga está operando a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Times New Roman"/>
              </a:rPr>
              <a:t>500 rp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Determine el tiempo que tomará una separación completa de las levadura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CUACIONES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2057400"/>
            <a:ext cx="480060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 un movimiento en la dirección z y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“z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CENTRIFUGA TUBULAR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685800" y="3276720"/>
                <a:ext cx="3314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60" name=""/>
          <p:cNvGraphicFramePr/>
          <p:nvPr/>
        </p:nvGraphicFramePr>
        <p:xfrm>
          <a:off x="5486400" y="762120"/>
          <a:ext cx="3524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762120"/>
                    <a:ext cx="3524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533520"/>
            <a:ext cx="7467480" cy="39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Movimiento en Dirección radial “r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  Flujo de alimen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R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adio del nivel del líquido, Radio de la centríf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Comic Sans MS"/>
                <a:ea typeface="Times New Roman"/>
              </a:rPr>
              <a:t>El movimiento combin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165320" y="1374840"/>
                <a:ext cx="53118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676520" y="4648320"/>
                <a:ext cx="42577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(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8" name=""/>
          <p:cNvSpPr/>
          <p:nvPr/>
        </p:nvSpPr>
        <p:spPr>
          <a:xfrm>
            <a:off x="7391520" y="51814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533520"/>
            <a:ext cx="7467480" cy="62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pendiendo de los valores de v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g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Q dependerá la posición  de la partícula en la centrífug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un flujo óptimo para que una partícula que ingresa por el centro, sólo se pegue a la pared al final.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l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z =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R</a:t>
            </a:r>
            <a:r>
              <a:rPr b="0" lang="es-ES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 una centrífuga tubular: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1852560" y="5065560"/>
                <a:ext cx="2795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395" name=""/>
          <p:cNvGraphicFramePr/>
          <p:nvPr/>
        </p:nvGraphicFramePr>
        <p:xfrm>
          <a:off x="6095880" y="2438280"/>
          <a:ext cx="304812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438280"/>
                    <a:ext cx="304812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1813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533520"/>
            <a:ext cx="8305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ificando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sí se  determina la ecuación de diseño de una centrífuga tubular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6692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0984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619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336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2886120" y="979560"/>
                <a:ext cx="43243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                  donde   R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317664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1206360" y="3386160"/>
                <a:ext cx="43182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R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ubuLa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 flipV="1">
            <a:off x="762120" y="3962160"/>
            <a:ext cx="533160" cy="1600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1752480" y="4114440"/>
            <a:ext cx="0" cy="11430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flipV="1">
            <a:off x="3504960" y="4266720"/>
            <a:ext cx="1143000" cy="3812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648320" y="35053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9480" y="4844880"/>
            <a:ext cx="85345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ística de la centrífuga y condiciones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ámetr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lujo    Función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304920" y="457200"/>
            <a:ext cx="85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CUACION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" y="2057400"/>
            <a:ext cx="4572000" cy="34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un análisis análogo para centrífugas de disco se tiene como ecuación de  diseño: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</a:t>
            </a:r>
            <a:r>
              <a:rPr b="0" lang="es-MX" sz="1800" spc="-1" strike="noStrike" baseline="-30000">
                <a:solidFill>
                  <a:srgbClr val="3333cc"/>
                </a:solidFill>
                <a:latin typeface="Comic Sans MS"/>
                <a:ea typeface="Times New Roman"/>
              </a:rPr>
              <a:t>D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Número de discos.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ás detalles ver desarrol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14400" y="114300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ENTRIFUGA DE DIS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817560" y="3222720"/>
                <a:ext cx="5672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5638680" y="3276720"/>
            <a:ext cx="914400" cy="76176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114960" y="838080"/>
          <a:ext cx="302904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4960" y="838080"/>
                    <a:ext cx="302904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74674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3520" y="57913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elter P., Cussler E.L. and Hu Wei Shou "Bioseparations : Dowstream Processing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85720" y="306360"/>
            <a:ext cx="7970760" cy="6253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724360" y="551664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84720" y="3933720"/>
            <a:ext cx="17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5516640"/>
            <a:ext cx="172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40360" y="6237360"/>
            <a:ext cx="2016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u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" y="380880"/>
            <a:ext cx="868680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3 Centrifuga continua de Disco para </a:t>
            </a:r>
            <a:r>
              <a:rPr b="1" i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Chlor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élulas de </a:t>
            </a:r>
            <a:r>
              <a:rPr b="0" i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lorella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han sido cultivadas en un estanque abierto, las células serán cosechadas haciéndolas pasar a través de una centrífuga de dis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velocidad de sedimentación de estas células  ha sido medida y es de 1.07 x 10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Arial"/>
                <a:ea typeface="Arial"/>
              </a:rPr>
              <a:t>-4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cm/s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centrífuga tiene 80 discos con un ángulo de 40°, el radio externo es 15,7 cm y el diámetro interno de 6 c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Se planea operar la centrífuga a 6000 r/m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stime la cantidad de flujo que puede ser procesado en esta centrífuga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304920" y="380880"/>
            <a:ext cx="853416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ff0000"/>
                </a:solidFill>
                <a:uFillTx/>
                <a:latin typeface="Comic Sans MS"/>
                <a:ea typeface="Times New Roman"/>
              </a:rPr>
              <a:t>Escalamiento de Centrifug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diseño de centrífugas a gran escala involucra el uso de información de laboratorio para predecir el comportamiento de las centrífugas comerci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étodos que se pueden utilizar para tratar de adaptar los procesos de laboratorio a gran esca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Métodos Cual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s Cuantit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914400"/>
            <a:ext cx="8534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  Métodos cualitativo   (Estimación Grue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ablece un coeficiente de dificultad que tiene una separación dada para lo cual se calcula un coeficiente entre “G” y el tiempo aplicad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ie, “G 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2192400" y="2803680"/>
                <a:ext cx="27176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Ω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>
            <a:off x="380880" y="434340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o: radio característico o máximo de la centrí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31520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8600" y="457200"/>
            <a:ext cx="85345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xisten valores característico para cada variedad de biom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ido             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 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ec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élulas eucarion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oplasto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3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echos células eucariote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úcleo de célula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oteínas precipitadas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0 10</a:t>
            </a:r>
            <a:r>
              <a:rPr b="0" lang="es-MX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itocond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8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esechos bacteria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4 10</a:t>
            </a:r>
            <a:r>
              <a:rPr b="0" lang="es-MX" sz="20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Lis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Ribo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Polisomas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1100</a:t>
            </a:r>
            <a:r>
              <a:rPr b="0" lang="es-ES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00cc00"/>
                </a:solidFill>
                <a:latin typeface="Comic Sans MS"/>
                <a:ea typeface="Times New Roman"/>
              </a:rPr>
              <a:t> 10</a:t>
            </a:r>
            <a:r>
              <a:rPr b="0" lang="es-MX" sz="2000" spc="-1" strike="noStrike" baseline="30000">
                <a:solidFill>
                  <a:srgbClr val="00cc00"/>
                </a:solidFill>
                <a:latin typeface="Comic Sans MS"/>
                <a:ea typeface="Times New Roman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 gran escala se debe mantener el mismo valor de “G t”, para ello se determina “G” o “t” y se selecciona que equipo puede ser útil</a:t>
            </a:r>
            <a:r>
              <a:rPr b="0" lang="es-ES" sz="2000" spc="-1" strike="noStrike" u="sng">
                <a:solidFill>
                  <a:srgbClr val="a50021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71484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1478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924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052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04920" y="11430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2448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7766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9052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4920" y="228600"/>
            <a:ext cx="853416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Método Cuanti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ada tipo de centrífuga se define según una ecu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comparar 2 centrífugas de diferente tipo se deben considerar factores de eficiencia y se debe cumpl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ficiencia, </a:t>
            </a:r>
            <a:r>
              <a:rPr b="0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</a:t>
            </a:r>
            <a:r>
              <a:rPr b="0" lang="es-MX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,</a:t>
            </a:r>
            <a:r>
              <a:rPr b="0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cada tipo de centrífuga, 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ipo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Eficiencia </a:t>
            </a:r>
            <a:r>
              <a:rPr b="0" lang="es-MX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[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%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otellas (lab)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Tubular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Discos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lang="es-MX" sz="20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60036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2585880" y="1542960"/>
                <a:ext cx="312912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ipo 1       </m:t>
                    </m:r>
                    <m:r>
                      <m:t xml:space="preserve">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7" name=""/>
          <p:cNvSpPr/>
          <p:nvPr/>
        </p:nvSpPr>
        <p:spPr>
          <a:xfrm>
            <a:off x="37339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2590920" y="3276720"/>
                <a:ext cx="2514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η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754380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4674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228600" y="380880"/>
            <a:ext cx="8686800" cy="31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Ejemplo 4 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	</a:t>
            </a:r>
            <a:r>
              <a:rPr b="1" lang="es-ES_tradnl" sz="2000" spc="-1" strike="noStrike">
                <a:solidFill>
                  <a:srgbClr val="cc0000"/>
                </a:solidFill>
                <a:latin typeface="Arial"/>
                <a:ea typeface="Arial"/>
              </a:rPr>
              <a:t> Escal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han realizado pruebas de laboratorio para definir el parámetro de escalamiento para el procesamiento de una suspensión con material celular. En el experimento se procesaron 3.3 [lt/min] de una suspensión de células de </a:t>
            </a:r>
            <a:r>
              <a:rPr b="0" i="1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E.coli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, en una centrifuga tubular de 12.7 [cm] de radio interno y 73 [cm] de largo. Se utilizó una velocidad de rotación de 16000 r.p.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 requiere seleccionar una centrífuga para procesar 800 [lt/hr] de la misma suspensión antes mencionada. Para ello se cuenta con las siguientes alternativas de centrífugas de discos.</a:t>
            </a: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33520" y="3657600"/>
            <a:ext cx="8228880" cy="2971800"/>
            <a:chOff x="533520" y="3657600"/>
            <a:chExt cx="8228880" cy="2971800"/>
          </a:xfrm>
        </p:grpSpPr>
        <p:sp>
          <p:nvSpPr>
            <p:cNvPr id="513" name=""/>
            <p:cNvSpPr/>
            <p:nvPr/>
          </p:nvSpPr>
          <p:spPr>
            <a:xfrm>
              <a:off x="585720" y="420480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º de disc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615840" y="420480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075280" y="420480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455880" y="420480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85720" y="459576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ex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615840" y="459576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75280" y="459576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455880" y="459576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5720" y="4987080"/>
              <a:ext cx="30301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dio interno [cm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615840" y="4987080"/>
              <a:ext cx="14590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75280" y="4987080"/>
              <a:ext cx="13802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455880" y="4987080"/>
              <a:ext cx="194004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85720" y="5378040"/>
              <a:ext cx="303012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Ángulo [º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615840" y="5378040"/>
              <a:ext cx="145908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75280" y="5378040"/>
              <a:ext cx="13802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455880" y="5378040"/>
              <a:ext cx="19400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5720" y="5769000"/>
              <a:ext cx="303012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locidad máxima</a:t>
              </a:r>
              <a:br>
                <a:rPr sz="2000"/>
              </a:b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tación [r.p.m.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15840" y="5769000"/>
              <a:ext cx="14590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75280" y="5769000"/>
              <a:ext cx="13802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65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55880" y="5769000"/>
              <a:ext cx="194004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533520" y="3657600"/>
              <a:ext cx="3134880" cy="547200"/>
              <a:chOff x="533520" y="3657600"/>
              <a:chExt cx="3134880" cy="547200"/>
            </a:xfrm>
          </p:grpSpPr>
          <p:sp>
            <p:nvSpPr>
              <p:cNvPr id="534" name=""/>
              <p:cNvSpPr/>
              <p:nvPr/>
            </p:nvSpPr>
            <p:spPr>
              <a:xfrm>
                <a:off x="533520" y="3657600"/>
                <a:ext cx="31348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5" name=""/>
              <p:cNvGrpSpPr/>
              <p:nvPr/>
            </p:nvGrpSpPr>
            <p:grpSpPr>
              <a:xfrm>
                <a:off x="533520" y="3657600"/>
                <a:ext cx="3134520" cy="547200"/>
                <a:chOff x="533520" y="3657600"/>
                <a:chExt cx="3134520" cy="54720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585720" y="3657600"/>
                  <a:ext cx="302976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Propied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533520" y="3657600"/>
                  <a:ext cx="31345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3668760" y="3657600"/>
              <a:ext cx="1563480" cy="547200"/>
              <a:chOff x="3668760" y="3657600"/>
              <a:chExt cx="1563480" cy="547200"/>
            </a:xfrm>
          </p:grpSpPr>
          <p:sp>
            <p:nvSpPr>
              <p:cNvPr id="539" name=""/>
              <p:cNvSpPr/>
              <p:nvPr/>
            </p:nvSpPr>
            <p:spPr>
              <a:xfrm>
                <a:off x="3668760" y="3657600"/>
                <a:ext cx="156348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0" name=""/>
              <p:cNvGrpSpPr/>
              <p:nvPr/>
            </p:nvGrpSpPr>
            <p:grpSpPr>
              <a:xfrm>
                <a:off x="3668760" y="3657600"/>
                <a:ext cx="1563120" cy="547200"/>
                <a:chOff x="3668760" y="3657600"/>
                <a:chExt cx="1563120" cy="54720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3720960" y="3657600"/>
                  <a:ext cx="14587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668760" y="3657600"/>
                  <a:ext cx="156312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5232600" y="3657600"/>
              <a:ext cx="1484640" cy="547200"/>
              <a:chOff x="5232600" y="3657600"/>
              <a:chExt cx="1484640" cy="547200"/>
            </a:xfrm>
          </p:grpSpPr>
          <p:sp>
            <p:nvSpPr>
              <p:cNvPr id="544" name=""/>
              <p:cNvSpPr/>
              <p:nvPr/>
            </p:nvSpPr>
            <p:spPr>
              <a:xfrm>
                <a:off x="5232600" y="3657600"/>
                <a:ext cx="14846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5" name=""/>
              <p:cNvGrpSpPr/>
              <p:nvPr/>
            </p:nvGrpSpPr>
            <p:grpSpPr>
              <a:xfrm>
                <a:off x="5232600" y="3657600"/>
                <a:ext cx="1484280" cy="547200"/>
                <a:chOff x="5232600" y="3657600"/>
                <a:chExt cx="1484280" cy="54720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284800" y="3657600"/>
                  <a:ext cx="137952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232600" y="3657600"/>
                  <a:ext cx="14842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8" name=""/>
            <p:cNvGrpSpPr/>
            <p:nvPr/>
          </p:nvGrpSpPr>
          <p:grpSpPr>
            <a:xfrm>
              <a:off x="6717960" y="3657600"/>
              <a:ext cx="2044440" cy="547200"/>
              <a:chOff x="6717960" y="3657600"/>
              <a:chExt cx="2044440" cy="547200"/>
            </a:xfrm>
          </p:grpSpPr>
          <p:sp>
            <p:nvSpPr>
              <p:cNvPr id="549" name=""/>
              <p:cNvSpPr/>
              <p:nvPr/>
            </p:nvSpPr>
            <p:spPr>
              <a:xfrm>
                <a:off x="6717960" y="3657600"/>
                <a:ext cx="2044440" cy="5472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0" name=""/>
              <p:cNvGrpSpPr/>
              <p:nvPr/>
            </p:nvGrpSpPr>
            <p:grpSpPr>
              <a:xfrm>
                <a:off x="6717960" y="3657600"/>
                <a:ext cx="2044080" cy="547200"/>
                <a:chOff x="6717960" y="3657600"/>
                <a:chExt cx="2044080" cy="54720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6770160" y="3657600"/>
                  <a:ext cx="1939680" cy="54720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pción 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717960" y="3657600"/>
                  <a:ext cx="2044080" cy="54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3" name=""/>
            <p:cNvGrpSpPr/>
            <p:nvPr/>
          </p:nvGrpSpPr>
          <p:grpSpPr>
            <a:xfrm>
              <a:off x="533520" y="6316560"/>
              <a:ext cx="3134880" cy="312840"/>
              <a:chOff x="533520" y="6316560"/>
              <a:chExt cx="3134880" cy="312840"/>
            </a:xfrm>
          </p:grpSpPr>
          <p:sp>
            <p:nvSpPr>
              <p:cNvPr id="554" name=""/>
              <p:cNvSpPr/>
              <p:nvPr/>
            </p:nvSpPr>
            <p:spPr>
              <a:xfrm>
                <a:off x="585720" y="6316560"/>
                <a:ext cx="30301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33520" y="6316560"/>
                <a:ext cx="31348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3668760" y="6316560"/>
              <a:ext cx="1563480" cy="312840"/>
              <a:chOff x="3668760" y="6316560"/>
              <a:chExt cx="1563480" cy="312840"/>
            </a:xfrm>
          </p:grpSpPr>
          <p:sp>
            <p:nvSpPr>
              <p:cNvPr id="557" name=""/>
              <p:cNvSpPr/>
              <p:nvPr/>
            </p:nvSpPr>
            <p:spPr>
              <a:xfrm>
                <a:off x="3720960" y="6316560"/>
                <a:ext cx="1459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668760" y="6316560"/>
                <a:ext cx="156348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5232600" y="6316560"/>
              <a:ext cx="1484640" cy="312840"/>
              <a:chOff x="5232600" y="6316560"/>
              <a:chExt cx="1484640" cy="312840"/>
            </a:xfrm>
          </p:grpSpPr>
          <p:sp>
            <p:nvSpPr>
              <p:cNvPr id="560" name=""/>
              <p:cNvSpPr/>
              <p:nvPr/>
            </p:nvSpPr>
            <p:spPr>
              <a:xfrm>
                <a:off x="5284800" y="6316560"/>
                <a:ext cx="13798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232600" y="6316560"/>
                <a:ext cx="14846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6717960" y="6316560"/>
              <a:ext cx="2044440" cy="312840"/>
              <a:chOff x="6717960" y="6316560"/>
              <a:chExt cx="2044440" cy="312840"/>
            </a:xfrm>
          </p:grpSpPr>
          <p:sp>
            <p:nvSpPr>
              <p:cNvPr id="563" name=""/>
              <p:cNvSpPr/>
              <p:nvPr/>
            </p:nvSpPr>
            <p:spPr>
              <a:xfrm>
                <a:off x="6770160" y="6316560"/>
                <a:ext cx="19400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717960" y="6316560"/>
                <a:ext cx="2044440" cy="312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533520" y="380880"/>
            <a:ext cx="8381880" cy="45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tencia</a:t>
            </a:r>
            <a:r>
              <a:rPr b="1" lang="es-ES_tradnl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La potencia consumida por una centrifuga dependerá del caudal al tratar Q, de la velocidad angular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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y del radio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Así su consumo energético está dado p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Potencia </a:t>
            </a:r>
            <a:r>
              <a:rPr b="0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</a:t>
            </a:r>
            <a:r>
              <a:rPr b="0" lang="es-ES" sz="2400" spc="-1" strike="noStrike">
                <a:solidFill>
                  <a:srgbClr val="ff0000"/>
                </a:solidFill>
                <a:latin typeface="Comic Sans MS"/>
                <a:ea typeface="Arial"/>
              </a:rPr>
              <a:t>*Q* 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(</a:t>
            </a:r>
            <a:r>
              <a:rPr b="0" i="1" lang="es-ES" sz="2400" spc="-1" strike="noStrike">
                <a:solidFill>
                  <a:srgbClr val="ff0000"/>
                </a:solidFill>
                <a:latin typeface="Symbol"/>
                <a:ea typeface="Symbol"/>
              </a:rPr>
              <a:t></a:t>
            </a:r>
            <a:r>
              <a:rPr b="0" i="1" lang="es-ES" sz="2400" spc="-1" strike="noStrike">
                <a:solidFill>
                  <a:srgbClr val="ff0000"/>
                </a:solidFill>
                <a:latin typeface="NewCaledonia-Italic"/>
                <a:ea typeface="Arial"/>
              </a:rPr>
              <a:t>R</a:t>
            </a:r>
            <a:r>
              <a:rPr b="0" lang="es-ES" sz="2400" spc="-1" strike="noStrike">
                <a:solidFill>
                  <a:srgbClr val="ff0000"/>
                </a:solidFill>
                <a:latin typeface="NewCaledonia"/>
                <a:ea typeface="Arial"/>
              </a:rPr>
              <a:t>)</a:t>
            </a:r>
            <a:r>
              <a:rPr b="0" lang="es-ES" sz="2400" spc="-1" strike="noStrike" baseline="30000">
                <a:solidFill>
                  <a:srgbClr val="ff0000"/>
                </a:solidFill>
                <a:latin typeface="NewCaledonia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  <a:ea typeface="Arial"/>
              </a:rPr>
              <a:t>Donde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es una constante que depende del tipo de centrifu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228600" y="380880"/>
            <a:ext cx="86868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Costo de Centrifu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El valor depende generalmente del </a:t>
            </a:r>
            <a:r>
              <a:rPr b="1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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Arial"/>
              </a:rPr>
              <a:t> de la centrifuga, as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304920" y="1812960"/>
          <a:ext cx="883908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12960"/>
                    <a:ext cx="883908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Variaciones en el tiempo de comp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=  C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 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2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/I</a:t>
            </a:r>
            <a:r>
              <a:rPr b="0" lang="es-ES_tradnl" sz="2000" spc="-1" strike="noStrike" baseline="-25000">
                <a:solidFill>
                  <a:srgbClr val="3333cc"/>
                </a:solidFill>
                <a:latin typeface="Arial"/>
                <a:ea typeface="Arial"/>
              </a:rPr>
              <a:t>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: precio compra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:  indice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1: base de costeo a tiempo t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t2: tiempo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INDICES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hemical Eng Plant Cost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Marshall &amp; Swif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Cost Index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889640" y="457200"/>
            <a:ext cx="522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Actualización de los costos co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57200" y="685800"/>
            <a:ext cx="815328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ferenci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elter P., Cussler E.L. and Hu Wei Shou "Bioseparations : Dowstream Processing for Biotechnology":, John Wiley and Sons , 198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ran M." Bioprocess Engineering Principles", Academic Press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ejeda, R.M.Montesinos, R.Guzmán "Bioseparaciones", Editorial Unison, 199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Comic Sans MS"/>
              </a:rPr>
              <a:t>REGLAS HEURISTICAS PARA EL DISEÑO DE SISTEMAS DE SEPAR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55280" y="2205000"/>
            <a:ext cx="799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la separación basándose en diferentes propie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parar el compuesto más abundante prim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Usar etapas de purificación lo antes po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Seleccionar procesos que exploten las diferencias en las propiedades fisicoquímicas en la forma más efic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cc"/>
                </a:solidFill>
                <a:latin typeface="Comic Sans MS"/>
              </a:rPr>
              <a:t>Hacer el trabajo más difícil al f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¿Cuáles son las etapas en las cuales hay una Separación Sólido-Líqui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95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685800" y="0"/>
            <a:ext cx="7772040" cy="6876360"/>
            <a:chOff x="685800" y="0"/>
            <a:chExt cx="7772040" cy="6876360"/>
          </a:xfrm>
        </p:grpSpPr>
        <p:sp>
          <p:nvSpPr>
            <p:cNvPr id="135" name=""/>
            <p:cNvSpPr/>
            <p:nvPr/>
          </p:nvSpPr>
          <p:spPr>
            <a:xfrm>
              <a:off x="870480" y="1638720"/>
              <a:ext cx="3038040" cy="435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73600" y="504000"/>
              <a:ext cx="407088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01800" y="1701720"/>
              <a:ext cx="22068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ompimiento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70480" y="315144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recipitación  Ácido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Nucleicos, Proteas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73200" y="4461840"/>
              <a:ext cx="15606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Concent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082760" y="5357520"/>
              <a:ext cx="1716120" cy="575640"/>
            </a:xfrm>
            <a:prstGeom prst="rect">
              <a:avLst/>
            </a:prstGeom>
            <a:solidFill>
              <a:srgbClr val="fdc0e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Purificación Al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Resolu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1000" y="6429240"/>
              <a:ext cx="13046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Refinami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70480" y="2331720"/>
              <a:ext cx="3043440" cy="5756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Mater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Intracelular (Desech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141360" y="0"/>
              <a:ext cx="2945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aldo de Fer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51160" y="1008000"/>
              <a:ext cx="3038040" cy="39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16600" y="4427640"/>
              <a:ext cx="2305440" cy="3621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61400" y="6302880"/>
              <a:ext cx="2490120" cy="48852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351160" y="1071360"/>
              <a:ext cx="321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Separación de Célul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88560" y="2836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258280" y="4727160"/>
              <a:ext cx="18349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88560" y="1260360"/>
              <a:ext cx="0" cy="441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71640" y="693000"/>
              <a:ext cx="34077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6422040" y="4600800"/>
              <a:ext cx="15883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461400" y="693000"/>
              <a:ext cx="11253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04680" y="1260360"/>
              <a:ext cx="27756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61400" y="693000"/>
              <a:ext cx="0" cy="38844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34240" y="315000"/>
              <a:ext cx="0" cy="378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41200" y="441000"/>
              <a:ext cx="203112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Si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inmoviliza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omic Sans MS"/>
                </a:rPr>
                <a:t>Células retenid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76720" y="378000"/>
              <a:ext cx="1577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Con Célul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88560" y="2079720"/>
              <a:ext cx="0" cy="241200"/>
            </a:xfrm>
            <a:prstGeom prst="line">
              <a:avLst/>
            </a:prstGeom>
            <a:ln w="76320">
              <a:solidFill>
                <a:srgbClr val="b5006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88560" y="1260360"/>
              <a:ext cx="447120" cy="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58280" y="4475160"/>
              <a:ext cx="0" cy="252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95600" y="693000"/>
              <a:ext cx="0" cy="39078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82240" y="1260360"/>
              <a:ext cx="0" cy="31464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42080" y="4790160"/>
              <a:ext cx="0" cy="567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42080" y="5861880"/>
              <a:ext cx="0" cy="43056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8880" y="119736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Célul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49760" y="2773080"/>
              <a:ext cx="170100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Sobrenada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85800" y="5357520"/>
              <a:ext cx="18108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0480" y="3969360"/>
              <a:ext cx="2980080" cy="575640"/>
            </a:xfrm>
            <a:prstGeom prst="rect">
              <a:avLst/>
            </a:prstGeom>
            <a:noFill/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Comic Sans MS"/>
                </a:rPr>
                <a:t>Tratamiento de cuerpos inclui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88560" y="3655440"/>
              <a:ext cx="0" cy="315000"/>
            </a:xfrm>
            <a:prstGeom prst="line">
              <a:avLst/>
            </a:prstGeom>
            <a:ln w="76320">
              <a:solidFill>
                <a:srgbClr val="dc008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97200" y="1385280"/>
              <a:ext cx="269640" cy="363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22040" y="5357520"/>
              <a:ext cx="2035440" cy="4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52320" y="6239880"/>
              <a:ext cx="2405520" cy="63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 u="sng">
                  <a:solidFill>
                    <a:srgbClr val="000000"/>
                  </a:solidFill>
                  <a:uFillTx/>
                  <a:latin typeface="Comic Sans MS"/>
                </a:rPr>
                <a:t>Permi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Altos niveles de purez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Comic Sans MS"/>
                </a:rPr>
                <a:t>Estabilidad del produ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33520" y="762120"/>
            <a:ext cx="6553080" cy="4419360"/>
            <a:chOff x="533520" y="762120"/>
            <a:chExt cx="6553080" cy="4419360"/>
          </a:xfrm>
        </p:grpSpPr>
        <p:sp>
          <p:nvSpPr>
            <p:cNvPr id="175" name=""/>
            <p:cNvSpPr/>
            <p:nvPr/>
          </p:nvSpPr>
          <p:spPr>
            <a:xfrm>
              <a:off x="2057400" y="7621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9480" y="20574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29000" y="411480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3520" y="3733920"/>
              <a:ext cx="3657600" cy="1066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09:16:05Z</dcterms:created>
  <dc:creator>Maria Elena Lienqueo C.</dc:creator>
  <dc:description/>
  <dc:language>en-US</dc:language>
  <cp:lastModifiedBy>Ing Quimica</cp:lastModifiedBy>
  <dcterms:modified xsi:type="dcterms:W3CDTF">2006-07-26T15:58:51Z</dcterms:modified>
  <cp:revision>19</cp:revision>
  <dc:subject/>
  <dc:title>Centrifugación    Operación unitaria utilizada para la separación: sólido-líquido    líquido-líquido </dc:title>
</cp:coreProperties>
</file>