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png" ContentType="image/png"/>
  <Override PartName="/ppt/media/image10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B850D-24F4-4DC7-B700-6CE4A391F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482AF-FDE6-4FD9-B2A3-33652D5AE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C7EF6-C2AA-4A60-B739-9CFD872C1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C9085-E958-431E-8CE1-0819473EF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939FA-615E-45AA-ABD3-2D1CDD291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4D3BF-F505-4AE2-B391-7FA56B5BE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22805-35F7-46A6-B735-C04CB49F9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2A022-3ADB-4C18-93BB-1C1AA4DF8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3F577-52E1-4338-9B92-2FEF080D0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72247-9B31-4C2A-B78C-1EAC9CFD9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FEDC6-F8BC-4C63-BE67-3D9752FB6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23AE9-5C1C-47FB-A323-29E0F7C4F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B3342-E85B-4877-A4A5-07D235C22A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7.wmf"/><Relationship Id="rId6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 u="sng">
                <a:solidFill>
                  <a:srgbClr val="000066"/>
                </a:solidFill>
                <a:uFillTx/>
                <a:latin typeface="Times New Roman"/>
              </a:rPr>
              <a:t>Separación y Procesos Biotecnológicos</a:t>
            </a:r>
            <a:br>
              <a:rPr sz="4400"/>
            </a:br>
            <a:br>
              <a:rPr sz="4400"/>
            </a:br>
            <a:r>
              <a:rPr b="1" lang="es-CL" sz="4400" spc="-1" strike="noStrike" u="sng">
                <a:solidFill>
                  <a:srgbClr val="000066"/>
                </a:solidFill>
                <a:uFillTx/>
                <a:latin typeface="Times New Roman"/>
              </a:rPr>
              <a:t>BT56A-IQ74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66"/>
                </a:solidFill>
                <a:uFillTx/>
                <a:latin typeface="Times New Roman"/>
              </a:rPr>
              <a:t>Introducció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-360" y="152280"/>
            <a:ext cx="88390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u="sng">
                <a:solidFill>
                  <a:srgbClr val="000066"/>
                </a:solidFill>
                <a:uFillTx/>
                <a:latin typeface="Times New Roman"/>
                <a:ea typeface="Times New Roman"/>
              </a:rPr>
              <a:t>INTRODUC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La biotecnología ha avanzado en los últimos año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La oferta de empresas en el área de ingeniería genética son generalmente reportados en las páginas financiera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=&gt; Esto implica un futuro promisorio para el área.</a:t>
            </a:r>
            <a:r>
              <a:rPr b="0" lang="es-CL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380880" y="609480"/>
            <a:ext cx="8534520" cy="558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299880" y="914400"/>
            <a:ext cx="854424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380880" y="685800"/>
            <a:ext cx="8762760" cy="6632640"/>
            <a:chOff x="380880" y="685800"/>
            <a:chExt cx="8762760" cy="6632640"/>
          </a:xfrm>
        </p:grpSpPr>
        <p:sp>
          <p:nvSpPr>
            <p:cNvPr id="57" name=""/>
            <p:cNvSpPr/>
            <p:nvPr/>
          </p:nvSpPr>
          <p:spPr>
            <a:xfrm>
              <a:off x="423720" y="1504080"/>
              <a:ext cx="1150200" cy="82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Nutricion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574280" y="1504080"/>
              <a:ext cx="1771560" cy="82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Soy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345840" y="1504080"/>
              <a:ext cx="1660680" cy="82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Harina de soy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006520" y="1504080"/>
              <a:ext cx="230760" cy="82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01592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01592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237280" y="1504080"/>
              <a:ext cx="1328400" cy="82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&gt; 2·10</a:t>
              </a:r>
              <a:r>
                <a:rPr b="0" lang="en-US" sz="1800" spc="-1" strike="noStrike" baseline="30000">
                  <a:solidFill>
                    <a:srgbClr val="000080"/>
                  </a:solidFill>
                  <a:latin typeface="Times New Roman"/>
                  <a:ea typeface="Times New Roman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566040" y="1504080"/>
              <a:ext cx="2103480" cy="82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13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23720" y="2334240"/>
              <a:ext cx="1150200" cy="59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Funcion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574280" y="2334240"/>
              <a:ext cx="1771560" cy="59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Soy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345840" y="2334240"/>
              <a:ext cx="1660680" cy="59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Aislado soy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006520" y="2334240"/>
              <a:ext cx="230760" cy="59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237280" y="2334240"/>
              <a:ext cx="1328400" cy="59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&gt; 10</a:t>
              </a:r>
              <a:r>
                <a:rPr b="0" lang="en-US" sz="1800" spc="-1" strike="noStrike" baseline="30000">
                  <a:solidFill>
                    <a:srgbClr val="000080"/>
                  </a:solidFill>
                  <a:latin typeface="Times New Roman"/>
                  <a:ea typeface="Times New Roman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566040" y="2334240"/>
              <a:ext cx="2103480" cy="59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15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23720" y="2929320"/>
              <a:ext cx="1150200" cy="81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574280" y="2929320"/>
              <a:ext cx="1771560" cy="81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Suero de Lech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345840" y="2929320"/>
              <a:ext cx="1660680" cy="81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Proteína de suero de lech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006520" y="2929320"/>
              <a:ext cx="230760" cy="81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237280" y="2929320"/>
              <a:ext cx="1328400" cy="81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5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566040" y="2929320"/>
              <a:ext cx="2103480" cy="81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3000 - 60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23720" y="3747600"/>
              <a:ext cx="1150200" cy="59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Reactiv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574280" y="3747600"/>
              <a:ext cx="1771560" cy="59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Almidó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45840" y="3747600"/>
              <a:ext cx="1660680" cy="59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Amilasa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06520" y="3747600"/>
              <a:ext cx="230760" cy="59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237280" y="3747600"/>
              <a:ext cx="1328400" cy="59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6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566040" y="3747600"/>
              <a:ext cx="2103480" cy="59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15000-300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3720" y="4343040"/>
              <a:ext cx="1150200" cy="59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574280" y="4343040"/>
              <a:ext cx="1771560" cy="59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Tejido Anim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345840" y="4343040"/>
              <a:ext cx="1660680" cy="59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Renin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006520" y="4343040"/>
              <a:ext cx="230760" cy="59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237280" y="4343040"/>
              <a:ext cx="1328400" cy="59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566040" y="4343040"/>
              <a:ext cx="2103480" cy="59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10</a:t>
              </a:r>
              <a:r>
                <a:rPr b="0" lang="en-US" sz="1800" spc="-1" strike="noStrike" baseline="30000">
                  <a:solidFill>
                    <a:srgbClr val="000080"/>
                  </a:solidFill>
                  <a:latin typeface="Times New Roman"/>
                  <a:ea typeface="Times New Roman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23720" y="4938120"/>
              <a:ext cx="1150200" cy="104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Salu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574280" y="4938120"/>
              <a:ext cx="1771560" cy="104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Azúca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345840" y="4938120"/>
              <a:ext cx="1660680" cy="104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Hormona de crecimiento human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006520" y="4938120"/>
              <a:ext cx="230760" cy="104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37280" y="4938120"/>
              <a:ext cx="1328400" cy="104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20 k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566040" y="4938120"/>
              <a:ext cx="2103480" cy="104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10</a:t>
              </a:r>
              <a:r>
                <a:rPr b="0" lang="en-US" sz="1800" spc="-1" strike="noStrike" baseline="30000">
                  <a:solidFill>
                    <a:srgbClr val="000080"/>
                  </a:solidFill>
                  <a:latin typeface="Times New Roman"/>
                  <a:ea typeface="Times New Roman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23720" y="5979600"/>
              <a:ext cx="1150200" cy="81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574280" y="5979600"/>
              <a:ext cx="1771560" cy="81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Suero Bovin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345840" y="5979600"/>
              <a:ext cx="1660680" cy="81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Anticuerpos monoclonal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006520" y="5979600"/>
              <a:ext cx="230760" cy="81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237280" y="5979600"/>
              <a:ext cx="1328400" cy="81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10 k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566040" y="5979600"/>
              <a:ext cx="2103480" cy="81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3·10</a:t>
              </a:r>
              <a:r>
                <a:rPr b="0" lang="en-US" sz="1800" spc="-1" strike="noStrike" baseline="30000">
                  <a:solidFill>
                    <a:srgbClr val="000080"/>
                  </a:solidFill>
                  <a:latin typeface="Times New Roman"/>
                  <a:ea typeface="Times New Roman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380880" y="685800"/>
              <a:ext cx="1236240" cy="818280"/>
              <a:chOff x="380880" y="685800"/>
              <a:chExt cx="1236240" cy="818280"/>
            </a:xfrm>
          </p:grpSpPr>
          <p:sp>
            <p:nvSpPr>
              <p:cNvPr id="100" name=""/>
              <p:cNvSpPr/>
              <p:nvPr/>
            </p:nvSpPr>
            <p:spPr>
              <a:xfrm>
                <a:off x="423720" y="685800"/>
                <a:ext cx="1150200" cy="81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000080"/>
                    </a:solidFill>
                    <a:latin typeface="Times New Roman"/>
                    <a:ea typeface="Times New Roman"/>
                  </a:rPr>
                  <a:t>Categorí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380880" y="685800"/>
                <a:ext cx="1236240" cy="818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617120" y="685800"/>
              <a:ext cx="1857600" cy="818280"/>
              <a:chOff x="1617120" y="685800"/>
              <a:chExt cx="1857600" cy="818280"/>
            </a:xfrm>
          </p:grpSpPr>
          <p:sp>
            <p:nvSpPr>
              <p:cNvPr id="103" name=""/>
              <p:cNvSpPr/>
              <p:nvPr/>
            </p:nvSpPr>
            <p:spPr>
              <a:xfrm>
                <a:off x="1660320" y="685800"/>
                <a:ext cx="1771200" cy="81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000080"/>
                    </a:solidFill>
                    <a:latin typeface="Times New Roman"/>
                    <a:ea typeface="Times New Roman"/>
                  </a:rPr>
                  <a:t>Fuente de proteín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1617120" y="685800"/>
                <a:ext cx="1857600" cy="818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" name=""/>
            <p:cNvGrpSpPr/>
            <p:nvPr/>
          </p:nvGrpSpPr>
          <p:grpSpPr>
            <a:xfrm>
              <a:off x="3474720" y="685800"/>
              <a:ext cx="1747080" cy="818280"/>
              <a:chOff x="3474720" y="685800"/>
              <a:chExt cx="1747080" cy="818280"/>
            </a:xfrm>
          </p:grpSpPr>
          <p:sp>
            <p:nvSpPr>
              <p:cNvPr id="106" name=""/>
              <p:cNvSpPr/>
              <p:nvPr/>
            </p:nvSpPr>
            <p:spPr>
              <a:xfrm>
                <a:off x="3517920" y="685800"/>
                <a:ext cx="1660320" cy="81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000080"/>
                    </a:solidFill>
                    <a:latin typeface="Times New Roman"/>
                    <a:ea typeface="Times New Roman"/>
                  </a:rPr>
                  <a:t>Proteín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3474720" y="685800"/>
                <a:ext cx="1747080" cy="818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" name=""/>
            <p:cNvGrpSpPr/>
            <p:nvPr/>
          </p:nvGrpSpPr>
          <p:grpSpPr>
            <a:xfrm>
              <a:off x="5222160" y="685800"/>
              <a:ext cx="316440" cy="818280"/>
              <a:chOff x="5222160" y="685800"/>
              <a:chExt cx="316440" cy="818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265000" y="685800"/>
                <a:ext cx="230400" cy="81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222160" y="685800"/>
                <a:ext cx="316440" cy="818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5538600" y="685800"/>
              <a:ext cx="1414800" cy="818280"/>
              <a:chOff x="5538600" y="685800"/>
              <a:chExt cx="1414800" cy="818280"/>
            </a:xfrm>
          </p:grpSpPr>
          <p:sp>
            <p:nvSpPr>
              <p:cNvPr id="112" name=""/>
              <p:cNvSpPr/>
              <p:nvPr/>
            </p:nvSpPr>
            <p:spPr>
              <a:xfrm>
                <a:off x="5581800" y="685800"/>
                <a:ext cx="1328400" cy="81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000080"/>
                    </a:solidFill>
                    <a:latin typeface="Times New Roman"/>
                    <a:ea typeface="Times New Roman"/>
                  </a:rPr>
                  <a:t>Producción                     Anual (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5538600" y="685800"/>
                <a:ext cx="1414800" cy="818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4" name=""/>
            <p:cNvGrpSpPr/>
            <p:nvPr/>
          </p:nvGrpSpPr>
          <p:grpSpPr>
            <a:xfrm>
              <a:off x="6953760" y="685800"/>
              <a:ext cx="2189880" cy="818280"/>
              <a:chOff x="6953760" y="685800"/>
              <a:chExt cx="2189880" cy="818280"/>
            </a:xfrm>
          </p:grpSpPr>
          <p:sp>
            <p:nvSpPr>
              <p:cNvPr id="115" name=""/>
              <p:cNvSpPr/>
              <p:nvPr/>
            </p:nvSpPr>
            <p:spPr>
              <a:xfrm>
                <a:off x="6996960" y="685800"/>
                <a:ext cx="2103120" cy="81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000080"/>
                    </a:solidFill>
                    <a:latin typeface="Times New Roman"/>
                    <a:ea typeface="Times New Roman"/>
                  </a:rPr>
                  <a:t>Precio  Aproximado (£/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6953760" y="685800"/>
                <a:ext cx="2189880" cy="818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380880" y="6798240"/>
              <a:ext cx="1236240" cy="520200"/>
              <a:chOff x="380880" y="6798240"/>
              <a:chExt cx="1236240" cy="520200"/>
            </a:xfrm>
          </p:grpSpPr>
          <p:sp>
            <p:nvSpPr>
              <p:cNvPr id="118" name=""/>
              <p:cNvSpPr/>
              <p:nvPr/>
            </p:nvSpPr>
            <p:spPr>
              <a:xfrm>
                <a:off x="423720" y="6798240"/>
                <a:ext cx="11502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380880" y="6798240"/>
                <a:ext cx="1236240" cy="5202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1617120" y="6798240"/>
              <a:ext cx="1857600" cy="520200"/>
              <a:chOff x="1617120" y="6798240"/>
              <a:chExt cx="1857600" cy="520200"/>
            </a:xfrm>
          </p:grpSpPr>
          <p:sp>
            <p:nvSpPr>
              <p:cNvPr id="121" name=""/>
              <p:cNvSpPr/>
              <p:nvPr/>
            </p:nvSpPr>
            <p:spPr>
              <a:xfrm>
                <a:off x="1660320" y="6798240"/>
                <a:ext cx="17712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1617120" y="6798240"/>
                <a:ext cx="1857600" cy="5202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3474720" y="6798240"/>
              <a:ext cx="1747080" cy="520200"/>
              <a:chOff x="3474720" y="6798240"/>
              <a:chExt cx="1747080" cy="520200"/>
            </a:xfrm>
          </p:grpSpPr>
          <p:sp>
            <p:nvSpPr>
              <p:cNvPr id="124" name=""/>
              <p:cNvSpPr/>
              <p:nvPr/>
            </p:nvSpPr>
            <p:spPr>
              <a:xfrm>
                <a:off x="3517920" y="6798240"/>
                <a:ext cx="166032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474720" y="6798240"/>
                <a:ext cx="1747080" cy="5202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6" name=""/>
            <p:cNvGrpSpPr/>
            <p:nvPr/>
          </p:nvGrpSpPr>
          <p:grpSpPr>
            <a:xfrm>
              <a:off x="5222160" y="6798240"/>
              <a:ext cx="316440" cy="520200"/>
              <a:chOff x="5222160" y="6798240"/>
              <a:chExt cx="316440" cy="520200"/>
            </a:xfrm>
          </p:grpSpPr>
          <p:sp>
            <p:nvSpPr>
              <p:cNvPr id="127" name=""/>
              <p:cNvSpPr/>
              <p:nvPr/>
            </p:nvSpPr>
            <p:spPr>
              <a:xfrm>
                <a:off x="5265000" y="6798240"/>
                <a:ext cx="2304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5222160" y="6798240"/>
                <a:ext cx="316440" cy="5202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9" name=""/>
            <p:cNvGrpSpPr/>
            <p:nvPr/>
          </p:nvGrpSpPr>
          <p:grpSpPr>
            <a:xfrm>
              <a:off x="5538600" y="6798240"/>
              <a:ext cx="1414800" cy="520200"/>
              <a:chOff x="5538600" y="6798240"/>
              <a:chExt cx="1414800" cy="520200"/>
            </a:xfrm>
          </p:grpSpPr>
          <p:sp>
            <p:nvSpPr>
              <p:cNvPr id="130" name=""/>
              <p:cNvSpPr/>
              <p:nvPr/>
            </p:nvSpPr>
            <p:spPr>
              <a:xfrm>
                <a:off x="5581800" y="6798240"/>
                <a:ext cx="13284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5538600" y="6798240"/>
                <a:ext cx="1414800" cy="5202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2" name=""/>
            <p:cNvGrpSpPr/>
            <p:nvPr/>
          </p:nvGrpSpPr>
          <p:grpSpPr>
            <a:xfrm>
              <a:off x="6953760" y="6798240"/>
              <a:ext cx="2189880" cy="520200"/>
              <a:chOff x="6953760" y="6798240"/>
              <a:chExt cx="2189880" cy="520200"/>
            </a:xfrm>
          </p:grpSpPr>
          <p:sp>
            <p:nvSpPr>
              <p:cNvPr id="133" name=""/>
              <p:cNvSpPr/>
              <p:nvPr/>
            </p:nvSpPr>
            <p:spPr>
              <a:xfrm>
                <a:off x="6996960" y="6798240"/>
                <a:ext cx="210312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6953760" y="6798240"/>
                <a:ext cx="2189880" cy="5202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5" name=""/>
          <p:cNvSpPr/>
          <p:nvPr/>
        </p:nvSpPr>
        <p:spPr>
          <a:xfrm>
            <a:off x="-22860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000066"/>
                </a:solidFill>
                <a:uFillTx/>
                <a:latin typeface="Times New Roman"/>
                <a:ea typeface="Times New Roman"/>
              </a:rPr>
              <a:t>Producción Mundial y Valores de Mercado de Productos Proteínicos Típicos</a:t>
            </a:r>
            <a:r>
              <a:rPr b="0" lang="es-ES" sz="1800" spc="-1" strike="noStrike" u="sng">
                <a:solidFill>
                  <a:srgbClr val="000066"/>
                </a:solidFill>
                <a:uFillTx/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629400" y="5867280"/>
            <a:ext cx="1676520" cy="76212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7" name=""/>
          <p:cNvGraphicFramePr/>
          <p:nvPr/>
        </p:nvGraphicFramePr>
        <p:xfrm>
          <a:off x="684360" y="333360"/>
          <a:ext cx="7659720" cy="6200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4360" y="333360"/>
                    <a:ext cx="7659720" cy="620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"/>
          <p:cNvGrpSpPr/>
          <p:nvPr/>
        </p:nvGrpSpPr>
        <p:grpSpPr>
          <a:xfrm>
            <a:off x="0" y="0"/>
            <a:ext cx="9144000" cy="6580080"/>
            <a:chOff x="0" y="0"/>
            <a:chExt cx="9144000" cy="6580080"/>
          </a:xfrm>
        </p:grpSpPr>
        <p:sp>
          <p:nvSpPr>
            <p:cNvPr id="140" name=""/>
            <p:cNvSpPr/>
            <p:nvPr/>
          </p:nvSpPr>
          <p:spPr>
            <a:xfrm>
              <a:off x="0" y="0"/>
              <a:ext cx="9144000" cy="11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Times New Roman"/>
                </a:rPr>
                <a:t>Principales Productos Biotecnológicos 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1" name=""/>
            <p:cNvGraphicFramePr/>
            <p:nvPr/>
          </p:nvGraphicFramePr>
          <p:xfrm>
            <a:off x="1533600" y="1282680"/>
            <a:ext cx="6541920" cy="52974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42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533600" y="1282680"/>
                      <a:ext cx="6541920" cy="5297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43" name=""/>
            <p:cNvSpPr/>
            <p:nvPr/>
          </p:nvSpPr>
          <p:spPr>
            <a:xfrm>
              <a:off x="2771640" y="949320"/>
              <a:ext cx="935280" cy="63144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33cc"/>
                  </a:solidFill>
                  <a:latin typeface="Arial"/>
                </a:rPr>
                <a:t>$0.250/g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33cc"/>
                  </a:solidFill>
                  <a:latin typeface="Arial"/>
                </a:rPr>
                <a:t>Etano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700360" y="2935080"/>
              <a:ext cx="1366920" cy="8445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33cc"/>
                  </a:solidFill>
                  <a:latin typeface="Arial"/>
                </a:rPr>
                <a:t>$ 500/g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33cc"/>
                  </a:solidFill>
                  <a:latin typeface="Arial"/>
                </a:rPr>
                <a:t>Cuajo recombinant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211640" y="3655800"/>
              <a:ext cx="1366920" cy="63144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33cc"/>
                  </a:solidFill>
                  <a:latin typeface="Arial"/>
                </a:rPr>
                <a:t>$ 2.500/g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33cc"/>
                  </a:solidFill>
                  <a:latin typeface="Arial"/>
                </a:rPr>
                <a:t>Insulin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164360" y="3367080"/>
              <a:ext cx="1800360" cy="8445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33cc"/>
                  </a:solidFill>
                  <a:latin typeface="Arial"/>
                </a:rPr>
                <a:t>$ 50.000.000/g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33cc"/>
                  </a:solidFill>
                  <a:latin typeface="Arial"/>
                </a:rPr>
                <a:t>Factor de Coagulac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7" name=""/>
            <p:cNvGrpSpPr/>
            <p:nvPr/>
          </p:nvGrpSpPr>
          <p:grpSpPr>
            <a:xfrm>
              <a:off x="6545160" y="1063440"/>
              <a:ext cx="1800000" cy="1459440"/>
              <a:chOff x="6545160" y="1063440"/>
              <a:chExt cx="1800000" cy="1459440"/>
            </a:xfrm>
          </p:grpSpPr>
          <p:pic>
            <p:nvPicPr>
              <p:cNvPr id="148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616440" y="1063440"/>
                <a:ext cx="1343160" cy="1085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9" name=""/>
              <p:cNvSpPr/>
              <p:nvPr/>
            </p:nvSpPr>
            <p:spPr>
              <a:xfrm>
                <a:off x="6545160" y="2215800"/>
                <a:ext cx="1800000" cy="3070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33cc"/>
                    </a:solidFill>
                    <a:latin typeface="Arial"/>
                  </a:rPr>
                  <a:t>$ 9.000/g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-360" y="152280"/>
            <a:ext cx="88390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La biotecnología se refiere a cultiv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just">
              <a:spcBef>
                <a:spcPts val="601"/>
              </a:spcBef>
              <a:buClr>
                <a:srgbClr val="000066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Microbian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just">
              <a:spcBef>
                <a:spcPts val="601"/>
              </a:spcBef>
              <a:buClr>
                <a:srgbClr val="000066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Células anim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just">
              <a:spcBef>
                <a:spcPts val="601"/>
              </a:spcBef>
              <a:buClr>
                <a:srgbClr val="000066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Plant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just">
              <a:spcBef>
                <a:spcPts val="601"/>
              </a:spcBef>
              <a:buClr>
                <a:srgbClr val="000066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Vir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Para producir productos útiles para los humanos y que generen ganancias a los inversionis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-360" y="152280"/>
            <a:ext cx="88390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 u="sng">
                <a:solidFill>
                  <a:srgbClr val="000066"/>
                </a:solidFill>
                <a:uFillTx/>
                <a:latin typeface="Times New Roman"/>
              </a:rPr>
              <a:t>ANTECEDE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Los primeros productos “biotecnológicos” se conocen desde 4000 a.C. cuando se producían </a:t>
            </a:r>
            <a:r>
              <a:rPr b="1" lang="es-CL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an, queso y yogurt</a:t>
            </a: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r>
              <a:rPr b="0" lang="es-E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La definición de biotecnología proviene de aproximadamente 100 años atrás. Se orienta principalmente a productos orgánicos generados por fermentacion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Acetona (Industria de municiones I Guerra Mundial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Ácido cítrico y glutámic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just"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ntibióticos</a:t>
            </a:r>
            <a:r>
              <a:rPr b="0" lang="es-CL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acaparó toda la atención, resultando el producto más importante de la biotecnología, este metabolito secundario produjo grandes beneficio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66"/>
                </a:solidFill>
                <a:uFillTx/>
                <a:latin typeface="Times New Roman"/>
              </a:rPr>
              <a:t>Esquema general de la producción de productos biotecnológ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247840" y="286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614680" y="3043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609480" y="1828800"/>
          <a:ext cx="7620120" cy="1868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1828800"/>
                    <a:ext cx="7620120" cy="186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7" name=""/>
          <p:cNvGraphicFramePr/>
          <p:nvPr/>
        </p:nvGraphicFramePr>
        <p:xfrm>
          <a:off x="1981080" y="4419720"/>
          <a:ext cx="6512040" cy="1565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981080" y="4419720"/>
                    <a:ext cx="6512040" cy="156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" name=""/>
          <p:cNvSpPr/>
          <p:nvPr/>
        </p:nvSpPr>
        <p:spPr>
          <a:xfrm flipH="1">
            <a:off x="1980720" y="3505320"/>
            <a:ext cx="1295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1981080" y="350496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828800" y="1828800"/>
            <a:ext cx="6781680" cy="4419720"/>
          </a:xfrm>
          <a:prstGeom prst="rect">
            <a:avLst/>
          </a:prstGeom>
          <a:noFill/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124080" y="3886200"/>
            <a:ext cx="449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Times New Roman"/>
              </a:rPr>
              <a:t>Downstream processing (DS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a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TED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UNES 12:00-13:30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ERNES 12:00-13:30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XILIA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ércoles 14:30-16: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jercicios todas las cla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ECHA DE CONTRO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TROL 1: Miércoles 30 de agost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TROL 2: Miércoles  4 de Octub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TROL 3: Miércoles 8 de Noviemb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 u="sng">
                <a:solidFill>
                  <a:srgbClr val="000066"/>
                </a:solidFill>
                <a:uFillTx/>
                <a:latin typeface="Times New Roman"/>
              </a:rPr>
              <a:t>Características de la biosepar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La separación de los </a:t>
            </a:r>
            <a:r>
              <a:rPr b="0" lang="es-CL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productos biotecnológicos</a:t>
            </a: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resulta relativamente </a:t>
            </a:r>
            <a:r>
              <a:rPr b="1" lang="es-CL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más difícil</a:t>
            </a: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que las separaciones en la </a:t>
            </a:r>
            <a:r>
              <a:rPr b="0" lang="es-CL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ingeniería química convencional</a:t>
            </a: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, ya que las moléculas que se separar resultan ser extremadamente frágiles y de propiedades fisicoquímicas y bioquímicas muy similares entre ella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Cualquier empresa que trabaje en la producción de bioproductos, trabaja con alrededor de </a:t>
            </a:r>
            <a:r>
              <a:rPr b="1" lang="es-CL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00 compuestos</a:t>
            </a: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diferentes, mientras que la empresa petroquímica sólo trabaja con alrededor de </a:t>
            </a:r>
            <a:r>
              <a:rPr b="1" lang="es-CL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0 compuestos</a:t>
            </a: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4" name=""/>
          <p:cNvGrpSpPr/>
          <p:nvPr/>
        </p:nvGrpSpPr>
        <p:grpSpPr>
          <a:xfrm>
            <a:off x="228600" y="533520"/>
            <a:ext cx="8914320" cy="6892560"/>
            <a:chOff x="228600" y="533520"/>
            <a:chExt cx="8914320" cy="6892560"/>
          </a:xfrm>
        </p:grpSpPr>
        <p:sp>
          <p:nvSpPr>
            <p:cNvPr id="165" name=""/>
            <p:cNvSpPr/>
            <p:nvPr/>
          </p:nvSpPr>
          <p:spPr>
            <a:xfrm>
              <a:off x="280440" y="1529280"/>
              <a:ext cx="2204640" cy="83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Concentración en el medio (g/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485440" y="1529280"/>
              <a:ext cx="1748160" cy="83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100 - 12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233960" y="1529280"/>
              <a:ext cx="1344960" cy="83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10 - 4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578920" y="1529280"/>
              <a:ext cx="1210680" cy="83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1 - 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789960" y="1529280"/>
              <a:ext cx="1883160" cy="83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0.1 - 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80440" y="2360880"/>
              <a:ext cx="220464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Contaminació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485440" y="2360880"/>
              <a:ext cx="174816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Baj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233960" y="2360880"/>
              <a:ext cx="134496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Baj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578920" y="2360880"/>
              <a:ext cx="121068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Baj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789960" y="2360880"/>
              <a:ext cx="188316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Alt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80440" y="2965680"/>
              <a:ext cx="2204640" cy="10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Tiempo de procesamiento  (h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485440" y="2965680"/>
              <a:ext cx="1748160" cy="10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12 - 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233960" y="2965680"/>
              <a:ext cx="1344960" cy="10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10 - 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578920" y="2965680"/>
              <a:ext cx="1210680" cy="10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6 - 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789960" y="2965680"/>
              <a:ext cx="1883160" cy="10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1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80440" y="4024440"/>
              <a:ext cx="220464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Purificació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485440" y="4024440"/>
              <a:ext cx="174816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Alt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233960" y="4024440"/>
              <a:ext cx="134496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Alt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578920" y="4024440"/>
              <a:ext cx="121068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Baj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789960" y="4024440"/>
              <a:ext cx="188316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Muy alt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80440" y="4629240"/>
              <a:ext cx="2204640" cy="83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Producción/lote (kg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485440" y="4629240"/>
              <a:ext cx="1748160" cy="83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Hasta 240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233960" y="4629240"/>
              <a:ext cx="1344960" cy="83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Hasta 80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578920" y="4629240"/>
              <a:ext cx="1210680" cy="83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Hasta 4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789960" y="4629240"/>
              <a:ext cx="1883160" cy="83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Hasta 3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80440" y="5460840"/>
              <a:ext cx="220464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DSP por lo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485440" y="5460840"/>
              <a:ext cx="174816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Continu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233960" y="5460840"/>
              <a:ext cx="134496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Continu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578920" y="5460840"/>
              <a:ext cx="121068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Continu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789960" y="5460840"/>
              <a:ext cx="188316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Usualmen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80440" y="6065640"/>
              <a:ext cx="2204640" cy="83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Número de etapas DS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485440" y="6065640"/>
              <a:ext cx="1748160" cy="83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5 - 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233960" y="6065640"/>
              <a:ext cx="1344960" cy="83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5 - 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578920" y="6065640"/>
              <a:ext cx="1210680" cy="83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3 - 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89960" y="6065640"/>
              <a:ext cx="1883160" cy="83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8 - 1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0" name=""/>
            <p:cNvGrpSpPr/>
            <p:nvPr/>
          </p:nvGrpSpPr>
          <p:grpSpPr>
            <a:xfrm>
              <a:off x="228600" y="533520"/>
              <a:ext cx="2308320" cy="995760"/>
              <a:chOff x="228600" y="533520"/>
              <a:chExt cx="2308320" cy="995760"/>
            </a:xfrm>
          </p:grpSpPr>
          <p:sp>
            <p:nvSpPr>
              <p:cNvPr id="201" name=""/>
              <p:cNvSpPr/>
              <p:nvPr/>
            </p:nvSpPr>
            <p:spPr>
              <a:xfrm>
                <a:off x="280440" y="533520"/>
                <a:ext cx="2204280" cy="995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228600" y="533520"/>
                <a:ext cx="2308320" cy="995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3" name=""/>
            <p:cNvGrpSpPr/>
            <p:nvPr/>
          </p:nvGrpSpPr>
          <p:grpSpPr>
            <a:xfrm>
              <a:off x="2537280" y="533520"/>
              <a:ext cx="1852920" cy="995760"/>
              <a:chOff x="2537280" y="533520"/>
              <a:chExt cx="1852920" cy="995760"/>
            </a:xfrm>
          </p:grpSpPr>
          <p:sp>
            <p:nvSpPr>
              <p:cNvPr id="204" name=""/>
              <p:cNvSpPr/>
              <p:nvPr/>
            </p:nvSpPr>
            <p:spPr>
              <a:xfrm>
                <a:off x="2589480" y="533520"/>
                <a:ext cx="1748160" cy="995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000080"/>
                    </a:solidFill>
                    <a:latin typeface="Times New Roman"/>
                    <a:ea typeface="Times New Roman"/>
                  </a:rPr>
                  <a:t>Productos Químico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2537280" y="533520"/>
                <a:ext cx="1852920" cy="995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6" name=""/>
            <p:cNvGrpSpPr/>
            <p:nvPr/>
          </p:nvGrpSpPr>
          <p:grpSpPr>
            <a:xfrm>
              <a:off x="4390920" y="533520"/>
              <a:ext cx="1449360" cy="995760"/>
              <a:chOff x="4390920" y="533520"/>
              <a:chExt cx="1449360" cy="995760"/>
            </a:xfrm>
          </p:grpSpPr>
          <p:sp>
            <p:nvSpPr>
              <p:cNvPr id="207" name=""/>
              <p:cNvSpPr/>
              <p:nvPr/>
            </p:nvSpPr>
            <p:spPr>
              <a:xfrm>
                <a:off x="4442760" y="533520"/>
                <a:ext cx="1344960" cy="995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000080"/>
                    </a:solidFill>
                    <a:latin typeface="Times New Roman"/>
                    <a:ea typeface="Times New Roman"/>
                  </a:rPr>
                  <a:t>Antibiótico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4390920" y="533520"/>
                <a:ext cx="1449360" cy="995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9" name=""/>
            <p:cNvGrpSpPr/>
            <p:nvPr/>
          </p:nvGrpSpPr>
          <p:grpSpPr>
            <a:xfrm>
              <a:off x="5840640" y="533520"/>
              <a:ext cx="1314360" cy="995760"/>
              <a:chOff x="5840640" y="533520"/>
              <a:chExt cx="1314360" cy="995760"/>
            </a:xfrm>
          </p:grpSpPr>
          <p:sp>
            <p:nvSpPr>
              <p:cNvPr id="210" name=""/>
              <p:cNvSpPr/>
              <p:nvPr/>
            </p:nvSpPr>
            <p:spPr>
              <a:xfrm>
                <a:off x="5892480" y="533520"/>
                <a:ext cx="1210320" cy="995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000080"/>
                    </a:solidFill>
                    <a:latin typeface="Times New Roman"/>
                    <a:ea typeface="Times New Roman"/>
                  </a:rPr>
                  <a:t>Enzim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5840640" y="533520"/>
                <a:ext cx="1314360" cy="995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2" name=""/>
            <p:cNvGrpSpPr/>
            <p:nvPr/>
          </p:nvGrpSpPr>
          <p:grpSpPr>
            <a:xfrm>
              <a:off x="7155720" y="533520"/>
              <a:ext cx="1987200" cy="995760"/>
              <a:chOff x="7155720" y="533520"/>
              <a:chExt cx="1987200" cy="995760"/>
            </a:xfrm>
          </p:grpSpPr>
          <p:sp>
            <p:nvSpPr>
              <p:cNvPr id="213" name=""/>
              <p:cNvSpPr/>
              <p:nvPr/>
            </p:nvSpPr>
            <p:spPr>
              <a:xfrm>
                <a:off x="7207920" y="533520"/>
                <a:ext cx="1882800" cy="995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" sz="1800" spc="-1" strike="noStrike">
                    <a:solidFill>
                      <a:srgbClr val="000080"/>
                    </a:solidFill>
                    <a:latin typeface="Times New Roman"/>
                    <a:ea typeface="Times New Roman"/>
                  </a:rPr>
                  <a:t>Proteínas Terapeútica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7155720" y="533520"/>
                <a:ext cx="1987200" cy="995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5" name=""/>
            <p:cNvGrpSpPr/>
            <p:nvPr/>
          </p:nvGrpSpPr>
          <p:grpSpPr>
            <a:xfrm>
              <a:off x="228600" y="6897600"/>
              <a:ext cx="2308320" cy="528480"/>
              <a:chOff x="228600" y="6897600"/>
              <a:chExt cx="2308320" cy="528480"/>
            </a:xfrm>
          </p:grpSpPr>
          <p:sp>
            <p:nvSpPr>
              <p:cNvPr id="216" name=""/>
              <p:cNvSpPr/>
              <p:nvPr/>
            </p:nvSpPr>
            <p:spPr>
              <a:xfrm>
                <a:off x="280440" y="6897600"/>
                <a:ext cx="2204280" cy="528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228600" y="6897600"/>
                <a:ext cx="2308320" cy="5284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8" name=""/>
            <p:cNvGrpSpPr/>
            <p:nvPr/>
          </p:nvGrpSpPr>
          <p:grpSpPr>
            <a:xfrm>
              <a:off x="2537280" y="6897600"/>
              <a:ext cx="1852920" cy="528480"/>
              <a:chOff x="2537280" y="6897600"/>
              <a:chExt cx="1852920" cy="528480"/>
            </a:xfrm>
          </p:grpSpPr>
          <p:sp>
            <p:nvSpPr>
              <p:cNvPr id="219" name=""/>
              <p:cNvSpPr/>
              <p:nvPr/>
            </p:nvSpPr>
            <p:spPr>
              <a:xfrm>
                <a:off x="2589480" y="6897600"/>
                <a:ext cx="1748160" cy="528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2537280" y="6897600"/>
                <a:ext cx="1852920" cy="5284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1" name=""/>
            <p:cNvGrpSpPr/>
            <p:nvPr/>
          </p:nvGrpSpPr>
          <p:grpSpPr>
            <a:xfrm>
              <a:off x="4390920" y="6897600"/>
              <a:ext cx="1449360" cy="528480"/>
              <a:chOff x="4390920" y="6897600"/>
              <a:chExt cx="1449360" cy="528480"/>
            </a:xfrm>
          </p:grpSpPr>
          <p:sp>
            <p:nvSpPr>
              <p:cNvPr id="222" name=""/>
              <p:cNvSpPr/>
              <p:nvPr/>
            </p:nvSpPr>
            <p:spPr>
              <a:xfrm>
                <a:off x="4442760" y="6897600"/>
                <a:ext cx="1344960" cy="528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4390920" y="6897600"/>
                <a:ext cx="1449360" cy="5284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4" name=""/>
            <p:cNvGrpSpPr/>
            <p:nvPr/>
          </p:nvGrpSpPr>
          <p:grpSpPr>
            <a:xfrm>
              <a:off x="5840640" y="6897600"/>
              <a:ext cx="1314360" cy="528480"/>
              <a:chOff x="5840640" y="6897600"/>
              <a:chExt cx="1314360" cy="528480"/>
            </a:xfrm>
          </p:grpSpPr>
          <p:sp>
            <p:nvSpPr>
              <p:cNvPr id="225" name=""/>
              <p:cNvSpPr/>
              <p:nvPr/>
            </p:nvSpPr>
            <p:spPr>
              <a:xfrm>
                <a:off x="5892480" y="6897600"/>
                <a:ext cx="1210320" cy="528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5840640" y="6897600"/>
                <a:ext cx="1314360" cy="5284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7" name=""/>
            <p:cNvGrpSpPr/>
            <p:nvPr/>
          </p:nvGrpSpPr>
          <p:grpSpPr>
            <a:xfrm>
              <a:off x="7155720" y="6897600"/>
              <a:ext cx="1987200" cy="528480"/>
              <a:chOff x="7155720" y="6897600"/>
              <a:chExt cx="1987200" cy="528480"/>
            </a:xfrm>
          </p:grpSpPr>
          <p:sp>
            <p:nvSpPr>
              <p:cNvPr id="228" name=""/>
              <p:cNvSpPr/>
              <p:nvPr/>
            </p:nvSpPr>
            <p:spPr>
              <a:xfrm>
                <a:off x="7207920" y="6897600"/>
                <a:ext cx="1882800" cy="528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7155720" y="6897600"/>
                <a:ext cx="1987200" cy="5284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30" name="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7120"/>
                <a:tab algn="l" pos="4046400"/>
                <a:tab algn="l" pos="4495680"/>
                <a:tab algn="l" pos="4944960"/>
                <a:tab algn="l" pos="5394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000066"/>
                </a:solidFill>
                <a:uFillTx/>
                <a:latin typeface="Times New Roman"/>
                <a:ea typeface="Times New Roman"/>
              </a:rPr>
              <a:t>Parámetros típicos relacionados con D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7120"/>
                <a:tab algn="l" pos="4046400"/>
                <a:tab algn="l" pos="4495680"/>
                <a:tab algn="l" pos="4944960"/>
                <a:tab algn="l" pos="5394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934320" y="5867280"/>
            <a:ext cx="1676160" cy="76212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2" name=""/>
          <p:cNvGrpSpPr/>
          <p:nvPr/>
        </p:nvGrpSpPr>
        <p:grpSpPr>
          <a:xfrm>
            <a:off x="228600" y="838080"/>
            <a:ext cx="8914680" cy="6194160"/>
            <a:chOff x="228600" y="838080"/>
            <a:chExt cx="8914680" cy="6194160"/>
          </a:xfrm>
        </p:grpSpPr>
        <p:sp>
          <p:nvSpPr>
            <p:cNvPr id="233" name=""/>
            <p:cNvSpPr/>
            <p:nvPr/>
          </p:nvSpPr>
          <p:spPr>
            <a:xfrm>
              <a:off x="283320" y="1231200"/>
              <a:ext cx="2647080" cy="54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Agu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930760" y="1231200"/>
              <a:ext cx="2403360" cy="54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900 + g/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334120" y="1231200"/>
              <a:ext cx="3534840" cy="54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Mayor costo de separación para productos de bajo val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83320" y="1771920"/>
              <a:ext cx="2647080" cy="54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Materia celula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930760" y="1771920"/>
              <a:ext cx="2403360" cy="54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20 - 100 g/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334120" y="1771920"/>
              <a:ext cx="3534840" cy="54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Desecho, reciclado o product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83320" y="2312640"/>
              <a:ext cx="2647080" cy="39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Product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930760" y="2312640"/>
              <a:ext cx="2403360" cy="39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Hasta 120 g/l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334120" y="2312640"/>
              <a:ext cx="3534840" cy="39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83320" y="2706120"/>
              <a:ext cx="2647080" cy="54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Sales inorgánica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930760" y="2706120"/>
              <a:ext cx="2403360" cy="54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Trazas hasta 10 g/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334120" y="2706120"/>
              <a:ext cx="3534840" cy="54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Usualmente removidas con el medi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83320" y="3246840"/>
              <a:ext cx="2647080" cy="83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Proteínas (no product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930760" y="3246840"/>
              <a:ext cx="2403360" cy="83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Trazas hasta 3 g/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334120" y="3246840"/>
              <a:ext cx="3534840" cy="83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Problema de remoción mayor con productos enzimáticos intracelular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83320" y="4082760"/>
              <a:ext cx="2647080" cy="83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Acidos nucleic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930760" y="4082760"/>
              <a:ext cx="2403360" cy="83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Trazas hasta 6 g/l (IC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334120" y="4082760"/>
              <a:ext cx="3534840" cy="83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Problema de remoción mayor para proteínas intracelulares o productos enzimátic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83320" y="4918680"/>
              <a:ext cx="2647080" cy="54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Polisacárid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930760" y="4918680"/>
              <a:ext cx="2403360" cy="54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1% + (IC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334120" y="4918680"/>
              <a:ext cx="3534840" cy="54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Usualmente removidos con el medio, medios residual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83320" y="5459760"/>
              <a:ext cx="2647080" cy="68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Productos orgánicos (color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30760" y="5459760"/>
              <a:ext cx="2403360" cy="68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Trazas en bajo contenid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334120" y="5459760"/>
              <a:ext cx="3534840" cy="68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De materias primas (por ejemplo,  melaza) y los microorganismos mism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83320" y="6148080"/>
              <a:ext cx="2647080" cy="54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Sólidos orgánic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930760" y="6148080"/>
              <a:ext cx="2403360" cy="54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Bajo contenid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334120" y="6148080"/>
              <a:ext cx="3534840" cy="54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Del medi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83320" y="6688800"/>
              <a:ext cx="2647080" cy="34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930760" y="6688800"/>
              <a:ext cx="2403360" cy="34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334120" y="6688800"/>
              <a:ext cx="3534840" cy="34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3" name=""/>
            <p:cNvGrpSpPr/>
            <p:nvPr/>
          </p:nvGrpSpPr>
          <p:grpSpPr>
            <a:xfrm>
              <a:off x="228600" y="838080"/>
              <a:ext cx="2756520" cy="393120"/>
              <a:chOff x="228600" y="838080"/>
              <a:chExt cx="2756520" cy="393120"/>
            </a:xfrm>
          </p:grpSpPr>
          <p:sp>
            <p:nvSpPr>
              <p:cNvPr id="264" name=""/>
              <p:cNvSpPr/>
              <p:nvPr/>
            </p:nvSpPr>
            <p:spPr>
              <a:xfrm>
                <a:off x="283320" y="838080"/>
                <a:ext cx="2647080" cy="39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000080"/>
                    </a:solidFill>
                    <a:latin typeface="Times New Roman"/>
                    <a:ea typeface="Times New Roman"/>
                  </a:rPr>
                  <a:t>Component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228600" y="838080"/>
                <a:ext cx="2756520" cy="3931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2985480" y="838080"/>
              <a:ext cx="2513160" cy="393120"/>
              <a:chOff x="2985480" y="838080"/>
              <a:chExt cx="2513160" cy="393120"/>
            </a:xfrm>
          </p:grpSpPr>
          <p:sp>
            <p:nvSpPr>
              <p:cNvPr id="267" name=""/>
              <p:cNvSpPr/>
              <p:nvPr/>
            </p:nvSpPr>
            <p:spPr>
              <a:xfrm>
                <a:off x="3040560" y="838080"/>
                <a:ext cx="2403000" cy="39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000080"/>
                    </a:solidFill>
                    <a:latin typeface="Times New Roman"/>
                    <a:ea typeface="Times New Roman"/>
                  </a:rPr>
                  <a:t>Concentració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2985480" y="838080"/>
                <a:ext cx="2513160" cy="3931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9" name=""/>
            <p:cNvGrpSpPr/>
            <p:nvPr/>
          </p:nvGrpSpPr>
          <p:grpSpPr>
            <a:xfrm>
              <a:off x="5499360" y="838080"/>
              <a:ext cx="3643920" cy="393120"/>
              <a:chOff x="5499360" y="838080"/>
              <a:chExt cx="3643920" cy="393120"/>
            </a:xfrm>
          </p:grpSpPr>
          <p:sp>
            <p:nvSpPr>
              <p:cNvPr id="270" name=""/>
              <p:cNvSpPr/>
              <p:nvPr/>
            </p:nvSpPr>
            <p:spPr>
              <a:xfrm>
                <a:off x="5554080" y="838080"/>
                <a:ext cx="3534480" cy="39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000080"/>
                    </a:solidFill>
                    <a:latin typeface="Times New Roman"/>
                    <a:ea typeface="Times New Roman"/>
                  </a:rPr>
                  <a:t>Comentario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5499360" y="838080"/>
                <a:ext cx="3643920" cy="3931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72" name=""/>
          <p:cNvSpPr/>
          <p:nvPr/>
        </p:nvSpPr>
        <p:spPr>
          <a:xfrm>
            <a:off x="838080" y="15228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66"/>
                </a:solidFill>
                <a:uFillTx/>
                <a:latin typeface="Times New Roman"/>
                <a:ea typeface="Times New Roman"/>
              </a:rPr>
              <a:t>Composición de una Corriente de Entrada a DS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66"/>
                </a:solidFill>
                <a:uFillTx/>
                <a:latin typeface="Times New Roman"/>
              </a:rPr>
              <a:t>Productos Biotecnológicos de Interé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84872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s-ES" sz="2800" spc="-1" strike="noStrike">
                <a:solidFill>
                  <a:srgbClr val="000066"/>
                </a:solidFill>
                <a:latin typeface="Times New Roman"/>
              </a:rPr>
              <a:t>Biomas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Levadura </a:t>
            </a: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Hong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Bacteri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66"/>
                </a:solidFill>
                <a:latin typeface="Times New Roman"/>
              </a:rPr>
              <a:t>Viru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Adenovirus </a:t>
            </a: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Herpes vir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Retrovirus </a:t>
            </a: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Baculo vir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Adenoasoci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s-ES" sz="2800" spc="-1" strike="noStrike">
                <a:solidFill>
                  <a:srgbClr val="000066"/>
                </a:solidFill>
                <a:latin typeface="Times New Roman"/>
              </a:rPr>
              <a:t>Metaboli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Alcoholes </a:t>
            </a: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Antibiót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Ácid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s-ES" sz="2800" spc="-1" strike="noStrike">
                <a:solidFill>
                  <a:srgbClr val="000066"/>
                </a:solidFill>
                <a:latin typeface="Times New Roman"/>
              </a:rPr>
              <a:t>Proteína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468360" y="0"/>
            <a:ext cx="8153280" cy="59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PProcesos de Producción de Bioprodu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r>
              <a:rPr b="1" lang="es-CL" sz="24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¿ Qué se dese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esde una suspensión diluída se desea un productos biotecnológico co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- Máximo rendimiento</a:t>
            </a: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 = Pf/P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</a:t>
            </a: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f: Concentración Producto Fi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i : Concentración producto inic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- Máxima Pureza</a:t>
            </a:r>
            <a:r>
              <a:rPr b="0" lang="es-CL" sz="1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ureza = Pf / </a:t>
            </a:r>
            <a:r>
              <a:rPr b="0" lang="es-CL" sz="1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P</a:t>
            </a: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: Sumatoria de la concentración de todos los compuestos presen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  </a:t>
            </a:r>
            <a:r>
              <a:rPr b="0" lang="es-CL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     </a:t>
            </a:r>
            <a:r>
              <a:rPr b="0" lang="es-CL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 </a:t>
            </a:r>
            <a:r>
              <a:rPr b="0" lang="es-CL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Producto con propiedades funcion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Cumpliendo las condiciones de: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osto Razonable, dado que los costos de proceso son muy caros, siendo un porcentaje bastante significativo los equip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228600" y="457200"/>
            <a:ext cx="830592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u="sng">
                <a:solidFill>
                  <a:srgbClr val="000066"/>
                </a:solidFill>
                <a:uFillTx/>
                <a:latin typeface="Comic Sans MS"/>
                <a:ea typeface="Times New Roman"/>
              </a:rPr>
              <a:t>Diseño del Proceso de recuperación y purificació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u="sng">
                <a:solidFill>
                  <a:srgbClr val="000066"/>
                </a:solidFill>
                <a:uFillTx/>
                <a:latin typeface="Comic Sans MS"/>
                <a:ea typeface="Times New Roman"/>
              </a:rPr>
              <a:t>(Downstream  processing DS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ara el diseño del DSP se debe conocer las respuestas a las siguientes pregunta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¿ Cuál es el precio del producto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¿ Cuál es el nivel de producción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¿Dónde está el producto en cada etap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¿Cuáles son las propiedades fisicoquímicas y/o bioquímicas que diferencian al producto de sus contaminant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¿Cuál es el costo de las diferentes alternativas del DSP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¿cuál es la eficiencia de cada etap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60948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66"/>
                </a:solidFill>
                <a:uFillTx/>
                <a:latin typeface="Times New Roman"/>
              </a:rPr>
              <a:t>Proceso de producción de Biomas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Crecimiento de la Biomasa (Fermentació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paración de la biomasa del medio de cultiv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cado y post-tratamien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Almacenamiento de la bioma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9" name=""/>
          <p:cNvGraphicFramePr/>
          <p:nvPr/>
        </p:nvGraphicFramePr>
        <p:xfrm>
          <a:off x="0" y="0"/>
          <a:ext cx="8915400" cy="6292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8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8915400" cy="629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1" name=""/>
          <p:cNvSpPr/>
          <p:nvPr/>
        </p:nvSpPr>
        <p:spPr>
          <a:xfrm>
            <a:off x="0" y="762120"/>
            <a:ext cx="6172200" cy="350496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304920" y="228600"/>
            <a:ext cx="8381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ceso de producción de Vir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recimiento de Células empaquetador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Infección de Células empaquetador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recimiento de Células empaquetadoras infectad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Recuperación de Células empaquetador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Rompimiento de las células (según viru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Separación de los debris celula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Purificación de los vir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Almacenamiento de los vir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768960" y="228600"/>
            <a:ext cx="812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Producción y Purificación de Adenovir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5" name=""/>
          <p:cNvGraphicFramePr/>
          <p:nvPr/>
        </p:nvGraphicFramePr>
        <p:xfrm>
          <a:off x="304920" y="990720"/>
          <a:ext cx="8494560" cy="5667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8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990720"/>
                    <a:ext cx="8494560" cy="566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gra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Recuperación de Proteín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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paración Sólido-Líquid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entrifug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lt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agul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locul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cesos de Membr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cro filt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ltra filt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áli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422280" y="1295280"/>
            <a:ext cx="8510760" cy="487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422280" y="1752480"/>
            <a:ext cx="8557560" cy="3248640"/>
            <a:chOff x="422280" y="1752480"/>
            <a:chExt cx="8557560" cy="3248640"/>
          </a:xfrm>
        </p:grpSpPr>
        <p:sp>
          <p:nvSpPr>
            <p:cNvPr id="289" name=""/>
            <p:cNvSpPr/>
            <p:nvPr/>
          </p:nvSpPr>
          <p:spPr>
            <a:xfrm>
              <a:off x="422280" y="1752480"/>
              <a:ext cx="16992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0" name=""/>
            <p:cNvGrpSpPr/>
            <p:nvPr/>
          </p:nvGrpSpPr>
          <p:grpSpPr>
            <a:xfrm>
              <a:off x="8088120" y="3027240"/>
              <a:ext cx="425880" cy="533520"/>
              <a:chOff x="8088120" y="3027240"/>
              <a:chExt cx="425880" cy="533520"/>
            </a:xfrm>
          </p:grpSpPr>
          <p:sp>
            <p:nvSpPr>
              <p:cNvPr id="291" name=""/>
              <p:cNvSpPr/>
              <p:nvPr/>
            </p:nvSpPr>
            <p:spPr>
              <a:xfrm>
                <a:off x="8088120" y="3255840"/>
                <a:ext cx="185400" cy="76320"/>
              </a:xfrm>
              <a:prstGeom prst="flowChartPreparation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8328600" y="3255840"/>
                <a:ext cx="185400" cy="76320"/>
              </a:xfrm>
              <a:prstGeom prst="flowChartPreparation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8248680" y="3484440"/>
                <a:ext cx="185040" cy="76320"/>
              </a:xfrm>
              <a:prstGeom prst="flowChartPreparation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8088120" y="3103560"/>
                <a:ext cx="105120" cy="76320"/>
              </a:xfrm>
              <a:prstGeom prst="flowChartPreparation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8248680" y="3027240"/>
                <a:ext cx="185040" cy="76320"/>
              </a:xfrm>
              <a:prstGeom prst="flowChartPreparation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8088120" y="3408480"/>
                <a:ext cx="185400" cy="75960"/>
              </a:xfrm>
              <a:prstGeom prst="flowChartPreparation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8328600" y="3408480"/>
                <a:ext cx="185400" cy="75960"/>
              </a:xfrm>
              <a:prstGeom prst="flowChartPreparation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8" name=""/>
            <p:cNvSpPr/>
            <p:nvPr/>
          </p:nvSpPr>
          <p:spPr>
            <a:xfrm>
              <a:off x="5837760" y="3103560"/>
              <a:ext cx="1125000" cy="380880"/>
            </a:xfrm>
            <a:prstGeom prst="rightArrow">
              <a:avLst>
                <a:gd name="adj1" fmla="val 50000"/>
                <a:gd name="adj2" fmla="val 73842"/>
              </a:avLst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914400" y="2570040"/>
              <a:ext cx="642960" cy="1600200"/>
            </a:xfrm>
            <a:prstGeom prst="can">
              <a:avLst>
                <a:gd name="adj" fmla="val 24967"/>
              </a:avLst>
            </a:prstGeom>
            <a:noFill/>
            <a:ln w="284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0" name=""/>
            <p:cNvGrpSpPr/>
            <p:nvPr/>
          </p:nvGrpSpPr>
          <p:grpSpPr>
            <a:xfrm>
              <a:off x="4008960" y="2494080"/>
              <a:ext cx="642600" cy="1828800"/>
              <a:chOff x="4008960" y="2494080"/>
              <a:chExt cx="642600" cy="1828800"/>
            </a:xfrm>
          </p:grpSpPr>
          <p:sp>
            <p:nvSpPr>
              <p:cNvPr id="301" name=""/>
              <p:cNvSpPr/>
              <p:nvPr/>
            </p:nvSpPr>
            <p:spPr>
              <a:xfrm>
                <a:off x="4008960" y="2494080"/>
                <a:ext cx="642600" cy="1828800"/>
              </a:xfrm>
              <a:prstGeom prst="can">
                <a:avLst>
                  <a:gd name="adj" fmla="val 24967"/>
                </a:avLst>
              </a:prstGeom>
              <a:noFill/>
              <a:ln w="2844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4008960" y="3407760"/>
                <a:ext cx="642600" cy="228600"/>
              </a:xfrm>
              <a:prstGeom prst="rect">
                <a:avLst/>
              </a:prstGeom>
              <a:solidFill>
                <a:srgbClr val="ccccff"/>
              </a:solidFill>
              <a:ln w="2844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3" name=""/>
            <p:cNvSpPr/>
            <p:nvPr/>
          </p:nvSpPr>
          <p:spPr>
            <a:xfrm>
              <a:off x="5978160" y="3103560"/>
              <a:ext cx="320760" cy="609480"/>
            </a:xfrm>
            <a:prstGeom prst="flowChartMagneticDisk">
              <a:avLst/>
            </a:prstGeom>
            <a:solidFill>
              <a:srgbClr val="ccccff"/>
            </a:solidFill>
            <a:ln w="284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039760" y="2951280"/>
              <a:ext cx="1125000" cy="380880"/>
            </a:xfrm>
            <a:prstGeom prst="rightArrow">
              <a:avLst>
                <a:gd name="adj1" fmla="val 50000"/>
                <a:gd name="adj2" fmla="val 73842"/>
              </a:avLst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953800" y="2722680"/>
              <a:ext cx="1054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7e"/>
                  </a:solidFill>
                  <a:latin typeface="Arial"/>
                </a:rPr>
                <a:t>Centrifu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7e"/>
                  </a:solidFill>
                  <a:latin typeface="Arial"/>
                </a:rPr>
                <a:t>gac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03440" y="4419720"/>
              <a:ext cx="16862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7e"/>
                  </a:solidFill>
                  <a:latin typeface="Arial"/>
                </a:rPr>
                <a:t>Gradiente de CsC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684120" y="2798640"/>
              <a:ext cx="891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7e"/>
                  </a:solidFill>
                  <a:latin typeface="Arial"/>
                </a:rPr>
                <a:t>Dialisi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541640" y="3809880"/>
              <a:ext cx="1438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7e"/>
                  </a:solidFill>
                  <a:latin typeface="Arial"/>
                </a:rPr>
                <a:t>Adenoviru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7e"/>
                  </a:solidFill>
                  <a:latin typeface="Arial"/>
                </a:rPr>
                <a:t>Pur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391480" y="2874960"/>
              <a:ext cx="421920" cy="838080"/>
            </a:xfrm>
            <a:prstGeom prst="flowChartMagneticDisk">
              <a:avLst/>
            </a:prstGeom>
            <a:noFill/>
            <a:ln w="284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0" name=""/>
            <p:cNvGrpSpPr/>
            <p:nvPr/>
          </p:nvGrpSpPr>
          <p:grpSpPr>
            <a:xfrm>
              <a:off x="2451600" y="2938320"/>
              <a:ext cx="318600" cy="649080"/>
              <a:chOff x="2451600" y="2938320"/>
              <a:chExt cx="318600" cy="649080"/>
            </a:xfrm>
          </p:grpSpPr>
          <p:sp>
            <p:nvSpPr>
              <p:cNvPr id="311" name=""/>
              <p:cNvSpPr/>
              <p:nvPr/>
            </p:nvSpPr>
            <p:spPr>
              <a:xfrm>
                <a:off x="2451600" y="3133440"/>
                <a:ext cx="138600" cy="63720"/>
              </a:xfrm>
              <a:prstGeom prst="flowChartPreparation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280" bIns="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2631600" y="3133440"/>
                <a:ext cx="138600" cy="63720"/>
              </a:xfrm>
              <a:prstGeom prst="flowChartPreparation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280" bIns="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2572920" y="3327120"/>
                <a:ext cx="138600" cy="63360"/>
              </a:xfrm>
              <a:prstGeom prst="flowChartPreparation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920" bIns="16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14" name=""/>
              <p:cNvGrpSpPr/>
              <p:nvPr/>
            </p:nvGrpSpPr>
            <p:grpSpPr>
              <a:xfrm>
                <a:off x="2451600" y="2938320"/>
                <a:ext cx="259920" cy="129960"/>
                <a:chOff x="2451600" y="2938320"/>
                <a:chExt cx="259920" cy="129960"/>
              </a:xfrm>
            </p:grpSpPr>
            <p:sp>
              <p:nvSpPr>
                <p:cNvPr id="315" name=""/>
                <p:cNvSpPr/>
                <p:nvPr/>
              </p:nvSpPr>
              <p:spPr>
                <a:xfrm>
                  <a:off x="2451600" y="3003840"/>
                  <a:ext cx="78840" cy="64440"/>
                </a:xfrm>
                <a:prstGeom prst="flowChartPreparation">
                  <a:avLst/>
                </a:prstGeom>
                <a:solidFill>
                  <a:srgbClr val="cc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000" bIns="18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2572200" y="2938320"/>
                  <a:ext cx="139320" cy="65520"/>
                </a:xfrm>
                <a:prstGeom prst="flowChartPreparation">
                  <a:avLst/>
                </a:prstGeom>
                <a:solidFill>
                  <a:srgbClr val="cc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080" bIns="19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7" name=""/>
              <p:cNvSpPr/>
              <p:nvPr/>
            </p:nvSpPr>
            <p:spPr>
              <a:xfrm>
                <a:off x="2451600" y="3260520"/>
                <a:ext cx="138600" cy="66600"/>
              </a:xfrm>
              <a:prstGeom prst="flowChartPreparation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160" bIns="20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2631600" y="3260520"/>
                <a:ext cx="138600" cy="66600"/>
              </a:xfrm>
              <a:prstGeom prst="flowChartPreparation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160" bIns="20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19" name=""/>
              <p:cNvGrpSpPr/>
              <p:nvPr/>
            </p:nvGrpSpPr>
            <p:grpSpPr>
              <a:xfrm>
                <a:off x="2510280" y="3457440"/>
                <a:ext cx="259920" cy="129960"/>
                <a:chOff x="2510280" y="3457440"/>
                <a:chExt cx="259920" cy="129960"/>
              </a:xfrm>
            </p:grpSpPr>
            <p:sp>
              <p:nvSpPr>
                <p:cNvPr id="320" name=""/>
                <p:cNvSpPr/>
                <p:nvPr/>
              </p:nvSpPr>
              <p:spPr>
                <a:xfrm>
                  <a:off x="2510280" y="3522960"/>
                  <a:ext cx="78840" cy="64440"/>
                </a:xfrm>
                <a:prstGeom prst="flowChartPreparation">
                  <a:avLst/>
                </a:prstGeom>
                <a:solidFill>
                  <a:srgbClr val="cc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000" bIns="18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>
                  <a:off x="2630880" y="3457440"/>
                  <a:ext cx="139320" cy="65520"/>
                </a:xfrm>
                <a:prstGeom prst="flowChartPreparation">
                  <a:avLst/>
                </a:prstGeom>
                <a:solidFill>
                  <a:srgbClr val="cc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080" bIns="19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22" name=""/>
            <p:cNvSpPr/>
            <p:nvPr/>
          </p:nvSpPr>
          <p:spPr>
            <a:xfrm>
              <a:off x="1813680" y="3032280"/>
              <a:ext cx="410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3200" spc="-1" strike="noStrike">
                  <a:solidFill>
                    <a:srgbClr val="00007e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832760" y="3759120"/>
              <a:ext cx="1520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7e"/>
                  </a:solidFill>
                  <a:latin typeface="Arial"/>
                </a:rPr>
                <a:t>Recuperació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7e"/>
                  </a:solidFill>
                  <a:latin typeface="Arial"/>
                </a:rPr>
                <a:t> </a:t>
              </a:r>
              <a:r>
                <a:rPr b="1" lang="es-ES_tradnl" sz="1600" spc="-1" strike="noStrike">
                  <a:solidFill>
                    <a:srgbClr val="00007e"/>
                  </a:solidFill>
                  <a:latin typeface="Arial"/>
                </a:rPr>
                <a:t>Adenoviru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92560" y="3255840"/>
              <a:ext cx="511200" cy="228600"/>
            </a:xfrm>
            <a:prstGeom prst="rightArrow">
              <a:avLst>
                <a:gd name="adj1" fmla="val 50000"/>
                <a:gd name="adj2" fmla="val 55906"/>
              </a:avLst>
            </a:prstGeom>
            <a:solidFill>
              <a:srgbClr val="000066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134320" y="3332160"/>
              <a:ext cx="511200" cy="228600"/>
            </a:xfrm>
            <a:prstGeom prst="rightArrow">
              <a:avLst>
                <a:gd name="adj1" fmla="val 50000"/>
                <a:gd name="adj2" fmla="val 55906"/>
              </a:avLst>
            </a:prstGeom>
            <a:solidFill>
              <a:srgbClr val="000066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235320" y="3332160"/>
              <a:ext cx="511200" cy="228600"/>
            </a:xfrm>
            <a:prstGeom prst="rightArrow">
              <a:avLst>
                <a:gd name="adj1" fmla="val 50000"/>
                <a:gd name="adj2" fmla="val 55906"/>
              </a:avLst>
            </a:prstGeom>
            <a:solidFill>
              <a:srgbClr val="000066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7" name=""/>
          <p:cNvSpPr/>
          <p:nvPr/>
        </p:nvSpPr>
        <p:spPr>
          <a:xfrm>
            <a:off x="0" y="22860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Método Tradicional de  Purificación 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CsCl Gradiente + Diáli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210960" y="1371600"/>
            <a:ext cx="8722080" cy="4648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7229160" y="3908520"/>
            <a:ext cx="150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7e"/>
                </a:solidFill>
                <a:latin typeface="Arial"/>
              </a:rPr>
              <a:t>Adenoviru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7e"/>
                </a:solidFill>
                <a:latin typeface="Arial"/>
              </a:rPr>
              <a:t>Pu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880960" y="4618080"/>
            <a:ext cx="198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7e"/>
                </a:solidFill>
                <a:latin typeface="Arial"/>
              </a:rPr>
              <a:t>Cromatografía 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7e"/>
                </a:solidFill>
                <a:latin typeface="Arial"/>
              </a:rPr>
              <a:t>Intercambio Ión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1" name=""/>
          <p:cNvGrpSpPr/>
          <p:nvPr/>
        </p:nvGrpSpPr>
        <p:grpSpPr>
          <a:xfrm>
            <a:off x="291240" y="2666880"/>
            <a:ext cx="754200" cy="2212200"/>
            <a:chOff x="291240" y="2666880"/>
            <a:chExt cx="754200" cy="2212200"/>
          </a:xfrm>
        </p:grpSpPr>
        <p:sp>
          <p:nvSpPr>
            <p:cNvPr id="332" name=""/>
            <p:cNvSpPr/>
            <p:nvPr/>
          </p:nvSpPr>
          <p:spPr>
            <a:xfrm>
              <a:off x="291240" y="4541760"/>
              <a:ext cx="72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7e"/>
                  </a:solidFill>
                  <a:latin typeface="Arial"/>
                </a:rPr>
                <a:t>ATP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87720" y="2666880"/>
              <a:ext cx="643680" cy="1828800"/>
            </a:xfrm>
            <a:prstGeom prst="can">
              <a:avLst>
                <a:gd name="adj" fmla="val 24967"/>
              </a:avLst>
            </a:prstGeom>
            <a:noFill/>
            <a:ln w="284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H="1">
              <a:off x="387720" y="3657600"/>
              <a:ext cx="633600" cy="0"/>
            </a:xfrm>
            <a:prstGeom prst="line">
              <a:avLst/>
            </a:prstGeom>
            <a:ln w="284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436320" y="3200400"/>
              <a:ext cx="609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7e"/>
                  </a:solidFill>
                  <a:latin typeface="Arial"/>
                </a:rPr>
                <a:t>PE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60080" y="3908520"/>
              <a:ext cx="48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7e"/>
                  </a:solidFill>
                  <a:latin typeface="Arial"/>
                </a:rPr>
                <a:t>S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7" name=""/>
          <p:cNvSpPr/>
          <p:nvPr/>
        </p:nvSpPr>
        <p:spPr>
          <a:xfrm>
            <a:off x="4257720" y="3429000"/>
            <a:ext cx="164880" cy="92160"/>
          </a:xfrm>
          <a:prstGeom prst="flowChartPreparation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186080" y="3200400"/>
            <a:ext cx="166680" cy="92160"/>
          </a:xfrm>
          <a:prstGeom prst="flowChartPreparation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975120" y="4267080"/>
            <a:ext cx="166680" cy="92160"/>
          </a:xfrm>
          <a:prstGeom prst="flowChartPreparation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0" name=""/>
          <p:cNvGrpSpPr/>
          <p:nvPr/>
        </p:nvGrpSpPr>
        <p:grpSpPr>
          <a:xfrm>
            <a:off x="4046400" y="3733920"/>
            <a:ext cx="307800" cy="185760"/>
            <a:chOff x="4046400" y="3733920"/>
            <a:chExt cx="307800" cy="185760"/>
          </a:xfrm>
        </p:grpSpPr>
        <p:sp>
          <p:nvSpPr>
            <p:cNvPr id="341" name=""/>
            <p:cNvSpPr/>
            <p:nvPr/>
          </p:nvSpPr>
          <p:spPr>
            <a:xfrm>
              <a:off x="4046400" y="3827520"/>
              <a:ext cx="93240" cy="92160"/>
            </a:xfrm>
            <a:prstGeom prst="flowChartPreparation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189320" y="3733920"/>
              <a:ext cx="164880" cy="93600"/>
            </a:xfrm>
            <a:prstGeom prst="flowChartPreparation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3" name=""/>
          <p:cNvSpPr/>
          <p:nvPr/>
        </p:nvSpPr>
        <p:spPr>
          <a:xfrm>
            <a:off x="3975120" y="3505320"/>
            <a:ext cx="166680" cy="93600"/>
          </a:xfrm>
          <a:prstGeom prst="flowChartPreparation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905280" y="3124080"/>
            <a:ext cx="165240" cy="93960"/>
          </a:xfrm>
          <a:prstGeom prst="flowChartPreparation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5" name=""/>
          <p:cNvGrpSpPr/>
          <p:nvPr/>
        </p:nvGrpSpPr>
        <p:grpSpPr>
          <a:xfrm>
            <a:off x="3905280" y="3276720"/>
            <a:ext cx="309240" cy="185760"/>
            <a:chOff x="3905280" y="3276720"/>
            <a:chExt cx="309240" cy="185760"/>
          </a:xfrm>
        </p:grpSpPr>
        <p:sp>
          <p:nvSpPr>
            <p:cNvPr id="346" name=""/>
            <p:cNvSpPr/>
            <p:nvPr/>
          </p:nvSpPr>
          <p:spPr>
            <a:xfrm>
              <a:off x="3905280" y="3370320"/>
              <a:ext cx="93600" cy="92160"/>
            </a:xfrm>
            <a:prstGeom prst="flowChartPreparation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048920" y="3276720"/>
              <a:ext cx="165600" cy="93600"/>
            </a:xfrm>
            <a:prstGeom prst="flowChartPreparation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8" name=""/>
          <p:cNvSpPr/>
          <p:nvPr/>
        </p:nvSpPr>
        <p:spPr>
          <a:xfrm>
            <a:off x="3835440" y="2743200"/>
            <a:ext cx="642960" cy="1828800"/>
          </a:xfrm>
          <a:prstGeom prst="can">
            <a:avLst>
              <a:gd name="adj" fmla="val 24967"/>
            </a:avLst>
          </a:prstGeom>
          <a:noFill/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 flipH="1">
            <a:off x="3835080" y="3733920"/>
            <a:ext cx="631800" cy="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586400" y="3222720"/>
            <a:ext cx="60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7e"/>
                </a:solidFill>
                <a:latin typeface="Arial"/>
              </a:rPr>
              <a:t>PE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610160" y="3984480"/>
            <a:ext cx="48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7e"/>
                </a:solidFill>
                <a:latin typeface="Arial"/>
              </a:rPr>
              <a:t>S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367320" y="2514600"/>
            <a:ext cx="281160" cy="2057400"/>
          </a:xfrm>
          <a:prstGeom prst="rect">
            <a:avLst/>
          </a:prstGeom>
          <a:noFill/>
          <a:ln w="284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437160" y="2971800"/>
            <a:ext cx="165240" cy="92160"/>
          </a:xfrm>
          <a:prstGeom prst="flowChartPreparation">
            <a:avLst/>
          </a:prstGeom>
          <a:solidFill>
            <a:srgbClr val="ccccff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367320" y="3429000"/>
            <a:ext cx="165240" cy="92160"/>
          </a:xfrm>
          <a:prstGeom prst="flowChartPreparation">
            <a:avLst/>
          </a:prstGeom>
          <a:solidFill>
            <a:srgbClr val="ccccff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437160" y="3657600"/>
            <a:ext cx="165240" cy="92160"/>
          </a:xfrm>
          <a:prstGeom prst="flowChartPreparation">
            <a:avLst/>
          </a:prstGeom>
          <a:solidFill>
            <a:srgbClr val="ccccff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507000" y="3581280"/>
            <a:ext cx="166680" cy="92160"/>
          </a:xfrm>
          <a:prstGeom prst="flowChartPreparation">
            <a:avLst/>
          </a:prstGeom>
          <a:solidFill>
            <a:srgbClr val="ccccff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006640" y="3200400"/>
            <a:ext cx="422280" cy="838080"/>
          </a:xfrm>
          <a:prstGeom prst="flowChartMagneticDisk">
            <a:avLst/>
          </a:prstGeom>
          <a:noFill/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8" name=""/>
          <p:cNvGrpSpPr/>
          <p:nvPr/>
        </p:nvGrpSpPr>
        <p:grpSpPr>
          <a:xfrm>
            <a:off x="2066760" y="3263760"/>
            <a:ext cx="318960" cy="649080"/>
            <a:chOff x="2066760" y="3263760"/>
            <a:chExt cx="318960" cy="649080"/>
          </a:xfrm>
        </p:grpSpPr>
        <p:sp>
          <p:nvSpPr>
            <p:cNvPr id="359" name=""/>
            <p:cNvSpPr/>
            <p:nvPr/>
          </p:nvSpPr>
          <p:spPr>
            <a:xfrm>
              <a:off x="2066760" y="3459240"/>
              <a:ext cx="138960" cy="63360"/>
            </a:xfrm>
            <a:prstGeom prst="flowChartPreparation">
              <a:avLst/>
            </a:prstGeom>
            <a:solidFill>
              <a:srgbClr val="ccccf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247120" y="3459240"/>
              <a:ext cx="138600" cy="63360"/>
            </a:xfrm>
            <a:prstGeom prst="flowChartPreparation">
              <a:avLst/>
            </a:prstGeom>
            <a:solidFill>
              <a:srgbClr val="ccccf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188080" y="3652920"/>
              <a:ext cx="138960" cy="63360"/>
            </a:xfrm>
            <a:prstGeom prst="flowChartPreparation">
              <a:avLst/>
            </a:prstGeom>
            <a:solidFill>
              <a:srgbClr val="ccccf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2" name=""/>
            <p:cNvGrpSpPr/>
            <p:nvPr/>
          </p:nvGrpSpPr>
          <p:grpSpPr>
            <a:xfrm>
              <a:off x="2066760" y="3263760"/>
              <a:ext cx="260640" cy="129960"/>
              <a:chOff x="2066760" y="3263760"/>
              <a:chExt cx="260640" cy="129960"/>
            </a:xfrm>
          </p:grpSpPr>
          <p:sp>
            <p:nvSpPr>
              <p:cNvPr id="363" name=""/>
              <p:cNvSpPr/>
              <p:nvPr/>
            </p:nvSpPr>
            <p:spPr>
              <a:xfrm>
                <a:off x="2066760" y="3329280"/>
                <a:ext cx="78840" cy="64440"/>
              </a:xfrm>
              <a:prstGeom prst="flowChartPreparation">
                <a:avLst/>
              </a:prstGeom>
              <a:solidFill>
                <a:srgbClr val="ccccff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0" bIns="18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2187720" y="3263760"/>
                <a:ext cx="139680" cy="65520"/>
              </a:xfrm>
              <a:prstGeom prst="flowChartPreparation">
                <a:avLst/>
              </a:prstGeom>
              <a:solidFill>
                <a:srgbClr val="ccccff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080" bIns="19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5" name=""/>
            <p:cNvSpPr/>
            <p:nvPr/>
          </p:nvSpPr>
          <p:spPr>
            <a:xfrm>
              <a:off x="2066760" y="3586320"/>
              <a:ext cx="138960" cy="66600"/>
            </a:xfrm>
            <a:prstGeom prst="flowChartPreparation">
              <a:avLst/>
            </a:prstGeom>
            <a:solidFill>
              <a:srgbClr val="ccccf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2247120" y="3586320"/>
              <a:ext cx="138600" cy="66600"/>
            </a:xfrm>
            <a:prstGeom prst="flowChartPreparation">
              <a:avLst/>
            </a:prstGeom>
            <a:solidFill>
              <a:srgbClr val="ccccf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7" name=""/>
            <p:cNvGrpSpPr/>
            <p:nvPr/>
          </p:nvGrpSpPr>
          <p:grpSpPr>
            <a:xfrm>
              <a:off x="2125440" y="3782880"/>
              <a:ext cx="259920" cy="129960"/>
              <a:chOff x="2125440" y="3782880"/>
              <a:chExt cx="259920" cy="129960"/>
            </a:xfrm>
          </p:grpSpPr>
          <p:sp>
            <p:nvSpPr>
              <p:cNvPr id="368" name=""/>
              <p:cNvSpPr/>
              <p:nvPr/>
            </p:nvSpPr>
            <p:spPr>
              <a:xfrm>
                <a:off x="2125440" y="3848400"/>
                <a:ext cx="78840" cy="64440"/>
              </a:xfrm>
              <a:prstGeom prst="flowChartPreparation">
                <a:avLst/>
              </a:prstGeom>
              <a:solidFill>
                <a:srgbClr val="ccccff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0" bIns="18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2246040" y="3782880"/>
                <a:ext cx="139320" cy="65520"/>
              </a:xfrm>
              <a:prstGeom prst="flowChartPreparation">
                <a:avLst/>
              </a:prstGeom>
              <a:solidFill>
                <a:srgbClr val="ccccff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080" bIns="19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70" name=""/>
          <p:cNvSpPr/>
          <p:nvPr/>
        </p:nvSpPr>
        <p:spPr>
          <a:xfrm>
            <a:off x="1358280" y="3276720"/>
            <a:ext cx="41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7e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1" name=""/>
          <p:cNvGrpSpPr/>
          <p:nvPr/>
        </p:nvGrpSpPr>
        <p:grpSpPr>
          <a:xfrm>
            <a:off x="7915320" y="3200400"/>
            <a:ext cx="425160" cy="533520"/>
            <a:chOff x="7915320" y="3200400"/>
            <a:chExt cx="425160" cy="533520"/>
          </a:xfrm>
        </p:grpSpPr>
        <p:sp>
          <p:nvSpPr>
            <p:cNvPr id="372" name=""/>
            <p:cNvSpPr/>
            <p:nvPr/>
          </p:nvSpPr>
          <p:spPr>
            <a:xfrm>
              <a:off x="7915320" y="3429000"/>
              <a:ext cx="185040" cy="76320"/>
            </a:xfrm>
            <a:prstGeom prst="flowChartPreparation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8155440" y="3429000"/>
              <a:ext cx="185040" cy="76320"/>
            </a:xfrm>
            <a:prstGeom prst="flowChartPreparation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8075520" y="3657600"/>
              <a:ext cx="184680" cy="76320"/>
            </a:xfrm>
            <a:prstGeom prst="flowChartPreparation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7915320" y="3276720"/>
              <a:ext cx="105120" cy="76320"/>
            </a:xfrm>
            <a:prstGeom prst="flowChartPreparation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8075520" y="3200400"/>
              <a:ext cx="184680" cy="76320"/>
            </a:xfrm>
            <a:prstGeom prst="flowChartPreparation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7915320" y="3581640"/>
              <a:ext cx="185040" cy="75960"/>
            </a:xfrm>
            <a:prstGeom prst="flowChartPreparation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8155440" y="3581640"/>
              <a:ext cx="185040" cy="75960"/>
            </a:xfrm>
            <a:prstGeom prst="flowChartPreparation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9" name=""/>
          <p:cNvSpPr/>
          <p:nvPr/>
        </p:nvSpPr>
        <p:spPr>
          <a:xfrm>
            <a:off x="1518480" y="4084560"/>
            <a:ext cx="1520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7e"/>
                </a:solidFill>
                <a:latin typeface="Arial"/>
              </a:rPr>
              <a:t>Recuper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7e"/>
                </a:solidFill>
                <a:latin typeface="Arial"/>
              </a:rPr>
              <a:t> </a:t>
            </a:r>
            <a:r>
              <a:rPr b="1" lang="es-ES_tradnl" sz="1600" spc="-1" strike="noStrike">
                <a:solidFill>
                  <a:srgbClr val="00007e"/>
                </a:solidFill>
                <a:latin typeface="Arial"/>
              </a:rPr>
              <a:t>Adenovir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7070760" y="3429000"/>
            <a:ext cx="511200" cy="228600"/>
          </a:xfrm>
          <a:prstGeom prst="rightArrow">
            <a:avLst>
              <a:gd name="adj1" fmla="val 50000"/>
              <a:gd name="adj2" fmla="val 55906"/>
            </a:avLst>
          </a:pr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060720" y="3505320"/>
            <a:ext cx="511200" cy="228600"/>
          </a:xfrm>
          <a:prstGeom prst="rightArrow">
            <a:avLst>
              <a:gd name="adj1" fmla="val 50000"/>
              <a:gd name="adj2" fmla="val 55906"/>
            </a:avLst>
          </a:pr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452920" y="3429000"/>
            <a:ext cx="511200" cy="228600"/>
          </a:xfrm>
          <a:prstGeom prst="rightArrow">
            <a:avLst>
              <a:gd name="adj1" fmla="val 50000"/>
              <a:gd name="adj2" fmla="val 55906"/>
            </a:avLst>
          </a:pr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33520" y="228600"/>
            <a:ext cx="815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Método Propuesto de Purific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Dos Fase acuosas + Cromatografí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685800" y="6094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ceso de producción de Metabolit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cimiento de la Biomasa (Fermentació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paración del metabolito de la biomas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tamiento y purificación del metaboli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macenamiento del metaboli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6" name=""/>
          <p:cNvGraphicFramePr/>
          <p:nvPr/>
        </p:nvGraphicFramePr>
        <p:xfrm>
          <a:off x="0" y="814320"/>
          <a:ext cx="9144000" cy="5227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8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814320"/>
                    <a:ext cx="9144000" cy="522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8" name=""/>
          <p:cNvSpPr/>
          <p:nvPr/>
        </p:nvSpPr>
        <p:spPr>
          <a:xfrm>
            <a:off x="1371600" y="22860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ción de Ácido Cítr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0" y="762120"/>
            <a:ext cx="5715000" cy="350496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Proceso de producción de proteín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1" name=""/>
          <p:cNvGrpSpPr/>
          <p:nvPr/>
        </p:nvGrpSpPr>
        <p:grpSpPr>
          <a:xfrm>
            <a:off x="685800" y="0"/>
            <a:ext cx="7772040" cy="6876360"/>
            <a:chOff x="685800" y="0"/>
            <a:chExt cx="7772040" cy="6876360"/>
          </a:xfrm>
        </p:grpSpPr>
        <p:sp>
          <p:nvSpPr>
            <p:cNvPr id="392" name=""/>
            <p:cNvSpPr/>
            <p:nvPr/>
          </p:nvSpPr>
          <p:spPr>
            <a:xfrm>
              <a:off x="870480" y="1638720"/>
              <a:ext cx="3038040" cy="43596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2073600" y="504000"/>
              <a:ext cx="4070880" cy="40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901800" y="1701720"/>
              <a:ext cx="22068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Rompimiento Célul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870480" y="3151440"/>
              <a:ext cx="2980080" cy="575640"/>
            </a:xfrm>
            <a:prstGeom prst="rect">
              <a:avLst/>
            </a:prstGeom>
            <a:noFill/>
            <a:ln w="1260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Precipitación  Ácido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Nucleicos, Proteas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4273200" y="4461840"/>
              <a:ext cx="15606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Concentració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082760" y="5357520"/>
              <a:ext cx="1716120" cy="575640"/>
            </a:xfrm>
            <a:prstGeom prst="rect">
              <a:avLst/>
            </a:prstGeom>
            <a:solidFill>
              <a:srgbClr val="fdc0e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Purificación Alt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Resolució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041000" y="6429240"/>
              <a:ext cx="13046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omic Sans MS"/>
                </a:rPr>
                <a:t>Refinamient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870480" y="2331720"/>
              <a:ext cx="3043440" cy="57564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Separación Materi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Intracelular (Desechos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141360" y="0"/>
              <a:ext cx="29458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Caldo de Fermentació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2351160" y="1008000"/>
              <a:ext cx="3038040" cy="39924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4116600" y="4427640"/>
              <a:ext cx="2305440" cy="36216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3461400" y="6302880"/>
              <a:ext cx="2490120" cy="48852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351160" y="1071360"/>
              <a:ext cx="32115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Separación de Célul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1888560" y="2836440"/>
              <a:ext cx="0" cy="315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258280" y="4727160"/>
              <a:ext cx="183492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1888560" y="1260360"/>
              <a:ext cx="0" cy="441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4571640" y="693000"/>
              <a:ext cx="340776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 flipH="1">
              <a:off x="6422040" y="4600800"/>
              <a:ext cx="158832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 flipH="1">
              <a:off x="3461400" y="693000"/>
              <a:ext cx="112536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5404680" y="1260360"/>
              <a:ext cx="27756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3461400" y="693000"/>
              <a:ext cx="0" cy="38844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5034240" y="315000"/>
              <a:ext cx="0" cy="378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641200" y="441000"/>
              <a:ext cx="2031120" cy="82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Sin Célula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omic Sans MS"/>
                </a:rPr>
                <a:t>Células inmovilizad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omic Sans MS"/>
                </a:rPr>
                <a:t>Células retenid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1476720" y="378000"/>
              <a:ext cx="15775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Con Célula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88560" y="2079720"/>
              <a:ext cx="0" cy="241200"/>
            </a:xfrm>
            <a:prstGeom prst="line">
              <a:avLst/>
            </a:prstGeom>
            <a:ln w="76320">
              <a:solidFill>
                <a:srgbClr val="b5006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888560" y="1260360"/>
              <a:ext cx="44712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58280" y="4475160"/>
              <a:ext cx="0" cy="252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7995600" y="693000"/>
              <a:ext cx="0" cy="39078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5682240" y="1260360"/>
              <a:ext cx="0" cy="31464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4942080" y="4790160"/>
              <a:ext cx="0" cy="567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942080" y="5861880"/>
              <a:ext cx="0" cy="43056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758880" y="1197360"/>
              <a:ext cx="9540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Comic Sans MS"/>
                </a:rPr>
                <a:t>Célula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649760" y="2773080"/>
              <a:ext cx="1701000" cy="363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Comic Sans MS"/>
                </a:rPr>
                <a:t>Sobrenadan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685800" y="5357520"/>
              <a:ext cx="181080" cy="4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870480" y="3969360"/>
              <a:ext cx="2980080" cy="575640"/>
            </a:xfrm>
            <a:prstGeom prst="rect">
              <a:avLst/>
            </a:prstGeom>
            <a:noFill/>
            <a:ln w="1260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Tratamiento de cuerpos incluido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1888560" y="3655440"/>
              <a:ext cx="0" cy="315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5497200" y="1385280"/>
              <a:ext cx="269640" cy="363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6422040" y="5357520"/>
              <a:ext cx="2035440" cy="4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6052320" y="6239880"/>
              <a:ext cx="2405520" cy="63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Permi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Comic Sans MS"/>
                </a:rPr>
                <a:t>Altos niveles de purez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Comic Sans MS"/>
                </a:rPr>
                <a:t>Estabilidad del product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1" name=""/>
          <p:cNvSpPr/>
          <p:nvPr/>
        </p:nvSpPr>
        <p:spPr>
          <a:xfrm>
            <a:off x="6659640" y="1844640"/>
            <a:ext cx="248436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0-90% Costo de Produ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fecto de la eficiencia de cada etap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3" name="" descr=""/>
          <p:cNvPicPr/>
          <p:nvPr/>
        </p:nvPicPr>
        <p:blipFill>
          <a:blip r:embed="rId2"/>
          <a:stretch/>
        </p:blipFill>
        <p:spPr>
          <a:xfrm>
            <a:off x="1752480" y="1219320"/>
            <a:ext cx="586764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685800" y="6094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Rompimiento de Célula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étodos Mecán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mogenizad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linos de Bol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étodos No Mecán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lve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Álcal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zimát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centración de Proteín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cipi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lecti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electiva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racción Líquido-Líqu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685800" y="6094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000000"/>
                </a:solidFill>
                <a:uFillTx/>
                <a:latin typeface="Times New Roman"/>
              </a:rPr>
              <a:t>Purificación de Proteín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Técnicas Cromatográfica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dsorción, Adsorción en Colum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Teoría de Cromatografía de Proteí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Cromatografía de Filtración por Ge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Cromatografía de Intercambio Ión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Cromatofocu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Cromatografía de Interacción Hidrofób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Cromatografía de Fase rever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Cromatografía de Afin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romatografía de lecho expandi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Técnicas Electroforétic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Electrofore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Isoelectroenfo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685800" y="6094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eño de Procesos de Separ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ultivo de Células Animales y Veget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cesos Biotecnológic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dustria Biotecnológica de Proteín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Material del Curs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 U_ Curs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685800" y="6094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Evalu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3 Controles y Examen (Nc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Ejercicios y Tareas (N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NF = 0.85 Nc+0.15 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685800" y="6094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000000"/>
                </a:solidFill>
                <a:uFillTx/>
                <a:latin typeface="Times New Roman"/>
              </a:rPr>
              <a:t>Bibliografí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Scope R.K "Protein Purification: Principles and Practice" 3er Edición, Spingerm 199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2. Harris E.L. and Angal S. "Protein purification methods: A practical approach" 1ª Edición, IRL Press, 198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3. Belter P., Cussler E.L. and Hu Wei Shou "Bioseparations : Dowstream Processing for Biotechnology":, John Wiley and Sons , 1988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1" lang="es-ES" sz="2000" spc="-1" strike="noStrike">
                <a:solidFill>
                  <a:srgbClr val="ff0000"/>
                </a:solidFill>
                <a:latin typeface="Times New Roman"/>
              </a:rPr>
              <a:t>Doran M." Bioprocess Engineering Principles", Academic Press, 1995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5. Asenjo J.A. "Separation processes in Biotechnology", Marcel Dekker, 199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6. Tejeda, R.M.Montesinos, R.Guzman "Bioseparaciones", Editorial Unison, 1995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7. Ahuja S “Handbook of Bioseparations”, Academic Press, 200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685800" y="6094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la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ateria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En U Curs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DEBEN TRAER EL MATER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Presentar la mate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Hacer Ejercicios para aplicar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5T17:07:43Z</dcterms:created>
  <dc:creator>Maria Elena Lienqueo C.</dc:creator>
  <dc:description/>
  <dc:language>en-US</dc:language>
  <cp:lastModifiedBy>Ing Quimica</cp:lastModifiedBy>
  <dcterms:modified xsi:type="dcterms:W3CDTF">2006-07-24T15:31:28Z</dcterms:modified>
  <cp:revision>39</cp:revision>
  <dc:subject/>
  <dc:title>Separación y Procesos Biotecnológicos BT56A </dc:title>
</cp:coreProperties>
</file>