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CE8-E41B-48DC-8360-4373766C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3E6-5ECA-4B60-83AF-2CDDE8E4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DB6-8308-40C2-9523-99083508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5C6-EFD4-4E74-9BA6-0EA8FC79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CC3-8593-4E19-AC1C-3631EEC1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E53-B545-42CB-9D97-83F9263C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FBF-60DF-44A4-8C10-28227581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57E-202F-40D9-AE84-81D831D7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541-3C9C-4302-92AC-787B3EFB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752-1756-414C-A574-789378BC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940-BBCD-4947-A2BA-0276B7BC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B9D-9EA2-42BB-9BA6-5D5D0E54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2D55-642E-430F-A11E-97B8C512E09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5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unto de reunión: 16:50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Providencia 176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12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2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oño 2006</a:t>
            </a:r>
            <a:br>
              <a:rPr sz="36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/8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8/01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3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2/04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4000"/>
            </a:b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40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2800"/>
            </a:br>
            <a:br>
              <a:rPr sz="28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/12/2006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Informa de Avance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06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7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/08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Martes 5 de Diciembre 2006</a:t>
            </a:r>
            <a:br>
              <a:rPr sz="4800"/>
            </a:b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7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B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B1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 (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polimerización de homopolímer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olipropileno en sistema homogéneos y heterogé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R.Quijada Prof Co-guía: F.Gracia Prof. Integrante: J. RETU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morfología de superficie de falla de polím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MP Jorquera Prof Co-guía:R.Quijada Prof. Integrante: E.Do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formado de alcoholes para la produc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idrógeno sobre catalizadores soportados de níq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F.Gracia Prof Co-guía: P.Araya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B103 (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mercado y Producción de Compuestos de Molibd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.Casas Prof Co-guía: R.Donoso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estión Ambiental del Mercurio en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Veas Co-Guia: J.Wiertz Integrante: L.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o de un destilador Solar de mediana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 Herrera Co-Guia: J.Hernandez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10-26T20:19:36Z</dcterms:modified>
  <cp:revision>135</cp:revision>
  <dc:subject/>
  <dc:title>El ingeniero, etica y sociedad</dc:title>
</cp:coreProperties>
</file>