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7F14-BE9B-4137-8A45-F5A10253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A53F-A839-471A-A03F-366B39A1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EB24-24CF-4D6A-AD3A-CC6C6C44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9064-50EC-4D9C-AA9F-D9430F41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2B0A-A48B-4D7D-9EA6-D9146627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5E73-379F-4AAE-988D-091B7256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4B25-98D8-454B-94CD-15EB338F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0DF7-4C71-44CA-B75F-99063E14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0409-5D06-4145-8671-D6F227B6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64F2-50E7-4913-9230-25127C88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89DC-2BD6-4C7D-B675-038EC614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344C-14F0-47BB-BC6D-50851B81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903D-2C0E-4862-96E1-7FA0AEF0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F7CC-60ED-4D2C-8A06-810B29B7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9B76-0C95-4D6C-A3B3-D9BCF8B1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3379-03A8-4E9C-A9F1-FC368746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9558-EEE6-40FC-A53E-D2C7232AB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914D-B663-41C7-A4F9-452E4635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327D-6D87-4C08-824D-B2A3092E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F405-2505-452C-9C6B-5B41C4C3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62D9-BE53-4B63-A509-BB155FA3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D2B5-B746-4E1D-8637-A4CD53C4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00BE-42E1-4467-B803-68D78424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76B1-5AC5-4FF6-8F08-D0B52627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4C33-8C04-4771-83EF-7C4F4BDFC1CB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5860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CD93-DA32-4A67-9B7F-7A1157D74E25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ERRAMIENTAS BIBLIOGRA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PARA LA ELABORACION DE 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692280"/>
            <a:ext cx="7561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Biblioteca Central.  Programa de 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ultad de Ingeniería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Departamento Ingenierí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6040" y="4365720"/>
            <a:ext cx="43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aborado por:         Rosa Leal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rlea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rolina Campillay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ccampil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ibliotecarias Servicios a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0560" y="5943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osto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308720" y="5877000"/>
            <a:ext cx="1835280" cy="571320"/>
          </a:xfrm>
          <a:prstGeom prst="wedgeRectCallout">
            <a:avLst>
              <a:gd name="adj1" fmla="val -223097"/>
              <a:gd name="adj2" fmla="val -219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ón para solicitar se utiliza  cuando la revista no está disponible en texto compl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OLICITUD  DE ART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A TRAVÉS DE  CORRE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0028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Si el correo no está registrado, complete el formulario en “</a:t>
            </a: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imes New Roman"/>
              </a:rPr>
              <a:t>Nuevo usuario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3486240" cy="2257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3254400" cy="215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96080" y="0"/>
            <a:ext cx="1447920" cy="1066680"/>
          </a:xfrm>
          <a:prstGeom prst="wedgeRectCallout">
            <a:avLst>
              <a:gd name="adj1" fmla="val -29712"/>
              <a:gd name="adj2" fmla="val 70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a cuenta externa de correo electrónico, los artículos tendrán un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96080" y="0"/>
            <a:ext cx="1447920" cy="1219320"/>
          </a:xfrm>
          <a:prstGeom prst="wedgeRectCallout">
            <a:avLst>
              <a:gd name="adj1" fmla="val -43518"/>
              <a:gd name="adj2" fmla="val 11145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 cuenta de correo de la Universidad de Chile, los artículos serán gratu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304920"/>
            <a:ext cx="76197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Garamond"/>
                <a:ea typeface="Times New Roman"/>
              </a:rPr>
              <a:t>SCIENCE DIRECT-ELSEV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sciencedirec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836720"/>
            <a:ext cx="83296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ase  de  datos  referencial  que  ofrece  1.800  revistas,  publicadas por 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LSEVIER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de diversas áreas del conoci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alizar diferentes búsquedas (autor, título de rev. y o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los abs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direcciones electrónicos de au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l texto completo de artículos revistas suscritas por la Universidad de Chile.  (207 títu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692280"/>
            <a:ext cx="1079280" cy="718920"/>
          </a:xfrm>
          <a:prstGeom prst="wedgeRectCallout">
            <a:avLst>
              <a:gd name="adj1" fmla="val -281027"/>
              <a:gd name="adj2" fmla="val -116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s por temas y o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32360" y="692280"/>
            <a:ext cx="1655640" cy="431640"/>
          </a:xfrm>
          <a:prstGeom prst="wedgeRectCallout">
            <a:avLst>
              <a:gd name="adj1" fmla="val -242328"/>
              <a:gd name="adj2" fmla="val -16176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 por pub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5229360"/>
            <a:ext cx="1656000" cy="431640"/>
          </a:xfrm>
          <a:prstGeom prst="wedgeRectCallout">
            <a:avLst>
              <a:gd name="adj1" fmla="val -329097"/>
              <a:gd name="adj2" fmla="val 1290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8891640" cy="621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88000" y="1484280"/>
            <a:ext cx="1943280" cy="574560"/>
          </a:xfrm>
          <a:prstGeom prst="wedgeRectCallout">
            <a:avLst>
              <a:gd name="adj1" fmla="val -78837"/>
              <a:gd name="adj2" fmla="val 737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acotar l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351640" cy="444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45120" y="76500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Formulario envío art. selecci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549360"/>
            <a:ext cx="735480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RECURSOS DE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ACADÉMICA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4960" y="2205000"/>
            <a:ext cx="21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880" y="4941720"/>
            <a:ext cx="35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9280" y="3068640"/>
            <a:ext cx="45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6600" y="44370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06600" y="39337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35320" y="263700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36040" y="544500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UTA DE TESI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52320" y="5950080"/>
            <a:ext cx="66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. ELABORACION CITAS BIBLIOGRAF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NN11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37120" y="6400800"/>
            <a:ext cx="27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IVIDAD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6760" y="350028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333399"/>
                </a:solidFill>
                <a:latin typeface="Tahoma"/>
              </a:rPr>
              <a:t>scopu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276640"/>
            <a:ext cx="8569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27 millones de registros y 230 millones de referencias de más de 14.000 publicaciones periódicas, Scopus constituye una de las más grandes Base de Datos multidisciplinaria d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Abstracts desde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listas de Referencias de los artículos desde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teratura rele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entualmente se tiene acceso a texto completo si la revista en versión electrónica es suscrita por la Univers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mite crear alertas, guardas búsquedas y listas de resultados para su posterior 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5761080"/>
          </a:xfrm>
          <a:prstGeom prst="rect">
            <a:avLst/>
          </a:prstGeom>
          <a:ln w="9360">
            <a:solidFill>
              <a:srgbClr val="00e4a8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95280" y="333360"/>
            <a:ext cx="1081080" cy="358920"/>
          </a:xfrm>
          <a:prstGeom prst="wedgeRectCallout">
            <a:avLst>
              <a:gd name="adj1" fmla="val -4476"/>
              <a:gd name="adj2" fmla="val 23495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268280"/>
            <a:ext cx="1008000" cy="360360"/>
          </a:xfrm>
          <a:prstGeom prst="wedgeRectCallout">
            <a:avLst>
              <a:gd name="adj1" fmla="val -147324"/>
              <a:gd name="adj2" fmla="val -330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 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333360"/>
            <a:ext cx="1295280" cy="504720"/>
          </a:xfrm>
          <a:prstGeom prst="wedgeRectCallout">
            <a:avLst>
              <a:gd name="adj1" fmla="val 87620"/>
              <a:gd name="adj2" fmla="val 7893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gistrarse como usu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1989000"/>
            <a:ext cx="2016000" cy="936720"/>
          </a:xfrm>
          <a:prstGeom prst="wedgeRectCallout">
            <a:avLst>
              <a:gd name="adj1" fmla="val -171574"/>
              <a:gd name="adj2" fmla="val -98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a de artículos seleccionados o guardados provisori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0"/>
            <a:ext cx="2771640" cy="368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tada de Sco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2421000"/>
            <a:ext cx="1582920" cy="360360"/>
          </a:xfrm>
          <a:prstGeom prst="wedgeRectCallout">
            <a:avLst>
              <a:gd name="adj1" fmla="val -9277"/>
              <a:gd name="adj2" fmla="val -29273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ertas cre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349360"/>
            <a:ext cx="1584000" cy="574920"/>
          </a:xfrm>
          <a:prstGeom prst="wedgeRectCallout">
            <a:avLst>
              <a:gd name="adj1" fmla="val 35773"/>
              <a:gd name="adj2" fmla="val -1928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s por pub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90720" y="380880"/>
            <a:ext cx="78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ACS WEB EDITON</a:t>
            </a: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(American Chemical Socie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286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ceso a más de 700.000 artículos en texto completo de 11 mil fascículos de 35 importantes publicaciones de la American Chemica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3733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el acceso en texto completo de todas     sus revistas, con una cobertura de 1879 a la f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5200" y="487692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544500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ye publicaciones ubicadas en los primeros lugares de los índice de imp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60680" y="117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PROQUEST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proquest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32080" y="30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368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438280"/>
            <a:ext cx="6858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29 bases especial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Recupera información  referencial  y  texto compl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realizar búsqueda básica, avanzada y por publicación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osee  guía temática.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5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2060640"/>
            <a:ext cx="2808360" cy="647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48360" y="2708280"/>
            <a:ext cx="2808360" cy="647640"/>
          </a:xfrm>
          <a:prstGeom prst="wedgeRectCallout">
            <a:avLst>
              <a:gd name="adj1" fmla="val -153675"/>
              <a:gd name="adj2" fmla="val 83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0480" y="119700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¿CÓMO INGRES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4680" y="201312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3720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33480" y="90792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882000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2781360"/>
            <a:ext cx="694836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las siguientes bases de datos: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ademic Search Premier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iness Source Premi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nical Pharmac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ntes Académic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alth Source: Nursing/Academic edi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sional Development Coll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ychology and Behavioral Sciences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ional Business New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JS E-Jour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brary, Information Science &amp; Technology Abstracts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EBSCO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ebsco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59280" y="4797360"/>
            <a:ext cx="1871640" cy="647640"/>
          </a:xfrm>
          <a:prstGeom prst="wedgeRectCallout">
            <a:avLst>
              <a:gd name="adj1" fmla="val -131680"/>
              <a:gd name="adj2" fmla="val -2303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hacer una búsquedas por título de 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1197000"/>
            <a:ext cx="1871640" cy="647640"/>
          </a:xfrm>
          <a:prstGeom prst="wedgeRectCallout">
            <a:avLst>
              <a:gd name="adj1" fmla="val 163740"/>
              <a:gd name="adj2" fmla="val -7377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idioma de la interfaz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708360" y="2997360"/>
            <a:ext cx="1728720" cy="609480"/>
          </a:xfrm>
          <a:prstGeom prst="wedgeRectCallout">
            <a:avLst>
              <a:gd name="adj1" fmla="val -115199"/>
              <a:gd name="adj2" fmla="val -2161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delimitar, solo text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1197000"/>
            <a:ext cx="1476360" cy="503280"/>
          </a:xfrm>
          <a:prstGeom prst="wedgeRectCallout">
            <a:avLst>
              <a:gd name="adj1" fmla="val -61398"/>
              <a:gd name="adj2" fmla="val 10110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archivar artículos sel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991640" y="2997360"/>
            <a:ext cx="1152360" cy="647640"/>
          </a:xfrm>
          <a:prstGeom prst="wedgeRectCallout">
            <a:avLst>
              <a:gd name="adj1" fmla="val -7162"/>
              <a:gd name="adj2" fmla="val 28014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artí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06560" y="620640"/>
            <a:ext cx="56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FOL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89308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WEB OF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si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3933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consultar información referencial,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 y retrospe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27813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ás 8.600 publicaciones  de alto imp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2349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bertura desde 1988 a la 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75680" y="3357720"/>
            <a:ext cx="36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sem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95840" y="1916280"/>
            <a:ext cx="50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de datos multidiscipl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680" y="4869000"/>
            <a:ext cx="79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saber quienes citan determinados art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la manera en que estos influyen sobre la nu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700360" y="4292640"/>
            <a:ext cx="2663640" cy="647640"/>
          </a:xfrm>
          <a:prstGeom prst="wedgeRectCallout">
            <a:avLst>
              <a:gd name="adj1" fmla="val -85699"/>
              <a:gd name="adj2" fmla="val 7965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s las bases de datos y los años de datos disponibles, aparecen seleccionados automát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3500280"/>
            <a:ext cx="1979640" cy="1008360"/>
          </a:xfrm>
          <a:prstGeom prst="wedgeRectCallout">
            <a:avLst>
              <a:gd name="adj1" fmla="val -79189"/>
              <a:gd name="adj2" fmla="val 6858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 para seleccionar covertura cronológica de un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280" y="980640"/>
            <a:ext cx="46450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ATÁLOGO BELL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189000"/>
            <a:ext cx="1116000" cy="863640"/>
          </a:xfrm>
          <a:prstGeom prst="wedgeRectCallout">
            <a:avLst>
              <a:gd name="adj1" fmla="val -104907"/>
              <a:gd name="adj2" fmla="val 24668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DEMOS VES NUESTROS PRESTAMOS, RESERVA O SUSPEN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08720" y="1413000"/>
            <a:ext cx="2590560" cy="720720"/>
          </a:xfrm>
          <a:prstGeom prst="wedgeRectCallout">
            <a:avLst>
              <a:gd name="adj1" fmla="val -126226"/>
              <a:gd name="adj2" fmla="val -4339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 la búsqueda sólo para términos que aparezcan  en los t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5805360"/>
            <a:ext cx="2159280" cy="719280"/>
          </a:xfrm>
          <a:prstGeom prst="wedgeRectCallout">
            <a:avLst>
              <a:gd name="adj1" fmla="val -155365"/>
              <a:gd name="adj2" fmla="val -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delimitar su búsque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 idioma o tipo de doc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50920" y="0"/>
            <a:ext cx="1368720" cy="620640"/>
          </a:xfrm>
          <a:prstGeom prst="wedgeRectCallout">
            <a:avLst>
              <a:gd name="adj1" fmla="val -75291"/>
              <a:gd name="adj2" fmla="val 14488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s de documentos encont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3720"/>
            <a:ext cx="1979640" cy="431640"/>
          </a:xfrm>
          <a:prstGeom prst="wedgeRectCallout">
            <a:avLst>
              <a:gd name="adj1" fmla="val 86888"/>
              <a:gd name="adj2" fmla="val 18198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seleccionar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1125360"/>
            <a:ext cx="1763640" cy="578160"/>
          </a:xfrm>
          <a:prstGeom prst="wedgeRectCallout">
            <a:avLst>
              <a:gd name="adj1" fmla="val 22365"/>
              <a:gd name="adj2" fmla="val 120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cambiar el orden de los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588000" y="620640"/>
            <a:ext cx="1944720" cy="576360"/>
          </a:xfrm>
          <a:prstGeom prst="wedgeRectCallout">
            <a:avLst>
              <a:gd name="adj1" fmla="val -170000"/>
              <a:gd name="adj2" fmla="val 5303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tón lista de docs. Seleccionados, para su impr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2060640"/>
            <a:ext cx="1656000" cy="647640"/>
          </a:xfrm>
          <a:prstGeom prst="wedgeRectCallout">
            <a:avLst>
              <a:gd name="adj1" fmla="val -252300"/>
              <a:gd name="adj2" fmla="val 18308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a de bibliografías usadas por este au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3068640"/>
            <a:ext cx="1729080" cy="503280"/>
          </a:xfrm>
          <a:prstGeom prst="wedgeRectCallout">
            <a:avLst>
              <a:gd name="adj1" fmla="val -118962"/>
              <a:gd name="adj2" fmla="val 4274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s Documentos que citan este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4653000"/>
            <a:ext cx="1800000" cy="863640"/>
          </a:xfrm>
          <a:prstGeom prst="wedgeRectCallout">
            <a:avLst>
              <a:gd name="adj1" fmla="val -243472"/>
              <a:gd name="adj2" fmla="val -14889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artículos relacionados que comparten referencias citadas con este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580000" y="2421000"/>
            <a:ext cx="2592360" cy="1079280"/>
          </a:xfrm>
          <a:prstGeom prst="wedgeRectCallout">
            <a:avLst>
              <a:gd name="adj1" fmla="val -69106"/>
              <a:gd name="adj2" fmla="val 8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registros seleccionados pueden: imprimirse, guardarse, o enviarse por correo electró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2640" y="981000"/>
            <a:ext cx="66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VIO ARTICULOS SELEC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AUT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www.cybertesis.cl/tesis/uchile/2003/pauta/html/index-frames.html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ORTAD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postgrado.ing.uchile.cl/segundo/tramites/otros/tesis_magister_doctorado.doc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2625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GUIA PARA LA ELABORACION DE CITAS BIBLIOGRAFICAS</a:t>
            </a: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(INN 1143)</a:t>
            </a:r>
            <a:br>
              <a:rPr sz="1800"/>
            </a:b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http://bibliotecas.uchile.cl//servicios/referencias-bibliograficas.pdf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1933560"/>
            <a:ext cx="656424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41080" y="6922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EC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286000"/>
            <a:ext cx="845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que brinda acceso a tablas de contenidos de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1.887 revistas especializadas nacionales  e  internacion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critas  por destacas universidades chilenas.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76280"/>
            <a:ext cx="35290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Al 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657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la obtención de artículos de revistas impresas  disponibles en otras Facultades a través de corre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365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ectarse a más 1.000 revistas en texto compl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7973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sultar las tablas de contenidos de número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229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orga un servicio de alerta personalizado. (10 títulos de inte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22840" y="189000"/>
            <a:ext cx="2001960" cy="3373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CL" sz="1700" spc="-1" strike="noStrike">
                <a:solidFill>
                  <a:srgbClr val="000066"/>
                </a:solidFill>
                <a:latin typeface="Arial"/>
              </a:rPr>
              <a:t>http:www.al-dia.c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68360" y="5373720"/>
            <a:ext cx="1224000" cy="719280"/>
          </a:xfrm>
          <a:prstGeom prst="wedgeRectCallout">
            <a:avLst>
              <a:gd name="adj1" fmla="val -75939"/>
              <a:gd name="adj2" fmla="val -11909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cione la revista de su inte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2060640"/>
            <a:ext cx="914400" cy="685800"/>
          </a:xfrm>
          <a:prstGeom prst="wedgeRectCallout">
            <a:avLst>
              <a:gd name="adj1" fmla="val 98611"/>
              <a:gd name="adj2" fmla="val -14837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as de contenido de números an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3645000"/>
            <a:ext cx="1143000" cy="799920"/>
          </a:xfrm>
          <a:prstGeom prst="wedgeRectCallout">
            <a:avLst>
              <a:gd name="adj1" fmla="val 37638"/>
              <a:gd name="adj2" fmla="val -1353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pliega la tabla de contenido del último número public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1:05:20Z</dcterms:created>
  <dc:creator>Rafael Castillo Guerrero</dc:creator>
  <dc:description/>
  <dc:language>en-US</dc:language>
  <cp:lastModifiedBy>Ing Quimica</cp:lastModifiedBy>
  <dcterms:modified xsi:type="dcterms:W3CDTF">2006-08-21T20:22:09Z</dcterms:modified>
  <cp:revision>75</cp:revision>
  <dc:subject/>
  <dc:title>BIBLIOTECA</dc:title>
</cp:coreProperties>
</file>