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12.png" ContentType="image/png"/>
  <Override PartName="/ppt/media/image13.png" ContentType="image/png"/>
  <Override PartName="/ppt/media/image8.png" ContentType="image/png"/>
  <Override PartName="/ppt/media/image38.png" ContentType="image/png"/>
  <Override PartName="/ppt/media/image40.png" ContentType="image/pn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44.png" ContentType="image/png"/>
  <Override PartName="/ppt/media/image37.png" ContentType="image/png"/>
  <Override PartName="/ppt/media/image7.png" ContentType="image/png"/>
  <Override PartName="/ppt/media/image2.png" ContentType="image/png"/>
  <Override PartName="/ppt/media/image32.png" ContentType="image/png"/>
  <Override PartName="/ppt/media/image11.png" ContentType="image/png"/>
  <Override PartName="/ppt/media/image36.png" ContentType="image/png"/>
  <Override PartName="/ppt/media/image6.png" ContentType="image/png"/>
  <Override PartName="/ppt/media/image29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media/image2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4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39.xml" ContentType="application/vnd.openxmlformats-officedocument.presentationml.slide+xml"/>
  <Override PartName="/ppt/slides/slide50.xml" ContentType="application/vnd.openxmlformats-officedocument.presentationml.slide+xml"/>
  <Override PartName="/ppt/slides/slide13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51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3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6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2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slide30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9ADD1-A58A-4C6F-9B37-C64C8ABAF0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261D1-9D4E-4C7B-8004-9E0DBF9422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37ADA-BD56-4928-A158-897819E146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FCAC9-A569-48F6-BB03-F52AED2DCC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1E083-06AA-4085-B9C7-5E24079578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0FD3D-B9A3-4F22-AA31-236CEB30E9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8D3DDF-AB28-4B65-914D-66F1E1CA11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1A0A1E-56E5-44CE-98FD-D3555C910D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7D38B-B099-4FB1-8775-0FCACCA6D0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F73BF-CEE0-4DED-89F1-1394EA0DF8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01B1FE-952C-4CB8-A1D9-9CF525EF2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A0F9F-85DB-4982-982E-0DA20A76C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85FD1B-14BD-4660-8290-471FE266D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72166B-783C-4C05-A95F-07E09680E6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5A6D6B-11AD-4215-9C77-074AD292CF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4B95DE-DEE5-41DE-8575-5F87AC609E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C4ED32-60BF-4677-850B-AEBCC3D76D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17F44-EB1D-40AD-B8F2-55F15C5226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CE4E2-8393-4654-985E-D05116130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DBCB9-A7E3-43D1-92B7-1534BBA43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86CBF-246F-419E-99A1-E5D0D7800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49AA6-E278-4ADB-A155-F8385335C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A0CF6-90AD-4D37-A515-9CDF48457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0421-05FD-4289-AD75-1C1FB978A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08CBBD-F0EC-435C-8760-5CFC1A483E1E}" type="slidenum">
              <a:rPr b="0" lang="es-E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" descr=""/>
          <p:cNvPicPr/>
          <p:nvPr/>
        </p:nvPicPr>
        <p:blipFill>
          <a:blip r:embed="rId2"/>
          <a:stretch/>
        </p:blipFill>
        <p:spPr>
          <a:xfrm>
            <a:off x="250920" y="981000"/>
            <a:ext cx="858600" cy="1079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5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46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47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48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49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0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1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A47E7-931A-4B10-B667-988362ADCAEB}" type="slidenum">
              <a:rPr b="0" lang="es-E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7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1.png"/><Relationship Id="rId2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42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3.png"/><Relationship Id="rId2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2492280"/>
            <a:ext cx="9144000" cy="1152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ERRAMIENTAS BIBLIOGRAFIC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PARA LA ELABORACION DE TES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187280" y="692280"/>
            <a:ext cx="7561440" cy="83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2006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cc"/>
                </a:solidFill>
                <a:latin typeface="Arial"/>
              </a:rPr>
              <a:t>Biblioteca Central.  Programa de Formación de Usuari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Arial"/>
              </a:rPr>
              <a:t>Facultad de Ingeniería</a:t>
            </a: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600" spc="-1" strike="noStrike">
                <a:solidFill>
                  <a:srgbClr val="333399"/>
                </a:solidFill>
                <a:latin typeface="Arial"/>
              </a:rPr>
              <a:t>Departamento Ingeniería Químic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4496040" y="4365720"/>
            <a:ext cx="4373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Elaborado por:         Rosa Leal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rlea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Carolina Campillay </a:t>
            </a:r>
            <a:r>
              <a:rPr b="0" lang="es-CL" sz="1200" spc="-1" strike="noStrike" u="sng">
                <a:solidFill>
                  <a:srgbClr val="3333cc"/>
                </a:solidFill>
                <a:uFillTx/>
                <a:latin typeface="Arial"/>
              </a:rPr>
              <a:t>ccampill@ing.uchile.c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                               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Bibliotecarias Servicios al Públ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3400560" y="5943600"/>
            <a:ext cx="1625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Agosto200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7308720" y="5877000"/>
            <a:ext cx="1835280" cy="571320"/>
          </a:xfrm>
          <a:prstGeom prst="wedgeRectCallout">
            <a:avLst>
              <a:gd name="adj1" fmla="val -223097"/>
              <a:gd name="adj2" fmla="val -219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otón para solicitar se utiliza  cuando la revista no está disponible en texto comple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0" y="228600"/>
            <a:ext cx="9144000" cy="685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SOLICITUD  DE ARTÍCUL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333399"/>
                </a:solidFill>
                <a:latin typeface="Times New Roman"/>
              </a:rPr>
              <a:t>A TRAVÉS DE  CORREO ELECTRÓN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0" y="3500280"/>
            <a:ext cx="914400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Si el correo no está registrado, complete el formulario en “</a:t>
            </a:r>
            <a:r>
              <a:rPr b="1" lang="es-ES_tradnl" sz="1800" spc="-1" strike="noStrike" u="sng">
                <a:solidFill>
                  <a:srgbClr val="333399"/>
                </a:solidFill>
                <a:uFillTx/>
                <a:latin typeface="Times New Roman"/>
              </a:rPr>
              <a:t>Nuevo usuario</a:t>
            </a:r>
            <a:r>
              <a:rPr b="1" lang="es-ES_tradnl" sz="1800" spc="-1" strike="noStrike">
                <a:solidFill>
                  <a:srgbClr val="333399"/>
                </a:solidFill>
                <a:latin typeface="Times New Roman"/>
              </a:rPr>
              <a:t>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2340000" y="4292640"/>
            <a:ext cx="3486240" cy="225756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2411280" y="1341360"/>
            <a:ext cx="3254400" cy="2151000"/>
          </a:xfrm>
          <a:prstGeom prst="rect">
            <a:avLst/>
          </a:prstGeom>
          <a:ln w="0">
            <a:noFill/>
          </a:ln>
        </p:spPr>
      </p:pic>
    </p:spTree>
  </p:cSld>
  <p:transition>
    <p:cover dir="d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" descr=""/>
          <p:cNvPicPr/>
          <p:nvPr/>
        </p:nvPicPr>
        <p:blipFill>
          <a:blip r:embed="rId1"/>
          <a:stretch/>
        </p:blipFill>
        <p:spPr>
          <a:xfrm>
            <a:off x="152280" y="0"/>
            <a:ext cx="8991720" cy="6858000"/>
          </a:xfrm>
          <a:prstGeom prst="rect">
            <a:avLst/>
          </a:prstGeom>
          <a:ln w="0">
            <a:noFill/>
          </a:ln>
        </p:spPr>
      </p:pic>
      <p:sp>
        <p:nvSpPr>
          <p:cNvPr id="140" name=""/>
          <p:cNvSpPr/>
          <p:nvPr/>
        </p:nvSpPr>
        <p:spPr>
          <a:xfrm>
            <a:off x="7696080" y="0"/>
            <a:ext cx="1447920" cy="1066680"/>
          </a:xfrm>
          <a:prstGeom prst="wedgeRectCallout">
            <a:avLst>
              <a:gd name="adj1" fmla="val -29712"/>
              <a:gd name="adj2" fmla="val 70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a cuenta externa de correo electrónico, los artículos tendrán un cos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42" name=""/>
          <p:cNvSpPr/>
          <p:nvPr/>
        </p:nvSpPr>
        <p:spPr>
          <a:xfrm>
            <a:off x="7696080" y="0"/>
            <a:ext cx="1447920" cy="1219320"/>
          </a:xfrm>
          <a:prstGeom prst="wedgeRectCallout">
            <a:avLst>
              <a:gd name="adj1" fmla="val -43518"/>
              <a:gd name="adj2" fmla="val 11145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Al utilizar un cuenta de correo de la Universidad de Chile, los artículos serán gratuit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cover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219320" y="304920"/>
            <a:ext cx="7619760" cy="119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3333cc"/>
                </a:solidFill>
                <a:latin typeface="Garamond"/>
                <a:ea typeface="Times New Roman"/>
              </a:rPr>
              <a:t>SCIENCE DIRECT-ELSEVIER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sciencedirect.com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539640" y="1836720"/>
            <a:ext cx="8329680" cy="56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Base  de  datos  referencial  que  ofrece  1.800  revistas,  publicadas por </a:t>
            </a:r>
            <a:r>
              <a:rPr b="1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ELSEVIER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  de diversas áreas del conocimien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Realizar diferentes búsquedas (autor, título de rev. y otr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los abstract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 direcciones electrónicos de autore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Acceso al texto completo de artículos revistas suscritas por la Universidad de Chile.  (207 título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43716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3276720" y="692280"/>
            <a:ext cx="1079280" cy="718920"/>
          </a:xfrm>
          <a:prstGeom prst="wedgeRectCallout">
            <a:avLst>
              <a:gd name="adj1" fmla="val -281027"/>
              <a:gd name="adj2" fmla="val -11644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s por temas y otr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932360" y="692280"/>
            <a:ext cx="1655640" cy="431640"/>
          </a:xfrm>
          <a:prstGeom prst="wedgeRectCallout">
            <a:avLst>
              <a:gd name="adj1" fmla="val -242328"/>
              <a:gd name="adj2" fmla="val -16176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úsqueda por publicac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5940360" y="5229360"/>
            <a:ext cx="1656000" cy="431640"/>
          </a:xfrm>
          <a:prstGeom prst="wedgeRectCallout">
            <a:avLst>
              <a:gd name="adj1" fmla="val -329097"/>
              <a:gd name="adj2" fmla="val 12904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otor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0" y="249120"/>
            <a:ext cx="8891640" cy="6212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6588000" y="1484280"/>
            <a:ext cx="1943280" cy="574560"/>
          </a:xfrm>
          <a:prstGeom prst="wedgeRectCallout">
            <a:avLst>
              <a:gd name="adj1" fmla="val -78837"/>
              <a:gd name="adj2" fmla="val 7375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acotar l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324000" y="2133720"/>
            <a:ext cx="8351640" cy="4446360"/>
          </a:xfrm>
          <a:prstGeom prst="rect">
            <a:avLst/>
          </a:prstGeom>
          <a:ln w="0">
            <a:noFill/>
          </a:ln>
        </p:spPr>
      </p:pic>
      <p:sp>
        <p:nvSpPr>
          <p:cNvPr id="154" name=""/>
          <p:cNvSpPr/>
          <p:nvPr/>
        </p:nvSpPr>
        <p:spPr>
          <a:xfrm>
            <a:off x="1545120" y="765000"/>
            <a:ext cx="6907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Arial"/>
              </a:rPr>
              <a:t>Formulario envío art. seleccionad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1332000" y="549360"/>
            <a:ext cx="7354800" cy="1127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RECURSOS DE INFORMAC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200" spc="-1" strike="noStrike">
                <a:solidFill>
                  <a:srgbClr val="333399"/>
                </a:solidFill>
                <a:latin typeface="Tahoma"/>
              </a:rPr>
              <a:t>ACADÉMICA</a:t>
            </a:r>
            <a:r>
              <a:rPr b="0" lang="es-CL" sz="4400" spc="-1" strike="noStrike">
                <a:solidFill>
                  <a:srgbClr val="333399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334960" y="2205000"/>
            <a:ext cx="216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ATALOGO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333880" y="4941720"/>
            <a:ext cx="353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ISI WEB OF SCIE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2339280" y="3068640"/>
            <a:ext cx="4592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IENCE DIRECT-ELSEVI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2406600" y="4437000"/>
            <a:ext cx="2531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BSCO- HO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2406600" y="3933720"/>
            <a:ext cx="2227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ROQUES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335320" y="2637000"/>
            <a:ext cx="1433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AL DIA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336040" y="5445000"/>
            <a:ext cx="2954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PAUTA DE TESIS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452320" y="5950080"/>
            <a:ext cx="66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G. ELABORACION CITAS BIBLIOGRAFICAS </a:t>
            </a:r>
            <a:r>
              <a:rPr b="0" lang="es-CL" sz="1800" spc="-1" strike="noStrike">
                <a:solidFill>
                  <a:srgbClr val="000000"/>
                </a:solidFill>
                <a:latin typeface="Arial"/>
              </a:rPr>
              <a:t>(INN1143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337120" y="6400800"/>
            <a:ext cx="2768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ECTIVIDAD</a:t>
            </a:r>
            <a:r>
              <a:rPr b="0" lang="es-CL" sz="1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336760" y="3500280"/>
            <a:ext cx="1718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COPU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6000" spc="-1" strike="noStrike">
                <a:solidFill>
                  <a:srgbClr val="333399"/>
                </a:solidFill>
                <a:latin typeface="Tahoma"/>
              </a:rPr>
              <a:t>scopus</a:t>
            </a:r>
            <a:endParaRPr b="0" lang="en-US" sz="6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250920" y="2276640"/>
            <a:ext cx="8569080" cy="44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 27 millones de registros y 230 millones de referencias de más de 14.000 publicaciones periódicas, Scopus constituye una de las más grandes Base de Datos multidisciplinaria del mund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Abstracts desde 1966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Incluye listas de Referencias de los artículos desde 1996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Literatura relevant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entualmente se tiene acceso a texto completo si la revista en versión electrónica es suscrita por la Universidad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ermite crear alertas, guardas búsquedas y listas de resultados para su posterior consult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7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8280360" cy="5761080"/>
          </a:xfrm>
          <a:prstGeom prst="rect">
            <a:avLst/>
          </a:prstGeom>
          <a:ln w="9360">
            <a:solidFill>
              <a:srgbClr val="00e4a8"/>
            </a:solidFill>
            <a:miter/>
          </a:ln>
        </p:spPr>
      </p:pic>
      <p:sp>
        <p:nvSpPr>
          <p:cNvPr id="158" name=""/>
          <p:cNvSpPr/>
          <p:nvPr/>
        </p:nvSpPr>
        <p:spPr>
          <a:xfrm>
            <a:off x="395280" y="333360"/>
            <a:ext cx="1081080" cy="358920"/>
          </a:xfrm>
          <a:prstGeom prst="wedgeRectCallout">
            <a:avLst>
              <a:gd name="adj1" fmla="val -4476"/>
              <a:gd name="adj2" fmla="val 23495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6443640" y="1268280"/>
            <a:ext cx="1008000" cy="360360"/>
          </a:xfrm>
          <a:prstGeom prst="wedgeRectCallout">
            <a:avLst>
              <a:gd name="adj1" fmla="val -147324"/>
              <a:gd name="adj2" fmla="val -330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Mi Perf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2556000" y="333360"/>
            <a:ext cx="1295280" cy="504720"/>
          </a:xfrm>
          <a:prstGeom prst="wedgeRectCallout">
            <a:avLst>
              <a:gd name="adj1" fmla="val 87620"/>
              <a:gd name="adj2" fmla="val 7893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gistrarse como usuar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6516720" y="1989000"/>
            <a:ext cx="2016000" cy="936720"/>
          </a:xfrm>
          <a:prstGeom prst="wedgeRectCallout">
            <a:avLst>
              <a:gd name="adj1" fmla="val -171574"/>
              <a:gd name="adj2" fmla="val -9898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Lista de artículos seleccionados o guardados provisoriamen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372360" y="0"/>
            <a:ext cx="2771640" cy="368280"/>
          </a:xfrm>
          <a:prstGeom prst="rect">
            <a:avLst/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ortada de Scopu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268360" y="2421000"/>
            <a:ext cx="1582920" cy="360360"/>
          </a:xfrm>
          <a:prstGeom prst="wedgeRectCallout">
            <a:avLst>
              <a:gd name="adj1" fmla="val -9277"/>
              <a:gd name="adj2" fmla="val -29273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Alertas creada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4000" y="2349360"/>
            <a:ext cx="1584000" cy="574920"/>
          </a:xfrm>
          <a:prstGeom prst="wedgeRectCallout">
            <a:avLst>
              <a:gd name="adj1" fmla="val 35773"/>
              <a:gd name="adj2" fmla="val -1928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Búsquedas por publicació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990720" y="380880"/>
            <a:ext cx="7848360" cy="173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ACS WEB EDITON</a:t>
            </a: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3333cc"/>
                </a:solidFill>
                <a:latin typeface="Garamond"/>
                <a:ea typeface="Times New Roman"/>
              </a:rPr>
              <a:t>(American Chemical Society)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28600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Tahoma"/>
              </a:rPr>
              <a:t>Acceso a más de 700.000 artículos en texto completo de 11 mil fascículos de 35 importantes publicaciones de la American Chemical Society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371600" y="37339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el acceso en texto completo de todas     sus revistas, con una cobertura de 1879 a la fech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5200" y="4876920"/>
            <a:ext cx="344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diari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32000" y="5445000"/>
            <a:ext cx="64929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ye publicaciones ubicadas en los primeros lugares de los índice de impacto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250920" y="0"/>
            <a:ext cx="8893080" cy="672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1660680" y="1176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PROQUEST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proquest/index.html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432080" y="3081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2803680" y="25480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143000" y="2438280"/>
            <a:ext cx="6858000" cy="28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29 bases especializada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Recupera información  referencial  y  texto completo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realizar búsqueda básica, avanzada y por publicación.  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Garamond"/>
                <a:ea typeface="Times New Roman"/>
              </a:rPr>
              <a:t>Posee  guía temática.</a:t>
            </a:r>
            <a:r>
              <a:rPr b="1" lang="en-U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00576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80" name=""/>
          <p:cNvSpPr/>
          <p:nvPr/>
        </p:nvSpPr>
        <p:spPr>
          <a:xfrm>
            <a:off x="2627280" y="2060640"/>
            <a:ext cx="2808360" cy="647640"/>
          </a:xfrm>
          <a:prstGeom prst="wedgeRectCallout">
            <a:avLst>
              <a:gd name="adj1" fmla="val -43518"/>
              <a:gd name="adj2" fmla="val 70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182" name=""/>
          <p:cNvSpPr/>
          <p:nvPr/>
        </p:nvSpPr>
        <p:spPr>
          <a:xfrm>
            <a:off x="5148360" y="2708280"/>
            <a:ext cx="2808360" cy="647640"/>
          </a:xfrm>
          <a:prstGeom prst="wedgeRectCallout">
            <a:avLst>
              <a:gd name="adj1" fmla="val -153675"/>
              <a:gd name="adj2" fmla="val 83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ver art. seleccionados.  Desde aquí se puede guardar, imprimir o enviar por emai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30480" y="1197000"/>
            <a:ext cx="368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cc"/>
                </a:solidFill>
                <a:latin typeface="Arial"/>
              </a:rPr>
              <a:t>¿CÓMO INGRESAR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1965240" y="1633680"/>
            <a:ext cx="51976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1984680" y="2013120"/>
            <a:ext cx="508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Arial"/>
              </a:rPr>
              <a:t>http://biblioteca.ing.uchile.cl/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684360" y="2565360"/>
            <a:ext cx="7372080" cy="385776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"/>
          <p:cNvSpPr/>
          <p:nvPr/>
        </p:nvSpPr>
        <p:spPr>
          <a:xfrm>
            <a:off x="1833480" y="907920"/>
            <a:ext cx="5697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1"/>
          <a:stretch/>
        </p:blipFill>
        <p:spPr>
          <a:xfrm>
            <a:off x="0" y="2160720"/>
            <a:ext cx="8820000" cy="469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/>
          <p:nvPr/>
        </p:nvSpPr>
        <p:spPr>
          <a:xfrm>
            <a:off x="1116000" y="2781360"/>
            <a:ext cx="6948360" cy="358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Garamond"/>
                <a:ea typeface="Times New Roman"/>
              </a:rPr>
              <a:t>Permite el acceso a las siguientes bases de datos: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Academic Search Premier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Business Source Premier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Clinical Pharmacolog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Fuentes Académica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Health Source: Nursing/Academic edit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rofessional Development Collection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Psychology and Behavioral Sciences Coll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Regional Business News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EJS E-Journal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Library, Information Science &amp; Technology Abstracts</a:t>
            </a: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 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Garamond"/>
                <a:ea typeface="Times New Roman"/>
              </a:rPr>
              <a:t>                             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33cc"/>
                </a:solidFill>
                <a:latin typeface="Garamond"/>
                <a:ea typeface="Times New Roman"/>
              </a:rPr>
              <a:t>EBSCO</a:t>
            </a: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ebsco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-11160" y="0"/>
            <a:ext cx="9155160" cy="6858000"/>
          </a:xfrm>
          <a:prstGeom prst="rect">
            <a:avLst/>
          </a:prstGeom>
          <a:ln w="0">
            <a:noFill/>
          </a:ln>
        </p:spPr>
      </p:pic>
      <p:sp>
        <p:nvSpPr>
          <p:cNvPr id="190" name=""/>
          <p:cNvSpPr/>
          <p:nvPr/>
        </p:nvSpPr>
        <p:spPr>
          <a:xfrm>
            <a:off x="3059280" y="4797360"/>
            <a:ext cx="1871640" cy="647640"/>
          </a:xfrm>
          <a:prstGeom prst="wedgeRectCallout">
            <a:avLst>
              <a:gd name="adj1" fmla="val -131680"/>
              <a:gd name="adj2" fmla="val -2303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hacer una búsquedas por título de revis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4356000" y="1197000"/>
            <a:ext cx="1871640" cy="647640"/>
          </a:xfrm>
          <a:prstGeom prst="wedgeRectCallout">
            <a:avLst>
              <a:gd name="adj1" fmla="val 163740"/>
              <a:gd name="adj2" fmla="val -7377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idioma de la interfaz de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93" name=""/>
          <p:cNvSpPr/>
          <p:nvPr/>
        </p:nvSpPr>
        <p:spPr>
          <a:xfrm>
            <a:off x="3708360" y="2997360"/>
            <a:ext cx="1728720" cy="609480"/>
          </a:xfrm>
          <a:prstGeom prst="wedgeRectCallout">
            <a:avLst>
              <a:gd name="adj1" fmla="val -115199"/>
              <a:gd name="adj2" fmla="val -2161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delimitar, solo texto comple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7667640" y="1197000"/>
            <a:ext cx="1476360" cy="503280"/>
          </a:xfrm>
          <a:prstGeom prst="wedgeRectCallout">
            <a:avLst>
              <a:gd name="adj1" fmla="val -61398"/>
              <a:gd name="adj2" fmla="val 101101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archivar artículos sele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669000"/>
          </a:xfrm>
          <a:prstGeom prst="rect">
            <a:avLst/>
          </a:prstGeom>
          <a:ln w="0">
            <a:noFill/>
          </a:ln>
        </p:spPr>
      </p:pic>
      <p:sp>
        <p:nvSpPr>
          <p:cNvPr id="196" name=""/>
          <p:cNvSpPr/>
          <p:nvPr/>
        </p:nvSpPr>
        <p:spPr>
          <a:xfrm>
            <a:off x="7991640" y="2997360"/>
            <a:ext cx="1152360" cy="647640"/>
          </a:xfrm>
          <a:prstGeom prst="wedgeRectCallout">
            <a:avLst>
              <a:gd name="adj1" fmla="val -7162"/>
              <a:gd name="adj2" fmla="val 28014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ermite seleccionar artíc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"/>
          <p:cNvSpPr/>
          <p:nvPr/>
        </p:nvSpPr>
        <p:spPr>
          <a:xfrm>
            <a:off x="1906560" y="620640"/>
            <a:ext cx="5697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LISTA DE SELECCIONADO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cc"/>
                </a:solidFill>
                <a:latin typeface="Arial"/>
              </a:rPr>
              <a:t>(FOLD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8893080" cy="4619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" descr=""/>
          <p:cNvPicPr/>
          <p:nvPr/>
        </p:nvPicPr>
        <p:blipFill>
          <a:blip r:embed="rId1"/>
          <a:stretch/>
        </p:blipFill>
        <p:spPr>
          <a:xfrm>
            <a:off x="0" y="1989000"/>
            <a:ext cx="9144000" cy="4869000"/>
          </a:xfrm>
          <a:prstGeom prst="rect">
            <a:avLst/>
          </a:prstGeom>
          <a:ln w="0">
            <a:noFill/>
          </a:ln>
        </p:spPr>
      </p:pic>
      <p:sp>
        <p:nvSpPr>
          <p:cNvPr id="200" name=""/>
          <p:cNvSpPr/>
          <p:nvPr/>
        </p:nvSpPr>
        <p:spPr>
          <a:xfrm>
            <a:off x="1120320" y="1031760"/>
            <a:ext cx="7811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Arial"/>
              </a:rPr>
              <a:t>ENVIAR ARTICULOS SELECCIONADOS POR E-MAI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"/>
          <p:cNvSpPr/>
          <p:nvPr/>
        </p:nvSpPr>
        <p:spPr>
          <a:xfrm>
            <a:off x="1295280" y="457200"/>
            <a:ext cx="7315200" cy="1219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3333cc"/>
                </a:solidFill>
                <a:latin typeface="Garamond"/>
                <a:ea typeface="Times New Roman"/>
              </a:rPr>
              <a:t>WEB OF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333399"/>
                </a:solidFill>
                <a:latin typeface="Garamond"/>
                <a:ea typeface="Times New Roman"/>
              </a:rPr>
              <a:t>http://www.uchile.cl/bibliotecas/basesdatos/isi/index.ht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187280" y="3933720"/>
            <a:ext cx="6697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consultar información referencial,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 y retrospectiva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1187280" y="2781360"/>
            <a:ext cx="7129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ás 8.600 publicaciones  de alto impacto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258920" y="2349360"/>
            <a:ext cx="496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bertura desde 1988 a la fech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075680" y="3357720"/>
            <a:ext cx="3687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tualización seman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1095840" y="1916280"/>
            <a:ext cx="505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 de datos multidisciplinar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922680" y="4869000"/>
            <a:ext cx="79131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e saber quienes citan determinados artículo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y la manera en que estos influyen sobre la nuev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estigación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8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8964720" cy="685800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2700360" y="4292640"/>
            <a:ext cx="2663640" cy="647640"/>
          </a:xfrm>
          <a:prstGeom prst="wedgeRectCallout">
            <a:avLst>
              <a:gd name="adj1" fmla="val -85699"/>
              <a:gd name="adj2" fmla="val 7965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odas las bases de datos y los años de datos disponibles, aparecen seleccionados automáticamen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32720" y="3500280"/>
            <a:ext cx="1979640" cy="1008360"/>
          </a:xfrm>
          <a:prstGeom prst="wedgeRectCallout">
            <a:avLst>
              <a:gd name="adj1" fmla="val -79189"/>
              <a:gd name="adj2" fmla="val 6858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 para seleccionar covertura cronológica de una búsque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79280" y="980640"/>
            <a:ext cx="4645080" cy="77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CATÁLOGO BELLO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0" y="2060640"/>
            <a:ext cx="9144000" cy="479736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332000" y="189000"/>
            <a:ext cx="1116000" cy="863640"/>
          </a:xfrm>
          <a:prstGeom prst="wedgeRectCallout">
            <a:avLst>
              <a:gd name="adj1" fmla="val -104907"/>
              <a:gd name="adj2" fmla="val 24668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PODEMOS VES NUESTROS PRESTAMOS, RESERVA O SUSPENSION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2" name=""/>
          <p:cNvSpPr/>
          <p:nvPr/>
        </p:nvSpPr>
        <p:spPr>
          <a:xfrm>
            <a:off x="5508720" y="1413000"/>
            <a:ext cx="2590560" cy="720720"/>
          </a:xfrm>
          <a:prstGeom prst="wedgeRectCallout">
            <a:avLst>
              <a:gd name="adj1" fmla="val -126226"/>
              <a:gd name="adj2" fmla="val -4339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entra la búsqueda sólo para términos que aparezcan  en los títul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5003640" y="5805360"/>
            <a:ext cx="2159280" cy="719280"/>
          </a:xfrm>
          <a:prstGeom prst="wedgeRectCallout">
            <a:avLst>
              <a:gd name="adj1" fmla="val -155365"/>
              <a:gd name="adj2" fmla="val -333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delimitar su búsqued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r idioma o tipo de documento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2050920" y="0"/>
            <a:ext cx="1368720" cy="620640"/>
          </a:xfrm>
          <a:prstGeom prst="wedgeRectCallout">
            <a:avLst>
              <a:gd name="adj1" fmla="val -75291"/>
              <a:gd name="adj2" fmla="val 144884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úmeros de documentos encontr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356000" y="2133720"/>
            <a:ext cx="1979640" cy="431640"/>
          </a:xfrm>
          <a:prstGeom prst="wedgeRectCallout">
            <a:avLst>
              <a:gd name="adj1" fmla="val 86888"/>
              <a:gd name="adj2" fmla="val 181986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Permite seleccionar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3 opcion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6877080" y="1125360"/>
            <a:ext cx="1763640" cy="578160"/>
          </a:xfrm>
          <a:prstGeom prst="wedgeRectCallout">
            <a:avLst>
              <a:gd name="adj1" fmla="val 22365"/>
              <a:gd name="adj2" fmla="val 12005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uede cambiar el orden de los resultado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8827920" cy="6858000"/>
          </a:xfrm>
          <a:prstGeom prst="rect">
            <a:avLst/>
          </a:prstGeom>
          <a:ln w="0">
            <a:noFill/>
          </a:ln>
        </p:spPr>
      </p:pic>
      <p:sp>
        <p:nvSpPr>
          <p:cNvPr id="219" name=""/>
          <p:cNvSpPr/>
          <p:nvPr/>
        </p:nvSpPr>
        <p:spPr>
          <a:xfrm>
            <a:off x="6588000" y="620640"/>
            <a:ext cx="1944720" cy="576360"/>
          </a:xfrm>
          <a:prstGeom prst="wedgeRectCallout">
            <a:avLst>
              <a:gd name="adj1" fmla="val -170000"/>
              <a:gd name="adj2" fmla="val 53032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Botón lista de docs. Seleccionados, para su impresió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4716360" y="2060640"/>
            <a:ext cx="1656000" cy="647640"/>
          </a:xfrm>
          <a:prstGeom prst="wedgeRectCallout">
            <a:avLst>
              <a:gd name="adj1" fmla="val -252300"/>
              <a:gd name="adj2" fmla="val 18308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ista de bibliografías usadas por este autor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492360" y="3068640"/>
            <a:ext cx="1729080" cy="503280"/>
          </a:xfrm>
          <a:prstGeom prst="wedgeRectCallout">
            <a:avLst>
              <a:gd name="adj1" fmla="val -118962"/>
              <a:gd name="adj2" fmla="val 42745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Nuevos Documentos que citan este art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7020000" y="4653000"/>
            <a:ext cx="1800000" cy="863640"/>
          </a:xfrm>
          <a:prstGeom prst="wedgeRectCallout">
            <a:avLst>
              <a:gd name="adj1" fmla="val -243472"/>
              <a:gd name="adj2" fmla="val -148898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Arial"/>
              </a:rPr>
              <a:t>Son artículos relacionados que comparten referencias citadas con este doc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3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5580000" y="2421000"/>
            <a:ext cx="2592360" cy="1079280"/>
          </a:xfrm>
          <a:prstGeom prst="wedgeRectCallout">
            <a:avLst>
              <a:gd name="adj1" fmla="val -69106"/>
              <a:gd name="adj2" fmla="val 85000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os registros seleccionados pueden: imprimirse, guardarse, o enviarse por correo electrón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1412640" y="981000"/>
            <a:ext cx="664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Arial"/>
              </a:rPr>
              <a:t>ENVIO ARTICULOS SELECCIONADO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AUT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www.cybertesis.cl/tesis/uchile/2003/pauta/html/index-frames.html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0" y="1832040"/>
            <a:ext cx="9144000" cy="503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333399"/>
                </a:solidFill>
                <a:latin typeface="Tahoma"/>
              </a:rPr>
              <a:t>PORTADA DE TESIS</a:t>
            </a:r>
            <a:br>
              <a:rPr sz="4400"/>
            </a:br>
            <a:r>
              <a:rPr b="0" lang="es-ES" sz="1400" spc="-1" strike="noStrike">
                <a:solidFill>
                  <a:srgbClr val="333399"/>
                </a:solidFill>
                <a:latin typeface="Tahoma"/>
              </a:rPr>
              <a:t>http://postgrado.ing.uchile.cl/segundo/tramites/otros/tesis_magister_doctorado.doc</a:t>
            </a:r>
            <a:endParaRPr b="0" lang="en-US" sz="14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2421000"/>
            <a:ext cx="626256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333399"/>
                </a:solidFill>
                <a:latin typeface="Tahoma"/>
              </a:rPr>
              <a:t>GUIA PARA LA ELABORACION DE CITAS BIBLIOGRAFICAS</a:t>
            </a:r>
            <a:r>
              <a:rPr b="0" lang="es-ES" sz="4000" spc="-1" strike="noStrike">
                <a:solidFill>
                  <a:srgbClr val="333399"/>
                </a:solidFill>
                <a:latin typeface="Tahoma"/>
              </a:rPr>
              <a:t> </a:t>
            </a: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(INN 1143)</a:t>
            </a:r>
            <a:br>
              <a:rPr sz="1800"/>
            </a:br>
            <a:r>
              <a:rPr b="0" lang="es-ES" sz="1800" spc="-1" strike="noStrike">
                <a:solidFill>
                  <a:srgbClr val="333399"/>
                </a:solidFill>
                <a:latin typeface="Tahoma"/>
              </a:rPr>
              <a:t>http://bibliotecas.uchile.cl//servicios/referencias-bibliograficas.pdf</a:t>
            </a:r>
            <a:endParaRPr b="0" lang="en-US" sz="1800" spc="-1" strike="noStrike">
              <a:solidFill>
                <a:srgbClr val="333399"/>
              </a:solidFill>
              <a:latin typeface="Tahoma"/>
            </a:endParaRPr>
          </a:p>
        </p:txBody>
      </p:sp>
      <p:pic>
        <p:nvPicPr>
          <p:cNvPr id="231" name="" descr=""/>
          <p:cNvPicPr/>
          <p:nvPr/>
        </p:nvPicPr>
        <p:blipFill>
          <a:blip r:embed="rId1"/>
          <a:stretch/>
        </p:blipFill>
        <p:spPr>
          <a:xfrm>
            <a:off x="1116000" y="1933560"/>
            <a:ext cx="6564240" cy="4924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" descr=""/>
          <p:cNvPicPr/>
          <p:nvPr/>
        </p:nvPicPr>
        <p:blipFill>
          <a:blip r:embed="rId1"/>
          <a:stretch/>
        </p:blipFill>
        <p:spPr>
          <a:xfrm>
            <a:off x="0" y="1916280"/>
            <a:ext cx="9144000" cy="4941720"/>
          </a:xfrm>
          <a:prstGeom prst="rect">
            <a:avLst/>
          </a:prstGeom>
          <a:ln w="0">
            <a:noFill/>
          </a:ln>
        </p:spPr>
      </p:pic>
      <p:sp>
        <p:nvSpPr>
          <p:cNvPr id="233" name=""/>
          <p:cNvSpPr/>
          <p:nvPr/>
        </p:nvSpPr>
        <p:spPr>
          <a:xfrm>
            <a:off x="2341080" y="692280"/>
            <a:ext cx="3661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cc"/>
                </a:solidFill>
                <a:latin typeface="Arial"/>
              </a:rPr>
              <a:t>CONECTIVIDAD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0" y="549360"/>
            <a:ext cx="9144000" cy="56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0" y="117360"/>
            <a:ext cx="9144000" cy="6543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457200" y="2286000"/>
            <a:ext cx="8458200" cy="1143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stema que brinda acceso a tablas de contenidos de má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e 1.887 revistas especializadas nacionales  e  internacionale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uscritas  por destacas universidades chilenas. 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 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2411280" y="476280"/>
            <a:ext cx="3529080" cy="1066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3600" spc="-1" strike="noStrike">
                <a:solidFill>
                  <a:srgbClr val="333399"/>
                </a:solidFill>
                <a:latin typeface="Arial"/>
              </a:rPr>
              <a:t>Al DI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784760" y="947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609480" y="365760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la obtención de artículos de revistas impresas  disponibles en otras Facultades a través de correo electrónic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611280" y="436572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ectarse a más 1.000 revistas en texto completo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11280" y="4797360"/>
            <a:ext cx="77724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mite consultar las tablas de contenidos de números anterior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280" y="5229360"/>
            <a:ext cx="7772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Otorga un servicio de alerta personalizado. (10 títulos de interé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6" name="" descr=""/>
          <p:cNvPicPr/>
          <p:nvPr/>
        </p:nvPicPr>
        <p:blipFill>
          <a:blip r:embed="rId1"/>
          <a:stretch/>
        </p:blipFill>
        <p:spPr>
          <a:xfrm>
            <a:off x="0" y="14400"/>
            <a:ext cx="9144000" cy="6843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6522840" y="189000"/>
            <a:ext cx="2001960" cy="337320"/>
          </a:xfrm>
          <a:prstGeom prst="rect">
            <a:avLst/>
          </a:prstGeom>
          <a:solidFill>
            <a:srgbClr val="ffcc00"/>
          </a:solidFill>
          <a:ln w="936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77760" rIns="77760" tIns="38880" bIns="388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777960"/>
                <a:tab algn="l" pos="1555920"/>
                <a:tab algn="l" pos="2333520"/>
                <a:tab algn="l" pos="3111480"/>
                <a:tab algn="l" pos="3889440"/>
                <a:tab algn="l" pos="4667400"/>
                <a:tab algn="l" pos="5445000"/>
                <a:tab algn="l" pos="6222960"/>
                <a:tab algn="l" pos="7000920"/>
                <a:tab algn="l" pos="7778880"/>
                <a:tab algn="l" pos="8556480"/>
                <a:tab algn="l" pos="9334440"/>
                <a:tab algn="l" pos="10112400"/>
                <a:tab algn="l" pos="10890360"/>
              </a:tabLst>
            </a:pPr>
            <a:r>
              <a:rPr b="1" lang="es-CL" sz="1700" spc="-1" strike="noStrike">
                <a:solidFill>
                  <a:srgbClr val="000066"/>
                </a:solidFill>
                <a:latin typeface="Arial"/>
              </a:rPr>
              <a:t>http:www.al-dia.cl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30" name=""/>
          <p:cNvSpPr/>
          <p:nvPr/>
        </p:nvSpPr>
        <p:spPr>
          <a:xfrm>
            <a:off x="2268360" y="5373720"/>
            <a:ext cx="1224000" cy="719280"/>
          </a:xfrm>
          <a:prstGeom prst="wedgeRectCallout">
            <a:avLst>
              <a:gd name="adj1" fmla="val -75939"/>
              <a:gd name="adj2" fmla="val -119097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eleccione la revista de su interé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7451640" y="2060640"/>
            <a:ext cx="914400" cy="685800"/>
          </a:xfrm>
          <a:prstGeom prst="wedgeRectCallout">
            <a:avLst>
              <a:gd name="adj1" fmla="val 98611"/>
              <a:gd name="adj2" fmla="val -14837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blas de contenido de números anterior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2987640" y="3645000"/>
            <a:ext cx="1143000" cy="799920"/>
          </a:xfrm>
          <a:prstGeom prst="wedgeRectCallout">
            <a:avLst>
              <a:gd name="adj1" fmla="val 37638"/>
              <a:gd name="adj2" fmla="val -135319"/>
            </a:avLst>
          </a:prstGeom>
          <a:solidFill>
            <a:srgbClr val="ffcf01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espliega la tabla de contenido del último número publicado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05T01:05:20Z</dcterms:created>
  <dc:creator>Rafael Castillo Guerrero</dc:creator>
  <dc:description/>
  <dc:language>en-US</dc:language>
  <cp:lastModifiedBy>Ing Quimica</cp:lastModifiedBy>
  <dcterms:modified xsi:type="dcterms:W3CDTF">2006-08-21T20:22:09Z</dcterms:modified>
  <cp:revision>75</cp:revision>
  <dc:subject/>
  <dc:title>BIBLIOTECA</dc:title>
</cp:coreProperties>
</file>