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42F-646F-42B3-AF6B-CFBDED2E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959-66D1-42C8-8DA4-5AF4D27B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3DD-4510-467C-8AC0-296235A1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786-A877-4468-90C0-27C78EB0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7B4-55FD-4532-9510-2FAC2671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DFD-8A64-4AE0-932B-2E1B7F68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CCC-D624-4429-8212-6BAC5B84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83F-7F79-4C51-8C95-89D24133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1B5-FC2E-40BD-AB68-10284E93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267A-E484-4CBC-B983-73E4D67A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4D6-A7D6-43C3-BF6B-D62D146D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4E3-CE2A-489D-85A4-5AA42F4B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C51D-AD12-4F63-A91F-BFACA8F56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tamarugo.cec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éneos y heterogé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2-9-16/1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90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4 de Agosto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N ROM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celulasa psicrofi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M.Elena Lienqueo  Prof. Integrante: Leandro Herre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ÍNEZ VE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Optimización del cultivo de células HEK 293 en suspensión para el crecimiento y producción de 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Z.Gerdtzen Prof Co-guía: B.Andrews  Prof. Integrante: I.Rappa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1 de Agosto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UDINICH ABARCA, MAR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integrado de flujos metabólicos y regulación génica en levaduras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Asenjo  Prof Co-guía: I. Rapaport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7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eneos y heteroge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4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63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8-02T21:04:25Z</dcterms:modified>
  <cp:revision>126</cp:revision>
  <dc:subject/>
  <dc:title>El ingeniero, etica y sociedad</dc:title>
</cp:coreProperties>
</file>