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4741-5A89-42D6-9512-E2537D558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6825-678D-4FC2-916D-B0DF1E0E0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0637-0E2B-4D79-A1DE-C4B53B5EC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F746-51C5-49FC-A9BC-C043605BE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7505-ABD8-48F6-8A54-ED4AE3E00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2227-04FA-467A-BE31-FA6382179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6AD8-7EA9-4DB1-BFCB-EFCB83D09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F143-28E4-4C6D-B3FB-E0598EB26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27B5-A997-4F12-A6F4-91CD68BEF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7BEA-1ACA-42C1-AD89-8552D0320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FCB7-0E5E-4C41-A922-4937EA5C6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3542-47FF-4ED9-8434-F37C227A1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3FC7C-5A14-4B47-B0C5-A056C8FBE8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rabajo de Título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T-IQ69 F/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04560" y="28951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PRESENTA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http://tamarugo.cec.uchile.cl/~btcursos/titulo/index_F.htm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57200" y="152280"/>
            <a:ext cx="8229600" cy="555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9 de Noviembre 16:15 Sala por fijar</a:t>
            </a:r>
            <a:br>
              <a:rPr sz="2000"/>
            </a:br>
            <a:br>
              <a:rPr sz="2000"/>
            </a:b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DELGADO VARGAS, KATHERINE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Estudio de la polimerización de homopolímeros de polipropileno en sistema homogéneos y heterogéneos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Prof Guía: R.Quijada  Prof Co-guía: F.Gracia Prof. Integrante: J. </a:t>
            </a:r>
            <a:r>
              <a:rPr b="1" lang="es-ES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RETUER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ARA RAMIREZ, CLAUDIA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Gestión Ambiental del Mercurio en Chile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 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Prof. Guía: L.Veas Co-Guia: J.Wiertz Integrante: L.Herrera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LLANOS JARA, ELIZABETH 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 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r>
              <a:rPr b="1" lang="es-ES" sz="18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Reformado de alcoholes para la producción de hidrógeno sobre catalizadores soportados de níquel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Prof Guía: F.Gracia Prof Co-guía: P.Araya Prof. Integrante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152280"/>
            <a:ext cx="8229600" cy="50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16 de Noviembre 16:15 Sala por fijar</a:t>
            </a:r>
            <a:br>
              <a:rPr sz="2000"/>
            </a:br>
            <a:br>
              <a:rPr sz="2000"/>
            </a:b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MORCHIO VALENZUELA, BARBARA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Estudio de mercado y Producción de Compuestos de Molibdeno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Prof Guía: J.Casas  Prof Co-guía: R.Donoso Prof. Integrante: </a:t>
            </a:r>
            <a:r>
              <a:rPr b="1" lang="es-ES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EÑAILILLO BENAVENTE, DANIEL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Diseño de un destilador Solar de mediana escala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   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Prof. Guía: L. Herrera Co-Guia: J.Hernandez  Integrante: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ULLOA LAMAS, MONICA 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 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 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r>
              <a:rPr b="1" lang="es-ES" sz="18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Estudio de la morfología de superficie de falla de polímeros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 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Prof Guía: MP Jorquera Prof Co-guía:R.Quijada  Prof. Integrante: E.Dono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60320" y="5445000"/>
            <a:ext cx="772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ffff00"/>
                </a:solidFill>
                <a:uFillTx/>
                <a:latin typeface="Times New Roman"/>
              </a:rPr>
              <a:t>LA ASISTENCIA ES OBLIGATORIA A TODAS LAS PRESENTA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04560" y="167652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PRESENTAC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Asistencia Obligatoria a TODAS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las presenta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1320" y="3805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Datos Práct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La presentación no debe durar más de </a:t>
            </a: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20 min con preguntas (5 m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Logís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Se cuenta con PC y Datash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Debe entregar algún tipo de material escrito a los profesores de la comisió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571320" y="6091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La presentación se debe centrar en los siguientes pun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Introducción (</a:t>
            </a: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BREVE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Objetivos generales y específicos de la memo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Metodolo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Resultados obten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Discusión y Conclusiones PAR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Actividades pend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4920" y="29239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Fechas Importantes</a:t>
            </a:r>
            <a:br>
              <a:rPr sz="4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10/8</a:t>
            </a: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aller de Búsquedas Bibliográficas (Optativo, Confirmar)</a:t>
            </a: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 </a:t>
            </a:r>
            <a:br>
              <a:rPr sz="4400"/>
            </a:br>
            <a:br>
              <a:rPr sz="4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4-31/08, 7-14/09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I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Por Fijar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 Taller sobre preparación de entrevistas y CVs. 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19/10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Taller sobre redacción borrador de memoria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6/10, 2-9-16/11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II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Fin semestre: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Informe Final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3 semana después</a:t>
            </a:r>
            <a:br>
              <a:rPr sz="32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Evaluación del Informe Final por parte de la comisión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3 semana después</a:t>
            </a:r>
            <a:br>
              <a:rPr sz="32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memoria en Oficina de títulos y grados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Times New Roman"/>
              </a:rPr>
              <a:t>Calenda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152280"/>
            <a:ext cx="8229600" cy="90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24 de Agosto 16:15 Sala por fijar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MUÑOZ AGUIRRE, MARCELA EUGENIA</a:t>
            </a:r>
            <a:br>
              <a:rPr sz="2000"/>
            </a:b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Producción de una subtilisina criofílica recombinante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00"/>
                </a:solidFill>
                <a:latin typeface="Comic Sans MS"/>
              </a:rPr>
              <a:t>Prof Guía: Juan Asenjo  Prof Co-guía: Oriana Salazar  Prof. Integrante: Barbara Andrews</a:t>
            </a:r>
            <a:br>
              <a:rPr sz="1200"/>
            </a:br>
            <a:br>
              <a:rPr sz="2000"/>
            </a:b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RODRIGUEZ GALLARDO, VIDA</a:t>
            </a:r>
            <a:br>
              <a:rPr sz="2000"/>
            </a:b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Evolución dirigida de subtilisina criofílica con alta actividad a baja temperatura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  </a:t>
            </a:r>
            <a:br>
              <a:rPr sz="2000"/>
            </a:br>
            <a:r>
              <a:rPr b="1" lang="es-ES" sz="1200" spc="-1" strike="noStrike">
                <a:solidFill>
                  <a:srgbClr val="ffff00"/>
                </a:solidFill>
                <a:latin typeface="Comic Sans MS"/>
              </a:rPr>
              <a:t>Prof Guía: Oriana Salazar Prof Co-guía: Juan Asenjo  Prof. Integrante: Barbara Andre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MARIN ROM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Producción de una celulasa psicrofilica recombinante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00"/>
                </a:solidFill>
                <a:latin typeface="Comic Sans MS"/>
              </a:rPr>
              <a:t>Prof Guía: Oriana Salazar Prof Co-guía: M.Elena Lienqueo  Prof. Integrante: Leandro Herrera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 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MARTÍNEZ VERÓN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Optimización del cultivo de células HEK 293 en suspensión para el crecimiento y producción de adenoviru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00"/>
                </a:solidFill>
                <a:latin typeface="Comic Sans MS"/>
              </a:rPr>
              <a:t>Prof Guía: Z.Gerdtzen Prof Co-guía: B.Andrews  Prof. Integrante: I.Rappa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152280"/>
            <a:ext cx="8229600" cy="68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31 de Agosto 16:15 Sala por fijar</a:t>
            </a:r>
            <a:br>
              <a:rPr sz="2000"/>
            </a:br>
            <a:br>
              <a:rPr sz="2000"/>
            </a:b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BUDINICH ABARCA, MARK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Modelo integrado de flujos metabólicos y regulación génica en levaduras</a:t>
            </a:r>
            <a:r>
              <a:rPr b="1" lang="es-ES" sz="14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Prof Guía: J.Asenjo  Prof Co-guía: I. Rapaport Prof. Integrante: B.Andre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DOMINGUEZ ZAMBRANO, PAOLA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Estudio de la expresión de proteínas en Sulfolobus Metallicus durante la biolixiviación de calcopirita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Prof. Guía: T. Vargas Co-Guia: B.Escobar Integrante: O. Salazar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GIMPEL MUÑOZ, CARLA 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r>
              <a:rPr b="1" lang="es-ES" sz="18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Toxicidad de especies orgánicas e inorgánicas sobre la actividad de microorganismos biolixiviant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Prof Guía: R.Badilla Prof Co-guía: J.Asenjo Prof. Integrante: B.Andre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HOLZER SCHAA, KATHLEEN 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r>
              <a:rPr b="1" lang="es-ES" sz="18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Cuantificación de bacterias hierrooxidantes en procesos de biolixiviación mediante NMP PCR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r>
              <a:rPr b="1" lang="es-ES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Prof. Guía: B.Escobar Co-Guia: T: Vargas Integrante: O. Salazar</a:t>
            </a:r>
            <a:br>
              <a:rPr sz="2000"/>
            </a:br>
            <a:br>
              <a:rPr sz="20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152280"/>
            <a:ext cx="8229600" cy="555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7 de Septiembre 16:15 Sala por fijar</a:t>
            </a:r>
            <a:br>
              <a:rPr sz="2000"/>
            </a:br>
            <a:br>
              <a:rPr sz="2000"/>
            </a:b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DELGADO VARGAS, KATHERINE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Estudio de la polimerización de homopolímeros de polipropileno en sistema homogeneos y heterogeneos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Prof Guía: R.Quijada  Prof Co-guía: F.Gracia Prof. Integrante: J. </a:t>
            </a:r>
            <a:r>
              <a:rPr b="1" lang="es-ES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RETUER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ARA RAMIREZ, CLAUDIA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Gestión Ambiental del Mercurio en Chile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 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Prof. Guía: L.Veas Co-Guia: J.Wiertz Integrante: L.Herrera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LLANOS JARA, ELIZABETH 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 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r>
              <a:rPr b="1" lang="es-ES" sz="18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Reformado de alcoholes para la producción de hidrógeno sobre catalizadores soportados de níquel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Prof Guía: F.Gracia Prof Co-guía: P.Araya Prof. Integrante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57200" y="152280"/>
            <a:ext cx="8229600" cy="50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14 de Septiembre 16:15 Sala por fijar</a:t>
            </a:r>
            <a:br>
              <a:rPr sz="2000"/>
            </a:br>
            <a:br>
              <a:rPr sz="2000"/>
            </a:b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MORCHIO VALENZUELA, BARBARA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Estudio de mercado y Producción de Compuestos de Molibdeno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Prof Guía: J.Casas  Prof Co-guía: R.Donoso Prof. Integrante: </a:t>
            </a:r>
            <a:r>
              <a:rPr b="1" lang="es-ES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EÑAILILLO BENAVENTE, DANIEL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Diseño de un destilador Solar de mediana escala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   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Prof. Guía: L. Herrera Co-Guia: J.Hernandez  Integrante: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ULLOA LAMAS, MONICA 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 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 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r>
              <a:rPr b="1" lang="es-ES" sz="18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Estudio de la morfología de superficie de falla de polímeros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 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Prof Guía: MP Jorquera Prof Co-guía:R.Quijada  Prof. Integrante: E.Dono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0320" y="5445000"/>
            <a:ext cx="772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ffff00"/>
                </a:solidFill>
                <a:uFillTx/>
                <a:latin typeface="Times New Roman"/>
              </a:rPr>
              <a:t>LA ASISTENCIA ES OBLIGATORIA A TODAS LAS PRESENTA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152280"/>
            <a:ext cx="8229600" cy="63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 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26 de Octubre 16:15 Sala por fijar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MUÑOZ AGUIRRE, MARCELA EUGENIA</a:t>
            </a:r>
            <a:br>
              <a:rPr sz="2000"/>
            </a:b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Producción de una subtilisina criofílica recombinante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00"/>
                </a:solidFill>
                <a:latin typeface="Comic Sans MS"/>
              </a:rPr>
              <a:t>Prof Guía: Juan Asenjo  Prof Co-guía: Oriana Salazar  Prof. Integrante: Barbara Andrews</a:t>
            </a:r>
            <a:br>
              <a:rPr sz="1200"/>
            </a:br>
            <a:br>
              <a:rPr sz="2000"/>
            </a:b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RODRIGUEZ GALLARDO, VIDA</a:t>
            </a:r>
            <a:br>
              <a:rPr sz="2000"/>
            </a:b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Evolución dirigida de subtilisina criofílica con alta actividad a baja temperatura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  </a:t>
            </a:r>
            <a:br>
              <a:rPr sz="2000"/>
            </a:br>
            <a:r>
              <a:rPr b="1" lang="es-ES" sz="1200" spc="-1" strike="noStrike">
                <a:solidFill>
                  <a:srgbClr val="ffff00"/>
                </a:solidFill>
                <a:latin typeface="Comic Sans MS"/>
              </a:rPr>
              <a:t>Prof Guía: Oriana Salazar Prof Co-guía: Juan Asenjo  Prof. Integrante: Barbara Andre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152280"/>
            <a:ext cx="8229600" cy="52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2 de Noviembre 16:15 Sala por fijar</a:t>
            </a:r>
            <a:br>
              <a:rPr sz="2000"/>
            </a:br>
            <a:br>
              <a:rPr sz="2000"/>
            </a:b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DOMINGUEZ ZAMBRANO, PAOLA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Estudio de la expresión de proteínas en Sulfolobus Metallicus durante la biolixiviación de calcopirita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Prof. Guía: T. Vargas Co-Guia: B.Escobar Integrante: O. Salazar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GIMPEL MUÑOZ, CARLA 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r>
              <a:rPr b="1" lang="es-ES" sz="18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Toxicidad de especies orgánicas e inorgánicas sobre la actividad de microorganismos biolixiviant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Prof Guía: R.Badilla Prof Co-guía: J.Asenjo Prof. Integrante: B.Andre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HOLZER SCHAA, KATHLEEN 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r>
              <a:rPr b="1" lang="es-ES" sz="18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Cuantificación de bacterias hierrooxidantes en procesos de biolixiviación mediante NMP PCR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r>
              <a:rPr b="1" lang="es-ES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Prof. Guía: B.Escobar Co-Guia: T: Vargas Integrante: O. Salazar</a:t>
            </a:r>
            <a:br>
              <a:rPr sz="2000"/>
            </a:br>
            <a:br>
              <a:rPr sz="20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1T21:44:03Z</dcterms:created>
  <dc:creator>Ignacio Badilla</dc:creator>
  <dc:description/>
  <dc:language>en-US</dc:language>
  <cp:lastModifiedBy>Ing Quimica</cp:lastModifiedBy>
  <dcterms:modified xsi:type="dcterms:W3CDTF">2006-08-02T21:04:25Z</dcterms:modified>
  <cp:revision>126</cp:revision>
  <dc:subject/>
  <dc:title>El ingeniero, etica y sociedad</dc:title>
</cp:coreProperties>
</file>