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driveby.wav" ContentType="audio/x-wav"/>
  <Override PartName="/ppt/media/cashreg.wav" ContentType="audio/x-wav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DC2-F7E6-4FC3-8D66-AAFB0340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7BB-473E-45DE-A644-3E86C7DD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155-3E12-4282-91E6-38534DAA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F0F-55F0-4BEA-89D0-BA977628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077-86B9-4DDE-9FAD-64684CEC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D1B-6901-4D57-AA69-7FFA78EB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303-1880-4270-8E88-236009C7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BDB-5E12-4172-BEB1-2AFB804F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518-38B9-46E6-A986-991A843F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FEC-534B-4A9E-B0EB-85BF495F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D39-5DB6-4942-9A11-088ED98C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C1A-258C-4678-A985-0876BD63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DA6-4373-4375-AA45-19FD64055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000"/>
            </a:br>
            <a:br>
              <a:rPr sz="40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24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6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6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6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7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3200"/>
            </a:b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20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0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11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2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robado (T) o Reprobado (R)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1752480"/>
            <a:ext cx="2057400" cy="2210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163000" y="5057640"/>
          <a:ext cx="9810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3000" y="5057640"/>
                    <a:ext cx="98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52440" y="85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914640" y="-585720"/>
            <a:ext cx="1371600" cy="5715000"/>
          </a:xfrm>
          <a:prstGeom prst="can">
            <a:avLst>
              <a:gd name="adj" fmla="val 8106"/>
            </a:avLst>
          </a:prstGeom>
          <a:gradFill rotWithShape="0">
            <a:gsLst>
              <a:gs pos="0">
                <a:srgbClr val="001a00"/>
              </a:gs>
              <a:gs pos="50000">
                <a:srgbClr val="006600"/>
              </a:gs>
              <a:gs pos="100000">
                <a:srgbClr val="001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36200" y="1678680"/>
            <a:ext cx="1185840" cy="1067040"/>
          </a:xfrm>
          <a:custGeom>
            <a:avLst/>
            <a:gdLst/>
            <a:ahLst/>
            <a:rect l="l" t="t" r="r" b="b"/>
            <a:pathLst>
              <a:path w="628" h="464">
                <a:moveTo>
                  <a:pt x="3" y="0"/>
                </a:moveTo>
                <a:lnTo>
                  <a:pt x="9" y="19"/>
                </a:lnTo>
                <a:lnTo>
                  <a:pt x="24" y="43"/>
                </a:lnTo>
                <a:lnTo>
                  <a:pt x="81" y="72"/>
                </a:lnTo>
                <a:lnTo>
                  <a:pt x="177" y="101"/>
                </a:lnTo>
                <a:lnTo>
                  <a:pt x="312" y="116"/>
                </a:lnTo>
                <a:lnTo>
                  <a:pt x="438" y="130"/>
                </a:lnTo>
                <a:lnTo>
                  <a:pt x="525" y="150"/>
                </a:lnTo>
                <a:lnTo>
                  <a:pt x="588" y="183"/>
                </a:lnTo>
                <a:lnTo>
                  <a:pt x="615" y="203"/>
                </a:lnTo>
                <a:lnTo>
                  <a:pt x="627" y="222"/>
                </a:lnTo>
                <a:lnTo>
                  <a:pt x="621" y="251"/>
                </a:lnTo>
                <a:lnTo>
                  <a:pt x="597" y="275"/>
                </a:lnTo>
                <a:lnTo>
                  <a:pt x="537" y="304"/>
                </a:lnTo>
                <a:lnTo>
                  <a:pt x="444" y="328"/>
                </a:lnTo>
                <a:lnTo>
                  <a:pt x="312" y="347"/>
                </a:lnTo>
                <a:lnTo>
                  <a:pt x="174" y="357"/>
                </a:lnTo>
                <a:lnTo>
                  <a:pt x="66" y="395"/>
                </a:lnTo>
                <a:lnTo>
                  <a:pt x="24" y="424"/>
                </a:lnTo>
                <a:lnTo>
                  <a:pt x="9" y="444"/>
                </a:lnTo>
                <a:lnTo>
                  <a:pt x="0" y="463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482360" y="1886760"/>
            <a:ext cx="998640" cy="838080"/>
          </a:xfrm>
          <a:custGeom>
            <a:avLst/>
            <a:gdLst/>
            <a:ahLst/>
            <a:rect l="l" t="t" r="r" b="b"/>
            <a:pathLst>
              <a:path w="529" h="530">
                <a:moveTo>
                  <a:pt x="3" y="0"/>
                </a:moveTo>
                <a:lnTo>
                  <a:pt x="8" y="22"/>
                </a:lnTo>
                <a:lnTo>
                  <a:pt x="20" y="50"/>
                </a:lnTo>
                <a:lnTo>
                  <a:pt x="68" y="82"/>
                </a:lnTo>
                <a:lnTo>
                  <a:pt x="149" y="116"/>
                </a:lnTo>
                <a:lnTo>
                  <a:pt x="263" y="133"/>
                </a:lnTo>
                <a:lnTo>
                  <a:pt x="369" y="149"/>
                </a:lnTo>
                <a:lnTo>
                  <a:pt x="442" y="171"/>
                </a:lnTo>
                <a:lnTo>
                  <a:pt x="495" y="210"/>
                </a:lnTo>
                <a:lnTo>
                  <a:pt x="518" y="232"/>
                </a:lnTo>
                <a:lnTo>
                  <a:pt x="528" y="254"/>
                </a:lnTo>
                <a:lnTo>
                  <a:pt x="523" y="287"/>
                </a:lnTo>
                <a:lnTo>
                  <a:pt x="503" y="314"/>
                </a:lnTo>
                <a:lnTo>
                  <a:pt x="452" y="348"/>
                </a:lnTo>
                <a:lnTo>
                  <a:pt x="374" y="374"/>
                </a:lnTo>
                <a:lnTo>
                  <a:pt x="263" y="396"/>
                </a:lnTo>
                <a:lnTo>
                  <a:pt x="147" y="408"/>
                </a:lnTo>
                <a:lnTo>
                  <a:pt x="56" y="452"/>
                </a:lnTo>
                <a:lnTo>
                  <a:pt x="20" y="485"/>
                </a:lnTo>
                <a:lnTo>
                  <a:pt x="8" y="507"/>
                </a:lnTo>
                <a:lnTo>
                  <a:pt x="0" y="529"/>
                </a:lnTo>
                <a:lnTo>
                  <a:pt x="3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60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qui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3444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920" y="5022720"/>
            <a:ext cx="69372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4880" y="502272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2920" y="5022720"/>
            <a:ext cx="304776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5137200"/>
            <a:ext cx="45864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6120" y="513396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3960" y="5311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6640" y="3262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24200" y="3110040"/>
            <a:ext cx="68580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176480" y="4657680"/>
            <a:ext cx="685800" cy="36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9600" y="5175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4680" y="4489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448956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9240" y="3581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inuou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6560" y="4994280"/>
            <a:ext cx="69228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8880" y="499428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6560" y="4994280"/>
            <a:ext cx="304812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1040" y="510840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0320" y="5286240"/>
            <a:ext cx="874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5105520"/>
            <a:ext cx="461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97960" y="5283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13240" y="5146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5334120"/>
          <a:ext cx="66024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33412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76920" y="4800600"/>
            <a:ext cx="374400" cy="43488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374760" cy="43524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799200">
            <a:off x="8077320" y="4695840"/>
            <a:ext cx="664920" cy="355680"/>
          </a:xfrm>
          <a:custGeom>
            <a:avLst/>
            <a:gdLst/>
            <a:ahLst/>
            <a:rect l="l" t="t" r="r" b="b"/>
            <a:pathLst>
              <a:path w="960" h="496">
                <a:moveTo>
                  <a:pt x="0" y="0"/>
                </a:moveTo>
                <a:cubicBezTo>
                  <a:pt x="204" y="92"/>
                  <a:pt x="408" y="184"/>
                  <a:pt x="480" y="240"/>
                </a:cubicBezTo>
                <a:cubicBezTo>
                  <a:pt x="552" y="296"/>
                  <a:pt x="480" y="336"/>
                  <a:pt x="432" y="336"/>
                </a:cubicBezTo>
                <a:cubicBezTo>
                  <a:pt x="384" y="336"/>
                  <a:pt x="208" y="280"/>
                  <a:pt x="192" y="240"/>
                </a:cubicBezTo>
                <a:cubicBezTo>
                  <a:pt x="176" y="200"/>
                  <a:pt x="232" y="64"/>
                  <a:pt x="336" y="96"/>
                </a:cubicBezTo>
                <a:cubicBezTo>
                  <a:pt x="440" y="128"/>
                  <a:pt x="712" y="368"/>
                  <a:pt x="816" y="432"/>
                </a:cubicBezTo>
                <a:cubicBezTo>
                  <a:pt x="920" y="496"/>
                  <a:pt x="936" y="472"/>
                  <a:pt x="96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761000" y="3040200"/>
            <a:ext cx="1068480" cy="44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933560" y="4600440"/>
            <a:ext cx="10684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152280"/>
            <a:ext cx="82296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6:15 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Prof Guía: Blanca Esco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Leandro 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Blanca Escob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 NUÑEZ, YORDI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esús Cas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52280"/>
            <a:ext cx="8229600" cy="89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6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Tomas V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ia: Leandro Herrera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visar a los profesores g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1080" y="1752480"/>
            <a:ext cx="44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0"/>
            <a:ext cx="8381880" cy="85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06.10.2006: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ence el plazo para solicitar cambio al 69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n aceptables quienes cumplen alguna de las condiciones sigu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reprobado muy pocas asignaturas pero tener inscrito el curso XX69E en su undécimo semestre de permanencia en la    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figurado en los dos años anteriores al que se inscribe el XX69E, en la Lista de Alumnos Destacados de la Escue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381880" cy="81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tajas del IQ-BT 69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2/3 Nota Carrera + 1/3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½ Nota Carrera + ½ 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 la Nota de Examen  &gt;&gt; 5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Estructura de una Pres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ontenidos de l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Justificación de la Presen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laves para una buen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9-12T21:42:10Z</dcterms:modified>
  <cp:revision>74</cp:revision>
  <dc:subject/>
  <dc:title>El ingeniero, etica y sociedad</dc:title>
</cp:coreProperties>
</file>