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driveby.wav" ContentType="audio/x-wav"/>
  <Override PartName="/ppt/media/cashreg.wav" ContentType="audio/x-wav"/>
  <Override PartName="/ppt/media/image7.wmf" ContentType="image/x-wmf"/>
  <Override PartName="/ppt/media/image8.png" ContentType="image/png"/>
  <Override PartName="/ppt/media/image9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3EE04-77A6-4B69-9729-AA36ABDD7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C98B7-C434-48FE-91C3-36F9E0B43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05C8B-E627-4862-BC8F-0E0B909CA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B50BE-D49E-40B5-84CE-4DE04D19C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728FB-2D8A-4310-9815-745E11F1E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7C524-C2E9-48C9-8E4F-71E4AFB86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02648-E477-4513-8BA6-3014CDF72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46B10-71AD-471B-8127-B19D972F1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7ABBF-8F0B-472C-8966-5D60F3F1B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C141F-9A70-4A2E-AA84-A180630DE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3A5E5-8F76-40FC-BB07-A604CF80A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733D9-32C7-4C51-8F79-0FE6A38D2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61A26-B737-4954-912C-025889F44A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driveby.wav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image" Target="../media/image7.wmf"/><Relationship Id="rId4" Type="http://schemas.openxmlformats.org/officeDocument/2006/relationships/image" Target="../media/image7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8.png"/><Relationship Id="rId7" Type="http://schemas.openxmlformats.org/officeDocument/2006/relationships/image" Target="../media/image9.wmf"/><Relationship Id="rId8" Type="http://schemas.openxmlformats.org/officeDocument/2006/relationships/image" Target="../media/image9.wmf"/><Relationship Id="rId9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ntroducción al Trabajo de Título</a:t>
            </a:r>
            <a:br>
              <a:rPr sz="4000"/>
            </a:br>
            <a:br>
              <a:rPr sz="4000"/>
            </a:br>
            <a:r>
              <a:rPr b="1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T-IQ 69E</a:t>
            </a:r>
            <a:br>
              <a:rPr sz="2400"/>
            </a:br>
            <a:r>
              <a:rPr b="1" lang="es-ES_tradnl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04 UD</a:t>
            </a:r>
            <a:br>
              <a:rPr sz="2400"/>
            </a:br>
            <a:r>
              <a:rPr b="1" lang="es-ES_tradnl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aller sobre Presentaciones</a:t>
            </a:r>
            <a:r>
              <a:rPr b="1" lang="es-ES_tradnl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914400" y="4757760"/>
            <a:ext cx="72388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Dpto. Ingeniería Química y Biotecnolog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Universidad de  Ch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00"/>
                </a:solidFill>
                <a:latin typeface="Times New Roman"/>
              </a:rPr>
              <a:t>Claves en una buena presentació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66294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09480" y="1752480"/>
            <a:ext cx="77724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y un antes, durante y después de la presentac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914400" y="3809880"/>
            <a:ext cx="2438280" cy="914400"/>
            <a:chOff x="914400" y="3809880"/>
            <a:chExt cx="2438280" cy="914400"/>
          </a:xfrm>
        </p:grpSpPr>
        <p:sp>
          <p:nvSpPr>
            <p:cNvPr id="63" name=""/>
            <p:cNvSpPr/>
            <p:nvPr/>
          </p:nvSpPr>
          <p:spPr>
            <a:xfrm>
              <a:off x="914400" y="3809880"/>
              <a:ext cx="2438280" cy="914400"/>
            </a:xfrm>
            <a:prstGeom prst="rightArrowCallout">
              <a:avLst>
                <a:gd name="adj1" fmla="val 25002"/>
                <a:gd name="adj2" fmla="val 25000"/>
                <a:gd name="adj3" fmla="val 44442"/>
                <a:gd name="adj4" fmla="val 66667"/>
              </a:avLst>
            </a:prstGeom>
            <a:noFill/>
            <a:ln w="763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914400" y="4038480"/>
              <a:ext cx="1523880" cy="368280"/>
            </a:xfrm>
            <a:prstGeom prst="rect">
              <a:avLst/>
            </a:prstGeom>
            <a:noFill/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ff00"/>
                  </a:solidFill>
                  <a:latin typeface="Times New Roman"/>
                </a:rPr>
                <a:t>Preparació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3352680" y="3809880"/>
            <a:ext cx="2742840" cy="914400"/>
            <a:chOff x="3352680" y="3809880"/>
            <a:chExt cx="2742840" cy="914400"/>
          </a:xfrm>
        </p:grpSpPr>
        <p:sp>
          <p:nvSpPr>
            <p:cNvPr id="66" name=""/>
            <p:cNvSpPr/>
            <p:nvPr/>
          </p:nvSpPr>
          <p:spPr>
            <a:xfrm>
              <a:off x="3352680" y="3809880"/>
              <a:ext cx="2742840" cy="914400"/>
            </a:xfrm>
            <a:prstGeom prst="rightArrowCallout">
              <a:avLst>
                <a:gd name="adj1" fmla="val 25002"/>
                <a:gd name="adj2" fmla="val 25000"/>
                <a:gd name="adj3" fmla="val 49993"/>
                <a:gd name="adj4" fmla="val 66667"/>
              </a:avLst>
            </a:prstGeom>
            <a:noFill/>
            <a:ln w="763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352680" y="4038480"/>
              <a:ext cx="1714320" cy="398880"/>
            </a:xfrm>
            <a:prstGeom prst="rect">
              <a:avLst/>
            </a:prstGeom>
            <a:noFill/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ffff00"/>
                  </a:solidFill>
                  <a:latin typeface="Times New Roman"/>
                </a:rPr>
                <a:t>Presentació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" name=""/>
          <p:cNvGrpSpPr/>
          <p:nvPr/>
        </p:nvGrpSpPr>
        <p:grpSpPr>
          <a:xfrm>
            <a:off x="6248520" y="3733920"/>
            <a:ext cx="2286000" cy="1599840"/>
            <a:chOff x="6248520" y="3733920"/>
            <a:chExt cx="2286000" cy="1599840"/>
          </a:xfrm>
        </p:grpSpPr>
        <p:sp>
          <p:nvSpPr>
            <p:cNvPr id="69" name=""/>
            <p:cNvSpPr/>
            <p:nvPr/>
          </p:nvSpPr>
          <p:spPr>
            <a:xfrm>
              <a:off x="6248520" y="3733920"/>
              <a:ext cx="2209680" cy="1599840"/>
            </a:xfrm>
            <a:prstGeom prst="downArrowCallout">
              <a:avLst>
                <a:gd name="adj1" fmla="val 34533"/>
                <a:gd name="adj2" fmla="val 34530"/>
                <a:gd name="adj3" fmla="val 16667"/>
                <a:gd name="adj4" fmla="val 66667"/>
              </a:avLst>
            </a:prstGeom>
            <a:noFill/>
            <a:ln w="763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248520" y="3986280"/>
              <a:ext cx="2286000" cy="398880"/>
            </a:xfrm>
            <a:prstGeom prst="rect">
              <a:avLst/>
            </a:prstGeom>
            <a:noFill/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ffff00"/>
                  </a:solidFill>
                  <a:latin typeface="Times New Roman"/>
                </a:rPr>
                <a:t>Retroalimentació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" name=""/>
          <p:cNvSpPr/>
          <p:nvPr/>
        </p:nvSpPr>
        <p:spPr>
          <a:xfrm>
            <a:off x="1066680" y="4800600"/>
            <a:ext cx="1067040" cy="5335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5334120"/>
            <a:ext cx="6248520" cy="228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Antes de la Present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33520" y="2057400"/>
            <a:ext cx="7619760" cy="29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Haga todo lo posible para que su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audiencia y Ud. estén confortables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Revise la sala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y los equipos audiovisuales con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suficiente antelación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para evitar sorpres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Un buen análisis previo de las características de la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audiencia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3048120" y="5029200"/>
            <a:ext cx="1990440" cy="1631520"/>
            <a:chOff x="3048120" y="5029200"/>
            <a:chExt cx="1990440" cy="1631520"/>
          </a:xfrm>
        </p:grpSpPr>
        <p:grpSp>
          <p:nvGrpSpPr>
            <p:cNvPr id="77" name=""/>
            <p:cNvGrpSpPr/>
            <p:nvPr/>
          </p:nvGrpSpPr>
          <p:grpSpPr>
            <a:xfrm>
              <a:off x="3048120" y="5029200"/>
              <a:ext cx="1990440" cy="1631520"/>
              <a:chOff x="3048120" y="5029200"/>
              <a:chExt cx="1990440" cy="1631520"/>
            </a:xfrm>
          </p:grpSpPr>
          <p:pic>
            <p:nvPicPr>
              <p:cNvPr id="78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048120" y="5029200"/>
                <a:ext cx="1990440" cy="1483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" name=""/>
              <p:cNvSpPr/>
              <p:nvPr/>
            </p:nvSpPr>
            <p:spPr>
              <a:xfrm>
                <a:off x="3505320" y="5105160"/>
                <a:ext cx="1371600" cy="155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0" name=""/>
            <p:cNvSpPr/>
            <p:nvPr/>
          </p:nvSpPr>
          <p:spPr>
            <a:xfrm>
              <a:off x="3505320" y="5257440"/>
              <a:ext cx="1218960" cy="1295280"/>
            </a:xfrm>
            <a:prstGeom prst="noSmoking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510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Times New Roman"/>
              </a:rPr>
              <a:t>Audienc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Haga un detallado análisis de la audiencia antes de su presentación, los antecedentes de los auditores, y las necesidades de información que requieren.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943600" y="228600"/>
            <a:ext cx="320040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Times New Roman"/>
              </a:rPr>
              <a:t>Elementos de la Present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Se deben utilizar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elementos visuales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que ayuden a enfocar la atención de los asistentes en las áreas important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Los Informe se pueden volver a leer. En las presentaciones, si los auditores de pierden o se aburren,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la información se pierde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Debe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mantener la atención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de la audie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ffff00"/>
                </a:solidFill>
                <a:uFillTx/>
                <a:latin typeface="Times New Roman"/>
              </a:rPr>
              <a:t>Poner atención en el tiempo de la exposición</a:t>
            </a:r>
            <a:r>
              <a:rPr b="0" lang="es-ES_tradnl" sz="2800" spc="-1" strike="noStrike" u="sng">
                <a:solidFill>
                  <a:srgbClr val="ffff00"/>
                </a:solidFill>
                <a:uFillTx/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Times New Roman"/>
              </a:rPr>
              <a:t>Elementos de la Present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Evite el nerviosismo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enga cuidado de no incluir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mucha información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porque no podrá ser leíd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nuncie con cuidado y mantenga un tono de voz adecuado al tamaño de la sala.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Haga pausa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y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enfatice lo importante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510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Times New Roman"/>
              </a:rPr>
              <a:t>Nerviosism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Una buena presentación requiere de un buen nivel de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auto-confianza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Antes de cualquier presentación, la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práctica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es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esencial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! Si puede, practique frente a una audiencia real – o use grabadoras de voz o vide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Es recomendable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tener una guía escrita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de los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primeros minutos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. En ese período muchas veces se produce un nerviosismo natural que bloquea la memori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7162920" y="0"/>
            <a:ext cx="160488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510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Times New Roman"/>
              </a:rPr>
              <a:t>Nerviosismo </a:t>
            </a: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(cont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Nunca mire a alguien en particular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mucho tiempo. Si ella pierde interés, puede ser devastador para U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Si las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interrupciones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lo ponen nervioso,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pida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que estas se hagan una vez que termine la presenta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Si comete un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error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de saltarse una parte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no vuelva atrás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. Cuando hayan preguntas tendrá la oportunidad de exponer esos punt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Times New Roman"/>
              </a:rPr>
              <a:t>Otros detalles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Recuerde, que solo Ud. tiene el </a:t>
            </a: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control de la present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Ud. es </a:t>
            </a: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responsable del ritmo y contenido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Haga </a:t>
            </a: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pausas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y </a:t>
            </a: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enfatice lo importa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repare </a:t>
            </a: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notas escritas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sobre sus transparencias. </a:t>
            </a: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Evite leerlas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de corrido, ya que puede dar la impresión de que no domina lo que está presentan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ntregue </a:t>
            </a: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material escrito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a la audienc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Pregunt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Haga el esfuerzo de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escuchar bien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la pregunta y contestar lo que le piden,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no evadiendo la respuest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Reconozca de inmediato que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no sabe la respuesta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, si es el cas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Después de la Present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Converse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con amigos en otro lugar y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reciba los comentarios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y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sugerencias.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Pregunte que estuvo bien, y que </a:t>
            </a:r>
            <a:r>
              <a:rPr b="1" lang="es-ES_tradnl" sz="2800" spc="-1" strike="noStrike" u="sng">
                <a:solidFill>
                  <a:srgbClr val="ffff00"/>
                </a:solidFill>
                <a:uFillTx/>
                <a:latin typeface="Times New Roman"/>
              </a:rPr>
              <a:t>estuvo mal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para mejorar sus presentaciones futur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ffff00"/>
                </a:solidFill>
                <a:uFillTx/>
                <a:latin typeface="Times New Roman"/>
              </a:rPr>
              <a:t>Retroaliment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278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Fechas Importantes</a:t>
            </a:r>
            <a:br>
              <a:rPr sz="3200"/>
            </a:br>
            <a:r>
              <a:rPr b="1" lang="es-ES" sz="20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8/9 (7 semana)</a:t>
            </a:r>
            <a:br>
              <a:rPr sz="2000"/>
            </a:br>
            <a:r>
              <a:rPr b="0" lang="es-ES_tradnl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de la selección del Tema y Prof. Guía</a:t>
            </a:r>
            <a:r>
              <a:rPr b="1" lang="es-ES_tradnl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</a:t>
            </a:r>
            <a:r>
              <a:rPr b="0" lang="es-ES_tradnl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n formulario disponible en</a:t>
            </a:r>
            <a:r>
              <a:rPr b="1" lang="es-ES_tradnl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es-ES_tradnl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tamarugo.cec.uchile.cl/~btcursos/titulo/index_E.html</a:t>
            </a:r>
            <a:r>
              <a:rPr b="1" lang="es-ES_tradnl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br>
              <a:rPr sz="2400"/>
            </a:br>
            <a:br>
              <a:rPr sz="2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14/9 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aller sobre presentaciones</a:t>
            </a:r>
            <a:br>
              <a:rPr sz="2400"/>
            </a:br>
            <a:br>
              <a:rPr sz="2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28/9-5/10</a:t>
            </a:r>
            <a:br>
              <a:rPr sz="32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esentaciones de tema seleccionado</a:t>
            </a:r>
            <a:br>
              <a:rPr sz="2400"/>
            </a:br>
            <a:br>
              <a:rPr sz="2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Por Fijar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: Taller sobre preparación de entrevistas y CVs.</a:t>
            </a:r>
            <a:br>
              <a:rPr sz="2400"/>
            </a:br>
            <a:br>
              <a:rPr sz="2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06.10.2006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olicitud de Cambio al 69H</a:t>
            </a:r>
            <a:br>
              <a:rPr sz="2400"/>
            </a:br>
            <a:br>
              <a:rPr sz="2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20.11.2006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Informe Final</a:t>
            </a:r>
            <a:br>
              <a:rPr sz="2400"/>
            </a:br>
            <a:br>
              <a:rPr sz="2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06.12.2006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de Evaluación del Informe Final 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probado (T) o Reprobado (R).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 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Ejempl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Ejempl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924280" y="1693800"/>
            <a:ext cx="3294000" cy="34686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3962520" y="1752480"/>
            <a:ext cx="2057400" cy="2210040"/>
          </a:xfrm>
          <a:prstGeom prst="noSmoking">
            <a:avLst>
              <a:gd name="adj" fmla="val 125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28600"/>
            <a:ext cx="5105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Times New Roman"/>
              </a:rPr>
              <a:t>Nerviosism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480" y="1752480"/>
            <a:ext cx="777240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Una buena presentación requiere de un buen nivel de </a:t>
            </a:r>
            <a:r>
              <a:rPr b="1" lang="es-ES_tradnl" sz="2000" spc="-1" strike="noStrike">
                <a:solidFill>
                  <a:srgbClr val="ffff00"/>
                </a:solidFill>
                <a:latin typeface="Times New Roman"/>
              </a:rPr>
              <a:t>auto-confianza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Antes de cualquier presentación, la </a:t>
            </a:r>
            <a:r>
              <a:rPr b="1" lang="es-ES_tradnl" sz="2000" spc="-1" strike="noStrike">
                <a:solidFill>
                  <a:srgbClr val="ffff00"/>
                </a:solidFill>
                <a:latin typeface="Times New Roman"/>
              </a:rPr>
              <a:t>práctica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es </a:t>
            </a:r>
            <a:r>
              <a:rPr b="1" lang="es-ES_tradnl" sz="2000" spc="-1" strike="noStrike">
                <a:solidFill>
                  <a:srgbClr val="ffff00"/>
                </a:solidFill>
                <a:latin typeface="Times New Roman"/>
              </a:rPr>
              <a:t>esencial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! Si puede, practique frente a una audiencia real – o use grabadoras de voz o vide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Es recomendable </a:t>
            </a:r>
            <a:r>
              <a:rPr b="1" lang="es-ES_tradnl" sz="2000" spc="-1" strike="noStrike">
                <a:solidFill>
                  <a:srgbClr val="ffff00"/>
                </a:solidFill>
                <a:latin typeface="Times New Roman"/>
              </a:rPr>
              <a:t>tener una guía escrita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de los </a:t>
            </a:r>
            <a:r>
              <a:rPr b="1" lang="es-ES_tradnl" sz="2000" spc="-1" strike="noStrike">
                <a:solidFill>
                  <a:srgbClr val="ffff00"/>
                </a:solidFill>
                <a:latin typeface="Times New Roman"/>
              </a:rPr>
              <a:t>primeros minutos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. En ese período muchas veces se produce un nerviosismo natural que bloquea la memoria. </a:t>
            </a:r>
            <a:r>
              <a:rPr b="1" lang="es-ES_tradnl" sz="2000" spc="-1" strike="noStrike">
                <a:solidFill>
                  <a:srgbClr val="ffff00"/>
                </a:solidFill>
                <a:latin typeface="Times New Roman"/>
              </a:rPr>
              <a:t>Nunca mire a alguien en particular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mucho tiempo. Si ella pierde interés, puede ser devastador para U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Si las </a:t>
            </a:r>
            <a:r>
              <a:rPr b="1" lang="es-ES_tradnl" sz="2000" spc="-1" strike="noStrike">
                <a:solidFill>
                  <a:srgbClr val="ffff00"/>
                </a:solidFill>
                <a:latin typeface="Times New Roman"/>
              </a:rPr>
              <a:t>interrupciones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lo ponen nervioso, </a:t>
            </a:r>
            <a:r>
              <a:rPr b="1" lang="es-ES_tradnl" sz="2000" spc="-1" strike="noStrike">
                <a:solidFill>
                  <a:srgbClr val="ffff00"/>
                </a:solidFill>
                <a:latin typeface="Times New Roman"/>
              </a:rPr>
              <a:t>pida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que estas se hagan una vez que termine la presenta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Si comete un </a:t>
            </a:r>
            <a:r>
              <a:rPr b="1" lang="es-ES_tradnl" sz="2000" spc="-1" strike="noStrike">
                <a:solidFill>
                  <a:srgbClr val="ffff00"/>
                </a:solidFill>
                <a:latin typeface="Times New Roman"/>
              </a:rPr>
              <a:t>error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_tradnl" sz="2000" spc="-1" strike="noStrike">
                <a:solidFill>
                  <a:srgbClr val="ffff00"/>
                </a:solidFill>
                <a:latin typeface="Times New Roman"/>
              </a:rPr>
              <a:t>de saltarse una parte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es-ES_tradnl" sz="2000" spc="-1" strike="noStrike">
                <a:solidFill>
                  <a:srgbClr val="ffff00"/>
                </a:solidFill>
                <a:latin typeface="Times New Roman"/>
              </a:rPr>
              <a:t>no vuelva atrás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. Cuando hayan preguntas tendrá la oportunidad de exponer esos punt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2924280" y="1693800"/>
            <a:ext cx="3294000" cy="34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8163000" y="5057640"/>
          <a:ext cx="981000" cy="80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163000" y="5057640"/>
                    <a:ext cx="981000" cy="80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352440" y="85680"/>
            <a:ext cx="8420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Princi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6200000">
            <a:off x="3914640" y="-585720"/>
            <a:ext cx="1371600" cy="5715000"/>
          </a:xfrm>
          <a:prstGeom prst="can">
            <a:avLst>
              <a:gd name="adj" fmla="val 8106"/>
            </a:avLst>
          </a:prstGeom>
          <a:gradFill rotWithShape="0">
            <a:gsLst>
              <a:gs pos="0">
                <a:srgbClr val="001a00"/>
              </a:gs>
              <a:gs pos="50000">
                <a:srgbClr val="006600"/>
              </a:gs>
              <a:gs pos="100000">
                <a:srgbClr val="001a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rot="16200000">
            <a:off x="3436200" y="1678680"/>
            <a:ext cx="1185840" cy="1067040"/>
          </a:xfrm>
          <a:custGeom>
            <a:avLst/>
            <a:gdLst/>
            <a:ahLst/>
            <a:rect l="l" t="t" r="r" b="b"/>
            <a:pathLst>
              <a:path w="628" h="464">
                <a:moveTo>
                  <a:pt x="3" y="0"/>
                </a:moveTo>
                <a:lnTo>
                  <a:pt x="9" y="19"/>
                </a:lnTo>
                <a:lnTo>
                  <a:pt x="24" y="43"/>
                </a:lnTo>
                <a:lnTo>
                  <a:pt x="81" y="72"/>
                </a:lnTo>
                <a:lnTo>
                  <a:pt x="177" y="101"/>
                </a:lnTo>
                <a:lnTo>
                  <a:pt x="312" y="116"/>
                </a:lnTo>
                <a:lnTo>
                  <a:pt x="438" y="130"/>
                </a:lnTo>
                <a:lnTo>
                  <a:pt x="525" y="150"/>
                </a:lnTo>
                <a:lnTo>
                  <a:pt x="588" y="183"/>
                </a:lnTo>
                <a:lnTo>
                  <a:pt x="615" y="203"/>
                </a:lnTo>
                <a:lnTo>
                  <a:pt x="627" y="222"/>
                </a:lnTo>
                <a:lnTo>
                  <a:pt x="621" y="251"/>
                </a:lnTo>
                <a:lnTo>
                  <a:pt x="597" y="275"/>
                </a:lnTo>
                <a:lnTo>
                  <a:pt x="537" y="304"/>
                </a:lnTo>
                <a:lnTo>
                  <a:pt x="444" y="328"/>
                </a:lnTo>
                <a:lnTo>
                  <a:pt x="312" y="347"/>
                </a:lnTo>
                <a:lnTo>
                  <a:pt x="174" y="357"/>
                </a:lnTo>
                <a:lnTo>
                  <a:pt x="66" y="395"/>
                </a:lnTo>
                <a:lnTo>
                  <a:pt x="24" y="424"/>
                </a:lnTo>
                <a:lnTo>
                  <a:pt x="9" y="444"/>
                </a:lnTo>
                <a:lnTo>
                  <a:pt x="0" y="463"/>
                </a:lnTo>
                <a:lnTo>
                  <a:pt x="3" y="0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6200000">
            <a:off x="4482360" y="1886760"/>
            <a:ext cx="998640" cy="838080"/>
          </a:xfrm>
          <a:custGeom>
            <a:avLst/>
            <a:gdLst/>
            <a:ahLst/>
            <a:rect l="l" t="t" r="r" b="b"/>
            <a:pathLst>
              <a:path w="529" h="530">
                <a:moveTo>
                  <a:pt x="3" y="0"/>
                </a:moveTo>
                <a:lnTo>
                  <a:pt x="8" y="22"/>
                </a:lnTo>
                <a:lnTo>
                  <a:pt x="20" y="50"/>
                </a:lnTo>
                <a:lnTo>
                  <a:pt x="68" y="82"/>
                </a:lnTo>
                <a:lnTo>
                  <a:pt x="149" y="116"/>
                </a:lnTo>
                <a:lnTo>
                  <a:pt x="263" y="133"/>
                </a:lnTo>
                <a:lnTo>
                  <a:pt x="369" y="149"/>
                </a:lnTo>
                <a:lnTo>
                  <a:pt x="442" y="171"/>
                </a:lnTo>
                <a:lnTo>
                  <a:pt x="495" y="210"/>
                </a:lnTo>
                <a:lnTo>
                  <a:pt x="518" y="232"/>
                </a:lnTo>
                <a:lnTo>
                  <a:pt x="528" y="254"/>
                </a:lnTo>
                <a:lnTo>
                  <a:pt x="523" y="287"/>
                </a:lnTo>
                <a:lnTo>
                  <a:pt x="503" y="314"/>
                </a:lnTo>
                <a:lnTo>
                  <a:pt x="452" y="348"/>
                </a:lnTo>
                <a:lnTo>
                  <a:pt x="374" y="374"/>
                </a:lnTo>
                <a:lnTo>
                  <a:pt x="263" y="396"/>
                </a:lnTo>
                <a:lnTo>
                  <a:pt x="147" y="408"/>
                </a:lnTo>
                <a:lnTo>
                  <a:pt x="56" y="452"/>
                </a:lnTo>
                <a:lnTo>
                  <a:pt x="20" y="485"/>
                </a:lnTo>
                <a:lnTo>
                  <a:pt x="8" y="507"/>
                </a:lnTo>
                <a:lnTo>
                  <a:pt x="0" y="529"/>
                </a:lnTo>
                <a:lnTo>
                  <a:pt x="3" y="0"/>
                </a:lnTo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6600" y="1814400"/>
            <a:ext cx="1600200" cy="990720"/>
          </a:xfrm>
          <a:custGeom>
            <a:avLst/>
            <a:gdLst>
              <a:gd name="textAreaLeft" fmla="*/ 249840 w 1600200"/>
              <a:gd name="textAreaRight" fmla="*/ 1400400 w 1600200"/>
              <a:gd name="textAreaTop" fmla="*/ 247680 h 990720"/>
              <a:gd name="textAreaBottom" fmla="*/ 743040 h 990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Liquid fl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534440" y="1814400"/>
            <a:ext cx="1600200" cy="990720"/>
          </a:xfrm>
          <a:custGeom>
            <a:avLst/>
            <a:gdLst>
              <a:gd name="textAreaLeft" fmla="*/ 249840 w 1600200"/>
              <a:gd name="textAreaRight" fmla="*/ 1400400 w 1600200"/>
              <a:gd name="textAreaTop" fmla="*/ 247680 h 990720"/>
              <a:gd name="textAreaBottom" fmla="*/ 743040 h 990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12920" y="5022720"/>
            <a:ext cx="693720" cy="6922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774880" y="5022720"/>
            <a:ext cx="685800" cy="6858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12920" y="5022720"/>
            <a:ext cx="3047760" cy="685800"/>
          </a:xfrm>
          <a:prstGeom prst="roundRect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28480" y="5137200"/>
            <a:ext cx="458640" cy="460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2109145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21091450"/>
              </a:path>
            </a:pathLst>
          </a:custGeom>
          <a:noFill/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4880" y="531504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886120" y="5133960"/>
            <a:ext cx="460080" cy="460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2109145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21091450"/>
              </a:path>
            </a:pathLst>
          </a:custGeom>
          <a:noFill/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63960" y="531180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276640" y="3262320"/>
            <a:ext cx="4876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3724200" y="3110040"/>
            <a:ext cx="685800" cy="36504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4"/>
          <a:stretch/>
        </p:blipFill>
        <p:spPr>
          <a:xfrm>
            <a:off x="1176480" y="4657680"/>
            <a:ext cx="685800" cy="36504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 flipH="1">
            <a:off x="1479600" y="51753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174680" y="448956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014560" y="4489560"/>
            <a:ext cx="608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39240" y="3581280"/>
            <a:ext cx="307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Continuous op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146560" y="4994280"/>
            <a:ext cx="692280" cy="6922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508880" y="4994280"/>
            <a:ext cx="685800" cy="6858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146560" y="4994280"/>
            <a:ext cx="3048120" cy="685800"/>
          </a:xfrm>
          <a:prstGeom prst="roundRect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261040" y="5108400"/>
            <a:ext cx="460080" cy="460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2109145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21091450"/>
              </a:path>
            </a:pathLst>
          </a:custGeom>
          <a:noFill/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440320" y="5286240"/>
            <a:ext cx="8748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5105520"/>
            <a:ext cx="461520" cy="459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2109145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21091450"/>
              </a:path>
            </a:pathLst>
          </a:custGeom>
          <a:noFill/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797960" y="528336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6213240" y="51465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4343400" y="5334120"/>
          <a:ext cx="660240" cy="660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343400" y="5334120"/>
                    <a:ext cx="660240" cy="66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" name=""/>
          <p:cNvSpPr/>
          <p:nvPr/>
        </p:nvSpPr>
        <p:spPr>
          <a:xfrm>
            <a:off x="4876920" y="4800600"/>
            <a:ext cx="374400" cy="434880"/>
          </a:xfrm>
          <a:custGeom>
            <a:avLst/>
            <a:gdLst/>
            <a:ahLst/>
            <a:rect l="l" t="t" r="r" b="b"/>
            <a:pathLst>
              <a:path w="236" h="274">
                <a:moveTo>
                  <a:pt x="236" y="0"/>
                </a:moveTo>
                <a:cubicBezTo>
                  <a:pt x="211" y="14"/>
                  <a:pt x="116" y="35"/>
                  <a:pt x="77" y="81"/>
                </a:cubicBezTo>
                <a:cubicBezTo>
                  <a:pt x="38" y="127"/>
                  <a:pt x="16" y="234"/>
                  <a:pt x="0" y="27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952880" y="4952880"/>
            <a:ext cx="374760" cy="435240"/>
          </a:xfrm>
          <a:custGeom>
            <a:avLst/>
            <a:gdLst/>
            <a:ahLst/>
            <a:rect l="l" t="t" r="r" b="b"/>
            <a:pathLst>
              <a:path w="236" h="274">
                <a:moveTo>
                  <a:pt x="236" y="0"/>
                </a:moveTo>
                <a:cubicBezTo>
                  <a:pt x="211" y="14"/>
                  <a:pt x="116" y="35"/>
                  <a:pt x="77" y="81"/>
                </a:cubicBezTo>
                <a:cubicBezTo>
                  <a:pt x="38" y="127"/>
                  <a:pt x="16" y="234"/>
                  <a:pt x="0" y="27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rot="799200">
            <a:off x="8077320" y="4695840"/>
            <a:ext cx="664920" cy="355680"/>
          </a:xfrm>
          <a:custGeom>
            <a:avLst/>
            <a:gdLst/>
            <a:ahLst/>
            <a:rect l="l" t="t" r="r" b="b"/>
            <a:pathLst>
              <a:path w="960" h="496">
                <a:moveTo>
                  <a:pt x="0" y="0"/>
                </a:moveTo>
                <a:cubicBezTo>
                  <a:pt x="204" y="92"/>
                  <a:pt x="408" y="184"/>
                  <a:pt x="480" y="240"/>
                </a:cubicBezTo>
                <a:cubicBezTo>
                  <a:pt x="552" y="296"/>
                  <a:pt x="480" y="336"/>
                  <a:pt x="432" y="336"/>
                </a:cubicBezTo>
                <a:cubicBezTo>
                  <a:pt x="384" y="336"/>
                  <a:pt x="208" y="280"/>
                  <a:pt x="192" y="240"/>
                </a:cubicBezTo>
                <a:cubicBezTo>
                  <a:pt x="176" y="200"/>
                  <a:pt x="232" y="64"/>
                  <a:pt x="336" y="96"/>
                </a:cubicBezTo>
                <a:cubicBezTo>
                  <a:pt x="440" y="128"/>
                  <a:pt x="712" y="368"/>
                  <a:pt x="816" y="432"/>
                </a:cubicBezTo>
                <a:cubicBezTo>
                  <a:pt x="920" y="496"/>
                  <a:pt x="936" y="472"/>
                  <a:pt x="960" y="4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7"/>
          <a:stretch/>
        </p:blipFill>
        <p:spPr>
          <a:xfrm>
            <a:off x="4761000" y="3040200"/>
            <a:ext cx="1068480" cy="44136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8"/>
          <a:stretch/>
        </p:blipFill>
        <p:spPr>
          <a:xfrm>
            <a:off x="1933560" y="4600440"/>
            <a:ext cx="1068480" cy="4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0" y="228600"/>
            <a:ext cx="8991720" cy="67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Present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Tiempo:    La presentación </a:t>
            </a:r>
            <a:r>
              <a:rPr b="1" lang="es-ES" sz="2000" spc="-1" strike="noStrike" u="sng">
                <a:solidFill>
                  <a:srgbClr val="ffff00"/>
                </a:solidFill>
                <a:uFillTx/>
                <a:latin typeface="Comic Sans MS"/>
              </a:rPr>
              <a:t>NO DEBE DURAR MÁS DE 10 MINUTOS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              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Se cuenta con PC y Datash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La presentación se debe centrar en los siguientes punto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  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Titulo de la memoria y profesor guí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  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Introducción a la problemática a aborda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  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Objetivo general de la memori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  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Metodología que se aplicará para lograr el objetiv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  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Carta Gantt de la actividades a realizar durante el BT-IQ 69E (Recuerde que se deben considerar  las  4UD del curso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   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Resultados esperad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457200" y="457200"/>
            <a:ext cx="8229600" cy="59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Puntos a Considerar en una present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ENTREGUE MATERIAL DE LA PRESENTACIÓN A LA AUDIENCI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Para 10 minutos de presentación no se deben presentar más de </a:t>
            </a:r>
            <a:r>
              <a:rPr b="1" lang="es-ES" sz="2000" spc="-1" strike="noStrike" u="sng">
                <a:solidFill>
                  <a:srgbClr val="ffff00"/>
                </a:solidFill>
                <a:uFillTx/>
                <a:latin typeface="Comic Sans MS"/>
              </a:rPr>
              <a:t>7 TRANSPARENCIA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En el caso dar animación a la presentación siempre controle el tiemp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Lo que se escribe en las transparencias debe poder ser leído por el públic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En su presentación intente no leer lo que está en las transparencias, sino comentarla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Al exponer diríjase siempre hacia la audienci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SIEMPRE ENSAYE PREVIAMENTE SU EXPOSICIÓN.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457200" y="152280"/>
            <a:ext cx="8229600" cy="708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00"/>
                </a:solidFill>
                <a:uFillTx/>
                <a:latin typeface="Comic Sans MS"/>
              </a:rPr>
              <a:t>Programación de Presenta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Jueves 28 de Septiembre 16:15  Sala B1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BT69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BRUSADELLI ACUÑA, PAULINA</a:t>
            </a:r>
            <a:br>
              <a:rPr sz="2000"/>
            </a:b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Prof Guía: Blanca Escob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CORTES MARIN, LUIS MARCELO </a:t>
            </a:r>
            <a:br>
              <a:rPr sz="2000"/>
            </a:b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Prof Guía: Leandro Herre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OYANADEL MARTINEZ, GERMAN ENRI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Prof Guía: Blanca Escobar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PEÑA NUÑEZ, YORDI AND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Prof Guía: Jesús Casas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457200" y="152280"/>
            <a:ext cx="8229600" cy="89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00"/>
                </a:solidFill>
                <a:uFillTx/>
                <a:latin typeface="Comic Sans MS"/>
              </a:rPr>
              <a:t>Programación de Presenta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Jueves 5 de Octubre 16:1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IQ 69E Sala B1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DIAZ ROZAS, PATRICIA CAROLIN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Prof Guía: Tomas Varg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ESCOBAR GUTIERREZ, KARLA FABIOL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MARTINEZ SAPERAS, VERONICA MARIA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Prof Guia: Leandro Herrera</a:t>
            </a:r>
            <a:br>
              <a:rPr sz="24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ffff00"/>
                </a:solidFill>
                <a:uFillTx/>
                <a:latin typeface="Comic Sans MS"/>
              </a:rPr>
              <a:t>LA ASISTENCIA ES OBLIGATORIA A TODAS LAS PRESENT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ffff00"/>
                </a:solidFill>
                <a:uFillTx/>
                <a:latin typeface="Comic Sans MS"/>
              </a:rPr>
              <a:t>Avisar a los profesores guí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2521080" y="1752480"/>
            <a:ext cx="44053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533520" y="0"/>
            <a:ext cx="8381880" cy="85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echas Importante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06.10.2006: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32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Vence el plazo para solicitar cambio al 69H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Son aceptables quienes cumplen alguna de las condiciones siguient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   </a:t>
            </a:r>
            <a:r>
              <a:rPr b="0" lang="es-E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No haber reprobado ninguna asignatura desde que ingresaron a la Faculta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   </a:t>
            </a:r>
            <a:r>
              <a:rPr b="0" lang="es-E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Haber reprobado muy pocas asignaturas pero tener inscrito el curso XX69E en su undécimo semestre de permanencia en la     Faculta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   </a:t>
            </a:r>
            <a:r>
              <a:rPr b="0" lang="es-E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Haber figurado en los dos años anteriores al que se inscribe el XX69E, en la Lista de Alumnos Destacados de la Escuel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                                                                                                                                              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33520" y="0"/>
            <a:ext cx="8381880" cy="81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Ventajas del IQ-BT 69H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alculo Nota Final  IQ-BT69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F = 2/3 Nota Carrera + 1/3 Nota Exam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alculo Nota Final  IQ-BT69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F = ½ Nota Carrera + ½  Nota Exam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i la Nota de Examen  &gt;&gt; 5.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F = Nota Exam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                                                                                                                                           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auta para</a:t>
            </a:r>
            <a:br>
              <a:rPr sz="4400"/>
            </a:br>
            <a:br>
              <a:rPr sz="4400"/>
            </a:br>
            <a:r>
              <a:rPr b="1" lang="es-E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E</a:t>
            </a:r>
            <a:r>
              <a:rPr b="1" lang="es-ES_tradnl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ENTACIONES ORALES</a:t>
            </a:r>
            <a:br>
              <a:rPr sz="4400"/>
            </a:br>
            <a:r>
              <a:rPr b="1" lang="es-ES_tradnl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14400" y="4757760"/>
            <a:ext cx="72388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Dpto. Ingeniería Quím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Universidad de  Ch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09480" y="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Temar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1752480"/>
            <a:ext cx="777240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00"/>
                </a:solidFill>
                <a:latin typeface="Arial Unicode MS"/>
              </a:rPr>
              <a:t>Estructura de una Presentació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Contenidos de la Presenta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Justificación de la Presentacion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Claves para una buena Presenta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Times New Roman"/>
              </a:rPr>
              <a:t>Estructura de una Presentación Or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529920" indent="-529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ítulo y datos de los auto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9920" indent="-529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enido de la presentació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9920" indent="-529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finición del problema y su solución- el marco gene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9920" indent="-529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sultados del Estud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9920" indent="-529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sultados y su Discus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9920" indent="-529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clus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9920" indent="-529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comendaciones del estud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¿  Por qué Presentaciones Orales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La comunicación oral es crucial en las actividades de la ingenierí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Cuando se hace bien, se puede comunicar  resultados e ideas más rápidos que en el lenguaje escrit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6934320" y="4800600"/>
            <a:ext cx="1720800" cy="17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Times New Roman"/>
              </a:rPr>
              <a:t>Objetivos de las Presentación Or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905120"/>
            <a:ext cx="8077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Señalar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a la audiencia cuáles son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los resultados más importante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y las conclusione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en el contexto general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Presentar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los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detalles del trabajo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de modo de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convencer a la audiencia de la validez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de sus resultados y recomendacion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Mostrar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a la audiencia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los planes de acciones a seguir,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basados en sus resultados y conclusion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838080" y="3581280"/>
            <a:ext cx="7848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8080" y="5105520"/>
            <a:ext cx="73915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21T21:44:03Z</dcterms:created>
  <dc:creator>Ignacio Badilla</dc:creator>
  <dc:description/>
  <dc:language>en-US</dc:language>
  <cp:lastModifiedBy>Ing Quimica</cp:lastModifiedBy>
  <dcterms:modified xsi:type="dcterms:W3CDTF">2006-09-12T21:42:10Z</dcterms:modified>
  <cp:revision>74</cp:revision>
  <dc:subject/>
  <dc:title>El ingeniero, etica y sociedad</dc:title>
</cp:coreProperties>
</file>