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5074-9004-4B13-B76F-E03B29F2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DCEF-8695-4C8C-840F-60339D93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6CB1-6E63-49BB-934F-5171F23B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F16-E18A-41B7-9986-A219CBBA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9580-B38D-4877-B369-DC2DB0F3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1919-EA46-4480-9720-32D2FAA8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BC27-B682-461C-B7DA-08FC4B4C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F2C9-4C55-4578-B3D3-65E08CBE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4597-2791-4D87-8CA4-2F79F5CD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45DF-5F78-4480-A711-15F82B65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45FA-A2EF-49DE-B482-E29C08E6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A63A-4CA2-4C5A-9DD8-064E3CF2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E1E1-CE70-4B43-8C5F-B245CF3CE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ción al Trabajo de Título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T-IQ 69E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4 UD</a:t>
            </a:r>
            <a:br>
              <a:rPr sz="4400"/>
            </a:br>
            <a:r>
              <a:rPr b="1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tamarugo.cec.uchile.cl/~btcursos/titulo/index_E.html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 y Bio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457200"/>
            <a:ext cx="822960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untos a Considerar en un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TREGUE MATERIAL DE LA PRESENTACIÓN A LA AUDI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ra 10 minutos de presentación no se deben presentar más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7 TRANSPARENCI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el caso dar animación a la presentación siempre control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o que se escribe en las transparencias debe poder ser leído por el públ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su presentación intente no leer lo que está en las transparencias, sino comentar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 exponer diríjase siempre hacia la audi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IEMPRE ENSAYE PREVIAMENTE SU EXPOSICIÓN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52280"/>
            <a:ext cx="8229600" cy="72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8 de Septiembre 14:3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T69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RUSADELLI ACUÑA, PAU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MARIN, LUIS MARCE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YANADEL MARTINEZ, GERMAN ENRIQU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52280"/>
            <a:ext cx="8229600" cy="72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5 de Octubre 14: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Q 69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AZ ROZAS, PATRICIA CAROLI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COBAR GUTIERREZ, KARLA FABIO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TINEZ SAPERAS, VERONICA MARI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731880"/>
            <a:ext cx="82296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ben inscribir el curso 69E en las dos especialidad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     BT69E e IQ69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ro sólo deben inscribir un solo 69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BT69 F  o IQ 69F o IN69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228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2 car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731880"/>
            <a:ext cx="8229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 DEBEN  inscribir los cursos 69E ni 69F, éstos se convalidarán automáticamente con los Talleres de Titulo del Ma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Magis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731880"/>
            <a:ext cx="82296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alum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.No haber reprobado ninguna asignatura desde que ingresaron a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.Haber reprobado muy pocas asignaturas pero tener inscrito el curso XX69E en su undécimo semestre de permanencia en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.Haber figurado en los dos años anteriores al que se inscribe el XX69E, en la Lista de Alumnos Destacados de la Escuel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 informe del Profesor Guía debe explicar por qué el tema califica al tratarse de un trabajo experimental, profesionalmente innovativo o de investigación. De manera concisa pero clara hay que describir cómo el tema se inscribe en una de estas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457200"/>
            <a:ext cx="822960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al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50%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 + 50% Nota de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7e8f9"/>
                </a:solidFill>
                <a:latin typeface="Comic Sans MS"/>
                <a:ea typeface="Times New Roman"/>
              </a:rPr>
              <a:t>Si la de presentación es igual o superior a 5,5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la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Comisión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María Elena Lienqu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Juan Asen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Ziomara Gerdtzen (B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Francisco Gracia (I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aficas</a:t>
            </a: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8/9 (7 semana)</a:t>
            </a:r>
            <a:br>
              <a:rPr sz="32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la selección del Tema y Prof. Guía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 formulario disponible en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marugo.cec.uchile.cl/~btcursos/titulo/index_E.html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/9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sobre presentaciones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/9-5/1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de tema seleccionado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Taller sobre preparación de entrevistas y CVs.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9/9 (10 semana)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licitud de Cambio al 69H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 semestre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 exámenes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95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EMA PROPUESTOS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 Guía: Jesus Casas (email jecasas@ing.uchile.cl)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rminación de la especiación del hierro en soluciones procedentes de circuitos hidrometalúrgicos mediante experimentación y la aplicación de modelos geoquímicos.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udio del proceso de precipitación hidrotermal del hierro a escala de laboratorio. Análisis de experimentos y formulación de modelos fenomenológicos. </a:t>
            </a:r>
            <a:br>
              <a:rPr sz="2000"/>
            </a:b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 Guía: Luis Cifuentes(Dpto. Ingeniería de Minas)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udio de la obtencion de molibdeno metalico por deposicion con Fe, Co o Ni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Estudio de la cementacion de molibdeno sobre Fe o Zn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Separación de Mo, a partir de electrolitos que lo contienen, mediante electro diálisis.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arrollo de modelos matematicos (2-D y 3-D) de procesos electro metalurgicos por medio del software FEMLAB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 Guía: Tomas Vargas V.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ol de aditivos en la electrocristalización de cobre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Cinética de disolución de minerales oxidados de cobre con soluciones lixiviantes con alta concentración iónica.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Influencia de la concentración iónica de soluciones lixiviantes sobre la eficiencia de la extracción por solventes de cobre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Determinación de la actividad catalítica de bacterias en circuitos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 lixiviación industrial mediante métodos biooelectroquímicos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Lixiviación bacteriana de minerales sulfurados de cobre con bacterias termófilas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 Guía: Leandro Herrera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rol automático de una Planta de Tratamiento de Aguas Servidas de escala mediana (15 L/s). Implica programación de OPTO22 y análisis de cerradura de lazos ON/OFF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Energías alternativas: Producción solar de hidrógeno. Implica diseño mecánico y evaluación de factibilidad técnica elemental.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Producción biológica industrial de ácido sulfhídrico a partir de azufre elemental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Corrosión bacteriana (quìmica, física y electroquímica) de ducterías industrial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 Guía: Francisco Gracia </a:t>
            </a:r>
            <a:br>
              <a:rPr sz="2400"/>
            </a:br>
            <a:br>
              <a:rPr sz="24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udio de catalizadores de cobre y niquel para la producción de hidrógeno y su uso en celdas de combustible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a Guía: Blanca Escobar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os alternativos del Cobre 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a Guía: Oriana Salazar-M.Elena Lienqueo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fecto de la adición de extremos polipeptídicos en el comportamiento cromatográfico de las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IByB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igirse a página web del CIByB (www.cibyb.uchile.cl) y que  conversar con los Profesores del CIByB para ver la posibilidad de realizar su Memoria en temas de Biotecnología y de acuerdo a los intereses de los estudiantes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atricio Jorquera (IDIEM)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udio de correlación de viscosidad del asfalto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TROS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ben presentar el tema a evaluación de la comisión de titulación del DIQBT</a:t>
            </a:r>
            <a:br>
              <a:rPr sz="20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ción al Trabajo de Títu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600200"/>
            <a:ext cx="205740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Selección Prof Guía y 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2819520"/>
            <a:ext cx="205740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ntrega a la co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114800"/>
            <a:ext cx="205740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Presentación del 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334120"/>
            <a:ext cx="205740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Búsqueda Bibli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5562720"/>
            <a:ext cx="2057400" cy="1015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valu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 o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3505320"/>
            <a:ext cx="205740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BT-IQ 69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24382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37339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49528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190512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5000" y="1981080"/>
            <a:ext cx="152280" cy="10670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3048120"/>
            <a:ext cx="8380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2057400"/>
            <a:ext cx="221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Modif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O Rech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571500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03640" y="6035760"/>
            <a:ext cx="233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Informe al Profesor Gu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3657600"/>
            <a:ext cx="1524240" cy="304920"/>
          </a:xfrm>
          <a:prstGeom prst="rightArrow">
            <a:avLst>
              <a:gd name="adj1" fmla="val 50000"/>
              <a:gd name="adj2" fmla="val 12497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4191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Solicitud de 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8954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7 se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267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10 se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28600"/>
            <a:ext cx="899172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empo:    La presentación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NO DEBE DURAR MÁS DE 10 MINUT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 cuenta con PC y Data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a presentación se debe centrar en los siguientes pun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tulo de la memoria y profesor gu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ntroducción a la problemática a abord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bjetivo general de la memo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todología que se aplicará para lograr el obje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ta Gantt de la actividades a realizar durante el BT-IQ 69E (Recuerde que se deben considerar  las  4UD del cur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sultados esper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07-26T16:02:02Z</dcterms:modified>
  <cp:revision>109</cp:revision>
  <dc:subject/>
  <dc:title>El ingeniero, etica y sociedad</dc:title>
</cp:coreProperties>
</file>